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30EB-C8FA-4FCA-AC78-3945BD27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F730-5CBF-44BC-B200-847DAA8F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BA53-3402-4B39-ACB9-EC5FBBA1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DA4A-DD0A-43B2-8992-0C0EC4947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39A7-E0BD-49B4-B0EE-1835D98C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8DFC-157B-4409-88D1-02996070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031D-9F7A-4211-B8D7-7B195F9E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4070-974E-401B-9421-A15C21F0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2254-4652-4D53-A6F8-CAA98F46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C6AD-19A5-44A9-A71E-3CE65DC3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05A7-8B67-4F48-9708-61D8A5AB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307F-DCDB-4E2F-93CC-2A9FD19A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6503-8326-435B-B4BA-0E7B0396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17B4-CFEE-49BA-9289-C9919B8D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574F-186D-431C-AAF6-DC6A8B44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9CFB-9B77-4257-9481-B2E83FAA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BC34-43FD-4196-9DC5-3181582B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7A52-02D7-45D4-93DC-9145BB67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EC2D-B4D4-465B-A72D-C906B29C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683F-7C64-4C26-8204-9C0D963D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2709-48D1-4C9A-841F-6272CFDC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372E-8EED-4588-A68F-CDFF801B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2B21-160C-43BC-9343-EC10BEA5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C188-F692-4899-878C-5045C6E8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101B-DDCC-4A86-AEB8-9334B696A5C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72E9-5FF6-4895-BABC-3FD5D99A1E0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Warm – up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MSA Review Day 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mework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W 149 &amp; 151 odd on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776840" y="2938320"/>
            <a:ext cx="1457280" cy="241560"/>
          </a:xfrm>
          <a:custGeom>
            <a:avLst/>
            <a:gdLst/>
            <a:ahLst/>
            <a:rect l="l" t="t" r="r" b="b"/>
            <a:pathLst>
              <a:path w="4044" h="670">
                <a:moveTo>
                  <a:pt x="13271" y="8657"/>
                </a:moveTo>
                <a:cubicBezTo>
                  <a:pt x="13554" y="8600"/>
                  <a:pt x="13671" y="8573"/>
                  <a:pt x="13866" y="8508"/>
                </a:cubicBezTo>
              </a:path>
              <a:path w="4044" h="670">
                <a:moveTo>
                  <a:pt x="15131" y="8830"/>
                </a:moveTo>
                <a:lnTo>
                  <a:pt x="15131" y="8830"/>
                </a:lnTo>
                <a:lnTo>
                  <a:pt x="15131" y="8830"/>
                </a:lnTo>
              </a:path>
              <a:path w="4044" h="670">
                <a:moveTo>
                  <a:pt x="16793" y="8161"/>
                </a:moveTo>
                <a:cubicBezTo>
                  <a:pt x="16798" y="8329"/>
                  <a:pt x="16794" y="8449"/>
                  <a:pt x="16842" y="8607"/>
                </a:cubicBezTo>
              </a:path>
              <a:path w="4044" h="670">
                <a:moveTo>
                  <a:pt x="17041" y="8186"/>
                </a:moveTo>
                <a:cubicBezTo>
                  <a:pt x="17086" y="8329"/>
                  <a:pt x="17122" y="8417"/>
                  <a:pt x="17140" y="8558"/>
                </a:cubicBezTo>
              </a:path>
              <a:path w="4044" h="670">
                <a:moveTo>
                  <a:pt x="16694" y="8434"/>
                </a:moveTo>
                <a:cubicBezTo>
                  <a:pt x="16983" y="8389"/>
                  <a:pt x="17056" y="8376"/>
                  <a:pt x="17239" y="8359"/>
                </a:cubicBezTo>
              </a:path>
              <a:path w="4044" h="670">
                <a:moveTo>
                  <a:pt x="16743" y="8632"/>
                </a:moveTo>
                <a:cubicBezTo>
                  <a:pt x="17033" y="8560"/>
                  <a:pt x="17125" y="8537"/>
                  <a:pt x="17314" y="8483"/>
                </a:cubicBezTo>
              </a:path>
              <a:path w="4044" h="670">
                <a:moveTo>
                  <a:pt x="17314" y="8483"/>
                </a:moveTo>
                <a:lnTo>
                  <a:pt x="17314" y="8483"/>
                </a:ln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63880" y="2874960"/>
            <a:ext cx="358920" cy="312840"/>
          </a:xfrm>
          <a:custGeom>
            <a:avLst/>
            <a:gdLst/>
            <a:ahLst/>
            <a:rect l="l" t="t" r="r" b="b"/>
            <a:pathLst>
              <a:path w="993" h="869">
                <a:moveTo>
                  <a:pt x="8235" y="7987"/>
                </a:moveTo>
                <a:cubicBezTo>
                  <a:pt x="8235" y="8149"/>
                  <a:pt x="8195" y="8341"/>
                  <a:pt x="8285" y="8483"/>
                </a:cubicBezTo>
                <a:cubicBezTo>
                  <a:pt x="8392" y="8651"/>
                  <a:pt x="8631" y="8579"/>
                  <a:pt x="8781" y="8533"/>
                </a:cubicBezTo>
                <a:cubicBezTo>
                  <a:pt x="8858" y="8509"/>
                  <a:pt x="8923" y="8451"/>
                  <a:pt x="8954" y="8483"/>
                </a:cubicBezTo>
              </a:path>
              <a:path w="993" h="869">
                <a:moveTo>
                  <a:pt x="8830" y="8210"/>
                </a:moveTo>
                <a:cubicBezTo>
                  <a:pt x="8873" y="8296"/>
                  <a:pt x="8988" y="8339"/>
                  <a:pt x="9079" y="8384"/>
                </a:cubicBezTo>
                <a:cubicBezTo>
                  <a:pt x="9138" y="8413"/>
                  <a:pt x="9288" y="8451"/>
                  <a:pt x="9227" y="8558"/>
                </a:cubicBezTo>
                <a:cubicBezTo>
                  <a:pt x="9151" y="8691"/>
                  <a:pt x="8981" y="8727"/>
                  <a:pt x="8930" y="885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527280" y="2982960"/>
            <a:ext cx="438120" cy="347760"/>
          </a:xfrm>
          <a:custGeom>
            <a:avLst/>
            <a:gdLst/>
            <a:ahLst/>
            <a:rect l="l" t="t" r="r" b="b"/>
            <a:pathLst>
              <a:path w="1216" h="968">
                <a:moveTo>
                  <a:pt x="10393" y="8781"/>
                </a:moveTo>
                <a:cubicBezTo>
                  <a:pt x="10357" y="8672"/>
                  <a:pt x="10146" y="8667"/>
                  <a:pt x="10046" y="8706"/>
                </a:cubicBezTo>
                <a:cubicBezTo>
                  <a:pt x="9785" y="8808"/>
                  <a:pt x="9823" y="8984"/>
                  <a:pt x="9823" y="9203"/>
                </a:cubicBezTo>
                <a:cubicBezTo>
                  <a:pt x="10087" y="9225"/>
                  <a:pt x="10075" y="9191"/>
                  <a:pt x="10244" y="8979"/>
                </a:cubicBezTo>
              </a:path>
              <a:path w="1216" h="968">
                <a:moveTo>
                  <a:pt x="10096" y="8285"/>
                </a:moveTo>
                <a:cubicBezTo>
                  <a:pt x="10199" y="8587"/>
                  <a:pt x="10245" y="8904"/>
                  <a:pt x="10344" y="9203"/>
                </a:cubicBezTo>
                <a:cubicBezTo>
                  <a:pt x="10352" y="9211"/>
                  <a:pt x="10360" y="9219"/>
                  <a:pt x="10368" y="9227"/>
                </a:cubicBezTo>
              </a:path>
              <a:path w="1216" h="968">
                <a:moveTo>
                  <a:pt x="10815" y="8682"/>
                </a:moveTo>
                <a:cubicBezTo>
                  <a:pt x="10646" y="8906"/>
                  <a:pt x="10581" y="9026"/>
                  <a:pt x="10740" y="9252"/>
                </a:cubicBezTo>
                <a:cubicBezTo>
                  <a:pt x="10920" y="9182"/>
                  <a:pt x="11190" y="9010"/>
                  <a:pt x="10914" y="8806"/>
                </a:cubicBezTo>
                <a:cubicBezTo>
                  <a:pt x="10803" y="8769"/>
                  <a:pt x="10783" y="8724"/>
                  <a:pt x="10740" y="878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367160" y="2963880"/>
            <a:ext cx="650880" cy="366840"/>
          </a:xfrm>
          <a:custGeom>
            <a:avLst/>
            <a:gdLst/>
            <a:ahLst/>
            <a:rect l="l" t="t" r="r" b="b"/>
            <a:pathLst>
              <a:path w="1812" h="1018">
                <a:moveTo>
                  <a:pt x="12129" y="8930"/>
                </a:moveTo>
                <a:cubicBezTo>
                  <a:pt x="12174" y="9086"/>
                  <a:pt x="12187" y="9126"/>
                  <a:pt x="12204" y="9227"/>
                </a:cubicBezTo>
                <a:cubicBezTo>
                  <a:pt x="12150" y="9284"/>
                  <a:pt x="12163" y="8877"/>
                  <a:pt x="12179" y="8830"/>
                </a:cubicBezTo>
                <a:cubicBezTo>
                  <a:pt x="12304" y="8458"/>
                  <a:pt x="12640" y="8923"/>
                  <a:pt x="12700" y="9079"/>
                </a:cubicBezTo>
                <a:cubicBezTo>
                  <a:pt x="12700" y="9153"/>
                  <a:pt x="12700" y="9211"/>
                  <a:pt x="12700" y="9153"/>
                </a:cubicBezTo>
              </a:path>
              <a:path w="1812" h="1018">
                <a:moveTo>
                  <a:pt x="12948" y="8682"/>
                </a:moveTo>
                <a:cubicBezTo>
                  <a:pt x="12836" y="8923"/>
                  <a:pt x="12827" y="8920"/>
                  <a:pt x="12948" y="9153"/>
                </a:cubicBezTo>
                <a:cubicBezTo>
                  <a:pt x="13130" y="9106"/>
                  <a:pt x="13535" y="8904"/>
                  <a:pt x="13146" y="8731"/>
                </a:cubicBezTo>
                <a:cubicBezTo>
                  <a:pt x="13039" y="8731"/>
                  <a:pt x="12990" y="8772"/>
                  <a:pt x="12998" y="8706"/>
                </a:cubicBezTo>
              </a:path>
              <a:path w="1812" h="1018">
                <a:moveTo>
                  <a:pt x="13469" y="8235"/>
                </a:moveTo>
                <a:cubicBezTo>
                  <a:pt x="13534" y="8544"/>
                  <a:pt x="13593" y="8854"/>
                  <a:pt x="13692" y="9153"/>
                </a:cubicBezTo>
                <a:cubicBezTo>
                  <a:pt x="13859" y="9115"/>
                  <a:pt x="13845" y="9085"/>
                  <a:pt x="13940" y="8930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268960" y="2982960"/>
            <a:ext cx="401760" cy="312840"/>
          </a:xfrm>
          <a:custGeom>
            <a:avLst/>
            <a:gdLst/>
            <a:ahLst/>
            <a:rect l="l" t="t" r="r" b="b"/>
            <a:pathLst>
              <a:path w="1117" h="869">
                <a:moveTo>
                  <a:pt x="15131" y="8781"/>
                </a:moveTo>
                <a:cubicBezTo>
                  <a:pt x="15109" y="8669"/>
                  <a:pt x="14960" y="8533"/>
                  <a:pt x="14833" y="8607"/>
                </a:cubicBezTo>
                <a:cubicBezTo>
                  <a:pt x="14590" y="8749"/>
                  <a:pt x="14655" y="8958"/>
                  <a:pt x="14709" y="9153"/>
                </a:cubicBezTo>
                <a:cubicBezTo>
                  <a:pt x="15067" y="9048"/>
                  <a:pt x="15136" y="8802"/>
                  <a:pt x="14982" y="8434"/>
                </a:cubicBezTo>
                <a:cubicBezTo>
                  <a:pt x="14949" y="8393"/>
                  <a:pt x="14916" y="8351"/>
                  <a:pt x="14883" y="8310"/>
                </a:cubicBezTo>
                <a:cubicBezTo>
                  <a:pt x="14970" y="8352"/>
                  <a:pt x="15087" y="8772"/>
                  <a:pt x="15131" y="8930"/>
                </a:cubicBezTo>
                <a:cubicBezTo>
                  <a:pt x="15151" y="9031"/>
                  <a:pt x="15138" y="9083"/>
                  <a:pt x="15205" y="9029"/>
                </a:cubicBezTo>
              </a:path>
              <a:path w="1117" h="869">
                <a:moveTo>
                  <a:pt x="15503" y="8632"/>
                </a:moveTo>
                <a:cubicBezTo>
                  <a:pt x="15407" y="8781"/>
                  <a:pt x="15396" y="8851"/>
                  <a:pt x="15404" y="9029"/>
                </a:cubicBezTo>
                <a:cubicBezTo>
                  <a:pt x="15546" y="9029"/>
                  <a:pt x="15999" y="8883"/>
                  <a:pt x="15652" y="8682"/>
                </a:cubicBezTo>
                <a:cubicBezTo>
                  <a:pt x="15487" y="8661"/>
                  <a:pt x="15454" y="8653"/>
                  <a:pt x="15354" y="8657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340320" y="2963880"/>
            <a:ext cx="187560" cy="295200"/>
          </a:xfrm>
          <a:custGeom>
            <a:avLst/>
            <a:gdLst/>
            <a:ahLst/>
            <a:rect l="l" t="t" r="r" b="b"/>
            <a:pathLst>
              <a:path w="522" h="820">
                <a:moveTo>
                  <a:pt x="18107" y="8334"/>
                </a:moveTo>
                <a:cubicBezTo>
                  <a:pt x="18057" y="8135"/>
                  <a:pt x="17822" y="8248"/>
                  <a:pt x="17711" y="8359"/>
                </a:cubicBezTo>
                <a:cubicBezTo>
                  <a:pt x="17623" y="8512"/>
                  <a:pt x="17585" y="8545"/>
                  <a:pt x="17636" y="8657"/>
                </a:cubicBezTo>
                <a:cubicBezTo>
                  <a:pt x="17891" y="8618"/>
                  <a:pt x="18000" y="8602"/>
                  <a:pt x="18083" y="8334"/>
                </a:cubicBezTo>
                <a:cubicBezTo>
                  <a:pt x="18108" y="8541"/>
                  <a:pt x="18128" y="8744"/>
                  <a:pt x="18132" y="8954"/>
                </a:cubicBezTo>
                <a:cubicBezTo>
                  <a:pt x="18132" y="8987"/>
                  <a:pt x="18132" y="9021"/>
                  <a:pt x="18132" y="905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303720" y="2786040"/>
            <a:ext cx="590400" cy="142920"/>
          </a:xfrm>
          <a:custGeom>
            <a:avLst/>
            <a:gdLst/>
            <a:ahLst/>
            <a:rect l="l" t="t" r="r" b="b"/>
            <a:pathLst>
              <a:path w="1638" h="398">
                <a:moveTo>
                  <a:pt x="9252" y="7813"/>
                </a:moveTo>
                <a:cubicBezTo>
                  <a:pt x="9506" y="7813"/>
                  <a:pt x="9767" y="7801"/>
                  <a:pt x="10021" y="7789"/>
                </a:cubicBezTo>
                <a:cubicBezTo>
                  <a:pt x="10286" y="7776"/>
                  <a:pt x="10550" y="7748"/>
                  <a:pt x="10815" y="7739"/>
                </a:cubicBezTo>
              </a:path>
              <a:path w="1638" h="398">
                <a:moveTo>
                  <a:pt x="9203" y="8012"/>
                </a:moveTo>
                <a:cubicBezTo>
                  <a:pt x="9551" y="7992"/>
                  <a:pt x="9896" y="7939"/>
                  <a:pt x="10244" y="7913"/>
                </a:cubicBezTo>
                <a:cubicBezTo>
                  <a:pt x="10434" y="7899"/>
                  <a:pt x="10526" y="7888"/>
                  <a:pt x="10716" y="7888"/>
                </a:cubicBezTo>
              </a:path>
              <a:path w="1638" h="398">
                <a:moveTo>
                  <a:pt x="9178" y="8086"/>
                </a:moveTo>
                <a:cubicBezTo>
                  <a:pt x="9455" y="8198"/>
                  <a:pt x="9857" y="8098"/>
                  <a:pt x="10145" y="8062"/>
                </a:cubicBezTo>
                <a:cubicBezTo>
                  <a:pt x="10326" y="8040"/>
                  <a:pt x="10509" y="8005"/>
                  <a:pt x="10691" y="7987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mic Sans MS"/>
              </a:rPr>
              <a:t>Unit 7: Measuremen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Objective: Students will find the area of polygons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Objective: Determine the area of a polygon.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Reminder: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rea of a rectangle = Length x widt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Area of a parallelogram: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Area = base x height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A =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3962520"/>
            <a:ext cx="3200400" cy="1828800"/>
          </a:xfrm>
          <a:prstGeom prst="parallelogram">
            <a:avLst>
              <a:gd name="adj" fmla="val 61177"/>
            </a:avLst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48520" y="3962520"/>
            <a:ext cx="0" cy="18288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5410080"/>
            <a:ext cx="3808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29400" y="5410080"/>
            <a:ext cx="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4495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2m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43600" y="5867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5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32800" y="3036960"/>
            <a:ext cx="117360" cy="27000"/>
          </a:xfrm>
          <a:custGeom>
            <a:avLst/>
            <a:gdLst/>
            <a:ahLst/>
            <a:rect l="l" t="t" r="r" b="b"/>
            <a:pathLst>
              <a:path w="323" h="75">
                <a:moveTo>
                  <a:pt x="21481" y="8508"/>
                </a:moveTo>
                <a:cubicBezTo>
                  <a:pt x="21597" y="8467"/>
                  <a:pt x="21681" y="8442"/>
                  <a:pt x="21803" y="843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54920" y="2874960"/>
            <a:ext cx="1571400" cy="608040"/>
          </a:xfrm>
          <a:custGeom>
            <a:avLst/>
            <a:gdLst/>
            <a:ahLst/>
            <a:rect l="l" t="t" r="r" b="b"/>
            <a:pathLst>
              <a:path w="4366" h="1688">
                <a:moveTo>
                  <a:pt x="19968" y="8334"/>
                </a:moveTo>
                <a:cubicBezTo>
                  <a:pt x="19887" y="8660"/>
                  <a:pt x="19771" y="8927"/>
                  <a:pt x="19621" y="9227"/>
                </a:cubicBezTo>
                <a:cubicBezTo>
                  <a:pt x="19613" y="9244"/>
                  <a:pt x="19604" y="9260"/>
                  <a:pt x="19596" y="9277"/>
                </a:cubicBezTo>
                <a:cubicBezTo>
                  <a:pt x="19729" y="8907"/>
                  <a:pt x="19877" y="8541"/>
                  <a:pt x="20092" y="8210"/>
                </a:cubicBezTo>
                <a:cubicBezTo>
                  <a:pt x="20193" y="8054"/>
                  <a:pt x="20223" y="7944"/>
                  <a:pt x="20315" y="8037"/>
                </a:cubicBezTo>
                <a:cubicBezTo>
                  <a:pt x="20364" y="8443"/>
                  <a:pt x="20305" y="8799"/>
                  <a:pt x="20265" y="9203"/>
                </a:cubicBezTo>
                <a:cubicBezTo>
                  <a:pt x="20265" y="9318"/>
                  <a:pt x="20265" y="9335"/>
                  <a:pt x="20265" y="9401"/>
                </a:cubicBezTo>
              </a:path>
              <a:path w="4366" h="1688">
                <a:moveTo>
                  <a:pt x="19769" y="8954"/>
                </a:moveTo>
                <a:cubicBezTo>
                  <a:pt x="19869" y="8943"/>
                  <a:pt x="20214" y="8870"/>
                  <a:pt x="20265" y="8905"/>
                </a:cubicBezTo>
              </a:path>
              <a:path w="4366" h="1688">
                <a:moveTo>
                  <a:pt x="20613" y="9203"/>
                </a:moveTo>
                <a:cubicBezTo>
                  <a:pt x="20613" y="9336"/>
                  <a:pt x="20592" y="9466"/>
                  <a:pt x="20588" y="9599"/>
                </a:cubicBezTo>
                <a:cubicBezTo>
                  <a:pt x="20588" y="9641"/>
                  <a:pt x="20588" y="9649"/>
                  <a:pt x="20588" y="9674"/>
                </a:cubicBezTo>
                <a:cubicBezTo>
                  <a:pt x="20755" y="9650"/>
                  <a:pt x="20914" y="9592"/>
                  <a:pt x="21084" y="9575"/>
                </a:cubicBezTo>
                <a:cubicBezTo>
                  <a:pt x="21158" y="9575"/>
                  <a:pt x="21167" y="9575"/>
                  <a:pt x="21208" y="9575"/>
                </a:cubicBezTo>
                <a:cubicBezTo>
                  <a:pt x="21230" y="9445"/>
                  <a:pt x="21245" y="9311"/>
                  <a:pt x="21258" y="9178"/>
                </a:cubicBezTo>
                <a:cubicBezTo>
                  <a:pt x="21258" y="9136"/>
                  <a:pt x="21258" y="9128"/>
                  <a:pt x="21258" y="9103"/>
                </a:cubicBezTo>
                <a:cubicBezTo>
                  <a:pt x="21142" y="9066"/>
                  <a:pt x="20939" y="9154"/>
                  <a:pt x="20811" y="9178"/>
                </a:cubicBezTo>
                <a:cubicBezTo>
                  <a:pt x="20671" y="9198"/>
                  <a:pt x="20647" y="9207"/>
                  <a:pt x="20563" y="9203"/>
                </a:cubicBezTo>
              </a:path>
              <a:path w="4366" h="1688">
                <a:moveTo>
                  <a:pt x="21530" y="8706"/>
                </a:moveTo>
                <a:cubicBezTo>
                  <a:pt x="21664" y="8684"/>
                  <a:pt x="21795" y="8662"/>
                  <a:pt x="21927" y="8632"/>
                </a:cubicBezTo>
              </a:path>
              <a:path w="4366" h="1688">
                <a:moveTo>
                  <a:pt x="22498" y="8161"/>
                </a:moveTo>
                <a:cubicBezTo>
                  <a:pt x="22498" y="8387"/>
                  <a:pt x="22525" y="8648"/>
                  <a:pt x="22473" y="8855"/>
                </a:cubicBezTo>
                <a:cubicBezTo>
                  <a:pt x="22464" y="8889"/>
                  <a:pt x="22503" y="8859"/>
                  <a:pt x="22523" y="8830"/>
                </a:cubicBezTo>
              </a:path>
              <a:path w="4366" h="1688">
                <a:moveTo>
                  <a:pt x="22845" y="8508"/>
                </a:moveTo>
                <a:cubicBezTo>
                  <a:pt x="22892" y="8524"/>
                  <a:pt x="22877" y="8597"/>
                  <a:pt x="22895" y="8508"/>
                </a:cubicBezTo>
              </a:path>
              <a:path w="4366" h="1688">
                <a:moveTo>
                  <a:pt x="23292" y="8409"/>
                </a:moveTo>
                <a:cubicBezTo>
                  <a:pt x="23292" y="8480"/>
                  <a:pt x="23279" y="8628"/>
                  <a:pt x="23316" y="8682"/>
                </a:cubicBezTo>
                <a:cubicBezTo>
                  <a:pt x="23333" y="8690"/>
                  <a:pt x="23349" y="8698"/>
                  <a:pt x="23366" y="8706"/>
                </a:cubicBezTo>
                <a:cubicBezTo>
                  <a:pt x="23485" y="8676"/>
                  <a:pt x="23562" y="8613"/>
                  <a:pt x="23614" y="8483"/>
                </a:cubicBezTo>
                <a:cubicBezTo>
                  <a:pt x="23614" y="8475"/>
                  <a:pt x="23614" y="8466"/>
                  <a:pt x="23614" y="8458"/>
                </a:cubicBezTo>
                <a:cubicBezTo>
                  <a:pt x="23614" y="8550"/>
                  <a:pt x="23615" y="8711"/>
                  <a:pt x="23738" y="8731"/>
                </a:cubicBezTo>
                <a:cubicBezTo>
                  <a:pt x="23950" y="8766"/>
                  <a:pt x="23988" y="8488"/>
                  <a:pt x="23912" y="8359"/>
                </a:cubicBezTo>
                <a:cubicBezTo>
                  <a:pt x="23904" y="8359"/>
                  <a:pt x="23895" y="8359"/>
                  <a:pt x="23887" y="835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88040" y="4010040"/>
            <a:ext cx="36720" cy="1776240"/>
          </a:xfrm>
          <a:custGeom>
            <a:avLst/>
            <a:gdLst/>
            <a:ahLst/>
            <a:rect l="l" t="t" r="r" b="b"/>
            <a:pathLst>
              <a:path w="100" h="4937">
                <a:moveTo>
                  <a:pt x="17289" y="11162"/>
                </a:moveTo>
                <a:cubicBezTo>
                  <a:pt x="17289" y="11154"/>
                  <a:pt x="17289" y="11145"/>
                  <a:pt x="17289" y="11137"/>
                </a:cubicBezTo>
                <a:cubicBezTo>
                  <a:pt x="17279" y="11219"/>
                  <a:pt x="17264" y="11336"/>
                  <a:pt x="17264" y="11435"/>
                </a:cubicBezTo>
                <a:cubicBezTo>
                  <a:pt x="17264" y="11586"/>
                  <a:pt x="17239" y="11729"/>
                  <a:pt x="17239" y="11881"/>
                </a:cubicBezTo>
                <a:cubicBezTo>
                  <a:pt x="17239" y="12119"/>
                  <a:pt x="17197" y="12397"/>
                  <a:pt x="17214" y="12626"/>
                </a:cubicBezTo>
                <a:cubicBezTo>
                  <a:pt x="17221" y="12719"/>
                  <a:pt x="17244" y="12797"/>
                  <a:pt x="17239" y="12898"/>
                </a:cubicBezTo>
                <a:cubicBezTo>
                  <a:pt x="17235" y="12989"/>
                  <a:pt x="17216" y="13074"/>
                  <a:pt x="17214" y="13171"/>
                </a:cubicBezTo>
                <a:cubicBezTo>
                  <a:pt x="17210" y="13388"/>
                  <a:pt x="17203" y="13602"/>
                  <a:pt x="17190" y="13816"/>
                </a:cubicBezTo>
                <a:cubicBezTo>
                  <a:pt x="17159" y="14314"/>
                  <a:pt x="17181" y="14835"/>
                  <a:pt x="17214" y="15329"/>
                </a:cubicBezTo>
                <a:cubicBezTo>
                  <a:pt x="17221" y="15437"/>
                  <a:pt x="17231" y="15547"/>
                  <a:pt x="17239" y="15652"/>
                </a:cubicBezTo>
                <a:cubicBezTo>
                  <a:pt x="17250" y="15790"/>
                  <a:pt x="17239" y="15934"/>
                  <a:pt x="17239" y="1607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97760" y="5518080"/>
            <a:ext cx="339480" cy="295200"/>
          </a:xfrm>
          <a:custGeom>
            <a:avLst/>
            <a:gdLst/>
            <a:ahLst/>
            <a:rect l="l" t="t" r="r" b="b"/>
            <a:pathLst>
              <a:path w="944" h="820">
                <a:moveTo>
                  <a:pt x="17214" y="15379"/>
                </a:moveTo>
                <a:cubicBezTo>
                  <a:pt x="17214" y="15354"/>
                  <a:pt x="17214" y="15346"/>
                  <a:pt x="17214" y="15329"/>
                </a:cubicBezTo>
                <a:cubicBezTo>
                  <a:pt x="17318" y="15349"/>
                  <a:pt x="17430" y="15372"/>
                  <a:pt x="17537" y="15379"/>
                </a:cubicBezTo>
                <a:cubicBezTo>
                  <a:pt x="17641" y="15386"/>
                  <a:pt x="17797" y="15366"/>
                  <a:pt x="17859" y="15354"/>
                </a:cubicBezTo>
                <a:cubicBezTo>
                  <a:pt x="17950" y="15337"/>
                  <a:pt x="18034" y="15364"/>
                  <a:pt x="18107" y="15379"/>
                </a:cubicBezTo>
                <a:cubicBezTo>
                  <a:pt x="18132" y="15379"/>
                  <a:pt x="18140" y="15379"/>
                  <a:pt x="18157" y="15379"/>
                </a:cubicBezTo>
                <a:cubicBezTo>
                  <a:pt x="18100" y="15550"/>
                  <a:pt x="18050" y="15743"/>
                  <a:pt x="18033" y="15925"/>
                </a:cubicBezTo>
                <a:cubicBezTo>
                  <a:pt x="18024" y="16021"/>
                  <a:pt x="18031" y="16078"/>
                  <a:pt x="18058" y="16123"/>
                </a:cubicBezTo>
                <a:cubicBezTo>
                  <a:pt x="18058" y="16065"/>
                  <a:pt x="18058" y="16057"/>
                  <a:pt x="18058" y="1599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03680" y="4367160"/>
            <a:ext cx="1277640" cy="169920"/>
          </a:xfrm>
          <a:custGeom>
            <a:avLst/>
            <a:gdLst/>
            <a:ahLst/>
            <a:rect l="l" t="t" r="r" b="b"/>
            <a:pathLst>
              <a:path w="3548" h="473">
                <a:moveTo>
                  <a:pt x="7789" y="12601"/>
                </a:moveTo>
                <a:cubicBezTo>
                  <a:pt x="7797" y="12601"/>
                  <a:pt x="7805" y="12601"/>
                  <a:pt x="7813" y="12601"/>
                </a:cubicBezTo>
              </a:path>
              <a:path w="3548" h="473">
                <a:moveTo>
                  <a:pt x="11187" y="12129"/>
                </a:moveTo>
                <a:cubicBezTo>
                  <a:pt x="11195" y="12137"/>
                  <a:pt x="11204" y="12146"/>
                  <a:pt x="11212" y="12154"/>
                </a:cubicBezTo>
              </a:path>
              <a:path w="3548" h="473">
                <a:moveTo>
                  <a:pt x="11336" y="12402"/>
                </a:moveTo>
                <a:lnTo>
                  <a:pt x="11336" y="12402"/>
                </a:ln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03880" y="4572000"/>
            <a:ext cx="366840" cy="393840"/>
          </a:xfrm>
          <a:custGeom>
            <a:avLst/>
            <a:gdLst/>
            <a:ahLst/>
            <a:rect l="l" t="t" r="r" b="b"/>
            <a:pathLst>
              <a:path w="1018" h="1092">
                <a:moveTo>
                  <a:pt x="14759" y="13568"/>
                </a:moveTo>
                <a:cubicBezTo>
                  <a:pt x="14828" y="13707"/>
                  <a:pt x="14726" y="13532"/>
                  <a:pt x="14734" y="13519"/>
                </a:cubicBezTo>
                <a:cubicBezTo>
                  <a:pt x="14814" y="13396"/>
                  <a:pt x="14869" y="13278"/>
                  <a:pt x="14932" y="13146"/>
                </a:cubicBezTo>
                <a:cubicBezTo>
                  <a:pt x="14961" y="13118"/>
                  <a:pt x="14969" y="13105"/>
                  <a:pt x="14957" y="13072"/>
                </a:cubicBezTo>
                <a:cubicBezTo>
                  <a:pt x="15024" y="13295"/>
                  <a:pt x="15114" y="13524"/>
                  <a:pt x="15205" y="13742"/>
                </a:cubicBezTo>
                <a:cubicBezTo>
                  <a:pt x="15213" y="13758"/>
                  <a:pt x="15222" y="13775"/>
                  <a:pt x="15230" y="13791"/>
                </a:cubicBezTo>
              </a:path>
              <a:path w="1018" h="1092">
                <a:moveTo>
                  <a:pt x="15255" y="13072"/>
                </a:moveTo>
                <a:cubicBezTo>
                  <a:pt x="15288" y="13181"/>
                  <a:pt x="15348" y="13288"/>
                  <a:pt x="15404" y="13395"/>
                </a:cubicBezTo>
                <a:cubicBezTo>
                  <a:pt x="15404" y="13251"/>
                  <a:pt x="15287" y="13154"/>
                  <a:pt x="15304" y="12998"/>
                </a:cubicBezTo>
                <a:cubicBezTo>
                  <a:pt x="15321" y="12841"/>
                  <a:pt x="15523" y="13071"/>
                  <a:pt x="15553" y="13097"/>
                </a:cubicBezTo>
                <a:cubicBezTo>
                  <a:pt x="15580" y="13056"/>
                  <a:pt x="15419" y="12877"/>
                  <a:pt x="15429" y="12750"/>
                </a:cubicBezTo>
                <a:cubicBezTo>
                  <a:pt x="15444" y="12563"/>
                  <a:pt x="15728" y="12898"/>
                  <a:pt x="15751" y="1292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48240" y="4537080"/>
            <a:ext cx="349560" cy="258840"/>
          </a:xfrm>
          <a:custGeom>
            <a:avLst/>
            <a:gdLst/>
            <a:ahLst/>
            <a:rect l="l" t="t" r="r" b="b"/>
            <a:pathLst>
              <a:path w="969" h="720">
                <a:moveTo>
                  <a:pt x="17661" y="12874"/>
                </a:moveTo>
                <a:cubicBezTo>
                  <a:pt x="17661" y="12809"/>
                  <a:pt x="17660" y="12761"/>
                  <a:pt x="17686" y="12700"/>
                </a:cubicBezTo>
                <a:cubicBezTo>
                  <a:pt x="17709" y="12645"/>
                  <a:pt x="17774" y="12620"/>
                  <a:pt x="17835" y="12601"/>
                </a:cubicBezTo>
                <a:cubicBezTo>
                  <a:pt x="17896" y="12582"/>
                  <a:pt x="17953" y="12711"/>
                  <a:pt x="17959" y="12750"/>
                </a:cubicBezTo>
                <a:cubicBezTo>
                  <a:pt x="17972" y="12833"/>
                  <a:pt x="17902" y="12947"/>
                  <a:pt x="17835" y="12998"/>
                </a:cubicBezTo>
                <a:cubicBezTo>
                  <a:pt x="17782" y="13038"/>
                  <a:pt x="17690" y="13050"/>
                  <a:pt x="17661" y="13122"/>
                </a:cubicBezTo>
                <a:cubicBezTo>
                  <a:pt x="17636" y="13220"/>
                  <a:pt x="17628" y="13252"/>
                  <a:pt x="17636" y="13320"/>
                </a:cubicBezTo>
                <a:cubicBezTo>
                  <a:pt x="17690" y="13307"/>
                  <a:pt x="17735" y="13222"/>
                  <a:pt x="17760" y="13171"/>
                </a:cubicBezTo>
                <a:cubicBezTo>
                  <a:pt x="17785" y="13120"/>
                  <a:pt x="17862" y="13159"/>
                  <a:pt x="17909" y="13196"/>
                </a:cubicBezTo>
                <a:cubicBezTo>
                  <a:pt x="17972" y="13245"/>
                  <a:pt x="17943" y="13295"/>
                  <a:pt x="18008" y="13246"/>
                </a:cubicBezTo>
              </a:path>
              <a:path w="969" h="720">
                <a:moveTo>
                  <a:pt x="18033" y="12948"/>
                </a:moveTo>
                <a:cubicBezTo>
                  <a:pt x="18043" y="13049"/>
                  <a:pt x="18058" y="13143"/>
                  <a:pt x="18058" y="13246"/>
                </a:cubicBezTo>
                <a:cubicBezTo>
                  <a:pt x="18058" y="13139"/>
                  <a:pt x="18039" y="13023"/>
                  <a:pt x="18083" y="12923"/>
                </a:cubicBezTo>
                <a:cubicBezTo>
                  <a:pt x="18091" y="12915"/>
                  <a:pt x="18099" y="12906"/>
                  <a:pt x="18107" y="12898"/>
                </a:cubicBezTo>
                <a:cubicBezTo>
                  <a:pt x="18236" y="12899"/>
                  <a:pt x="18305" y="12979"/>
                  <a:pt x="18355" y="13122"/>
                </a:cubicBezTo>
                <a:cubicBezTo>
                  <a:pt x="18355" y="13138"/>
                  <a:pt x="18355" y="13155"/>
                  <a:pt x="18355" y="13171"/>
                </a:cubicBezTo>
                <a:cubicBezTo>
                  <a:pt x="18335" y="13069"/>
                  <a:pt x="18304" y="12997"/>
                  <a:pt x="18380" y="12898"/>
                </a:cubicBezTo>
                <a:cubicBezTo>
                  <a:pt x="18397" y="12890"/>
                  <a:pt x="18413" y="12882"/>
                  <a:pt x="18430" y="12874"/>
                </a:cubicBezTo>
                <a:cubicBezTo>
                  <a:pt x="18549" y="12953"/>
                  <a:pt x="18580" y="13029"/>
                  <a:pt x="18604" y="13171"/>
                </a:cubicBezTo>
                <a:cubicBezTo>
                  <a:pt x="18604" y="13188"/>
                  <a:pt x="18604" y="13204"/>
                  <a:pt x="18604" y="1322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Area of a triangle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752480" y="2743200"/>
          <a:ext cx="391176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743200"/>
                    <a:ext cx="391176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133720" y="4038480"/>
          <a:ext cx="1409760" cy="93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4038480"/>
                    <a:ext cx="140976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5257800" y="3581280"/>
            <a:ext cx="3048120" cy="190512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3581280"/>
            <a:ext cx="0" cy="19051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81680" y="5181480"/>
            <a:ext cx="381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5181480"/>
            <a:ext cx="0" cy="304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29400" y="5638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057400" y="5638680"/>
          <a:ext cx="1981080" cy="81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5638680"/>
                    <a:ext cx="19810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2666880" y="518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59120" y="2401920"/>
            <a:ext cx="268200" cy="384120"/>
          </a:xfrm>
          <a:custGeom>
            <a:avLst/>
            <a:gdLst/>
            <a:ahLst/>
            <a:rect l="l" t="t" r="r" b="b"/>
            <a:pathLst>
              <a:path w="745" h="1068">
                <a:moveTo>
                  <a:pt x="10443" y="7615"/>
                </a:moveTo>
                <a:cubicBezTo>
                  <a:pt x="10670" y="7588"/>
                  <a:pt x="10837" y="7473"/>
                  <a:pt x="10964" y="7268"/>
                </a:cubicBezTo>
                <a:cubicBezTo>
                  <a:pt x="11093" y="7061"/>
                  <a:pt x="11116" y="6902"/>
                  <a:pt x="11013" y="6697"/>
                </a:cubicBezTo>
                <a:cubicBezTo>
                  <a:pt x="10855" y="6657"/>
                  <a:pt x="10797" y="6882"/>
                  <a:pt x="10790" y="7020"/>
                </a:cubicBezTo>
                <a:cubicBezTo>
                  <a:pt x="10774" y="7333"/>
                  <a:pt x="10897" y="7519"/>
                  <a:pt x="11112" y="7714"/>
                </a:cubicBezTo>
                <a:cubicBezTo>
                  <a:pt x="11148" y="7747"/>
                  <a:pt x="11144" y="7733"/>
                  <a:pt x="11187" y="773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84840" y="2616120"/>
            <a:ext cx="276120" cy="206280"/>
          </a:xfrm>
          <a:custGeom>
            <a:avLst/>
            <a:gdLst/>
            <a:ahLst/>
            <a:rect l="l" t="t" r="r" b="b"/>
            <a:pathLst>
              <a:path w="770" h="571">
                <a:moveTo>
                  <a:pt x="13568" y="7317"/>
                </a:moveTo>
                <a:cubicBezTo>
                  <a:pt x="13568" y="7176"/>
                  <a:pt x="13596" y="7550"/>
                  <a:pt x="13618" y="7689"/>
                </a:cubicBezTo>
                <a:cubicBezTo>
                  <a:pt x="13626" y="7730"/>
                  <a:pt x="13635" y="7772"/>
                  <a:pt x="13643" y="7813"/>
                </a:cubicBezTo>
                <a:cubicBezTo>
                  <a:pt x="13791" y="7863"/>
                  <a:pt x="13875" y="7640"/>
                  <a:pt x="13915" y="7516"/>
                </a:cubicBezTo>
                <a:cubicBezTo>
                  <a:pt x="13934" y="7405"/>
                  <a:pt x="13969" y="7383"/>
                  <a:pt x="13915" y="7342"/>
                </a:cubicBezTo>
                <a:cubicBezTo>
                  <a:pt x="13915" y="7295"/>
                  <a:pt x="13939" y="7636"/>
                  <a:pt x="13965" y="7689"/>
                </a:cubicBezTo>
                <a:cubicBezTo>
                  <a:pt x="13998" y="7730"/>
                  <a:pt x="14031" y="7772"/>
                  <a:pt x="14064" y="7813"/>
                </a:cubicBezTo>
                <a:cubicBezTo>
                  <a:pt x="14292" y="7723"/>
                  <a:pt x="14393" y="7613"/>
                  <a:pt x="14312" y="7342"/>
                </a:cubicBezTo>
                <a:cubicBezTo>
                  <a:pt x="14273" y="7283"/>
                  <a:pt x="14269" y="7246"/>
                  <a:pt x="14238" y="729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4960" y="2517840"/>
            <a:ext cx="438120" cy="63360"/>
          </a:xfrm>
          <a:custGeom>
            <a:avLst/>
            <a:gdLst/>
            <a:ahLst/>
            <a:rect l="l" t="t" r="r" b="b"/>
            <a:pathLst>
              <a:path w="1216" h="175">
                <a:moveTo>
                  <a:pt x="20985" y="7169"/>
                </a:moveTo>
                <a:cubicBezTo>
                  <a:pt x="21190" y="7105"/>
                  <a:pt x="21397" y="7049"/>
                  <a:pt x="21605" y="6995"/>
                </a:cubicBezTo>
              </a:path>
              <a:path w="1216" h="175">
                <a:moveTo>
                  <a:pt x="21803" y="7119"/>
                </a:moveTo>
                <a:cubicBezTo>
                  <a:pt x="22000" y="7091"/>
                  <a:pt x="22078" y="7073"/>
                  <a:pt x="22200" y="6995"/>
                </a:cubicBezTo>
              </a:path>
              <a:path w="1216" h="175">
                <a:moveTo>
                  <a:pt x="22200" y="6995"/>
                </a:moveTo>
                <a:lnTo>
                  <a:pt x="22200" y="6995"/>
                </a:ln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10320" y="2340000"/>
            <a:ext cx="204840" cy="357120"/>
          </a:xfrm>
          <a:custGeom>
            <a:avLst/>
            <a:gdLst/>
            <a:ahLst/>
            <a:rect l="l" t="t" r="r" b="b"/>
            <a:pathLst>
              <a:path w="571" h="993">
                <a:moveTo>
                  <a:pt x="21084" y="6970"/>
                </a:moveTo>
                <a:cubicBezTo>
                  <a:pt x="21014" y="7148"/>
                  <a:pt x="20949" y="7324"/>
                  <a:pt x="20861" y="7491"/>
                </a:cubicBezTo>
                <a:cubicBezTo>
                  <a:pt x="20891" y="7192"/>
                  <a:pt x="20995" y="6927"/>
                  <a:pt x="21158" y="6672"/>
                </a:cubicBezTo>
                <a:cubicBezTo>
                  <a:pt x="21208" y="6614"/>
                  <a:pt x="21257" y="6557"/>
                  <a:pt x="21307" y="6499"/>
                </a:cubicBezTo>
                <a:cubicBezTo>
                  <a:pt x="21438" y="6796"/>
                  <a:pt x="21491" y="7104"/>
                  <a:pt x="21332" y="7417"/>
                </a:cubicBezTo>
                <a:cubicBezTo>
                  <a:pt x="21307" y="7442"/>
                  <a:pt x="21283" y="7466"/>
                  <a:pt x="21258" y="749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12080" y="2197080"/>
            <a:ext cx="652320" cy="500040"/>
          </a:xfrm>
          <a:custGeom>
            <a:avLst/>
            <a:gdLst/>
            <a:ahLst/>
            <a:rect l="l" t="t" r="r" b="b"/>
            <a:pathLst>
              <a:path w="1812" h="1390">
                <a:moveTo>
                  <a:pt x="21977" y="6747"/>
                </a:moveTo>
                <a:cubicBezTo>
                  <a:pt x="22080" y="6747"/>
                  <a:pt x="22187" y="6742"/>
                  <a:pt x="22275" y="6772"/>
                </a:cubicBezTo>
              </a:path>
              <a:path w="1812" h="1390">
                <a:moveTo>
                  <a:pt x="22845" y="6102"/>
                </a:moveTo>
                <a:cubicBezTo>
                  <a:pt x="22845" y="6352"/>
                  <a:pt x="22830" y="6597"/>
                  <a:pt x="22820" y="6846"/>
                </a:cubicBezTo>
              </a:path>
              <a:path w="1812" h="1390">
                <a:moveTo>
                  <a:pt x="22547" y="6871"/>
                </a:moveTo>
                <a:cubicBezTo>
                  <a:pt x="22781" y="6828"/>
                  <a:pt x="23006" y="6788"/>
                  <a:pt x="23242" y="6772"/>
                </a:cubicBezTo>
              </a:path>
              <a:path w="1812" h="1390">
                <a:moveTo>
                  <a:pt x="22597" y="7169"/>
                </a:moveTo>
                <a:cubicBezTo>
                  <a:pt x="22738" y="7125"/>
                  <a:pt x="22872" y="7082"/>
                  <a:pt x="23019" y="7069"/>
                </a:cubicBezTo>
                <a:cubicBezTo>
                  <a:pt x="22988" y="7242"/>
                  <a:pt x="22884" y="7335"/>
                  <a:pt x="22771" y="7466"/>
                </a:cubicBezTo>
                <a:cubicBezTo>
                  <a:pt x="22763" y="7474"/>
                  <a:pt x="22754" y="7483"/>
                  <a:pt x="22746" y="7491"/>
                </a:cubicBezTo>
                <a:cubicBezTo>
                  <a:pt x="22902" y="7482"/>
                  <a:pt x="23031" y="7468"/>
                  <a:pt x="23168" y="7392"/>
                </a:cubicBezTo>
              </a:path>
              <a:path w="1812" h="1390">
                <a:moveTo>
                  <a:pt x="23490" y="6548"/>
                </a:moveTo>
                <a:cubicBezTo>
                  <a:pt x="23482" y="6756"/>
                  <a:pt x="23453" y="6962"/>
                  <a:pt x="23440" y="7169"/>
                </a:cubicBezTo>
                <a:cubicBezTo>
                  <a:pt x="23440" y="7066"/>
                  <a:pt x="23468" y="6899"/>
                  <a:pt x="23540" y="6821"/>
                </a:cubicBezTo>
                <a:cubicBezTo>
                  <a:pt x="23565" y="6813"/>
                  <a:pt x="23589" y="6804"/>
                  <a:pt x="23614" y="6796"/>
                </a:cubicBezTo>
                <a:cubicBezTo>
                  <a:pt x="23766" y="6883"/>
                  <a:pt x="23775" y="6957"/>
                  <a:pt x="23788" y="714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742240" y="2357280"/>
            <a:ext cx="160560" cy="241560"/>
          </a:xfrm>
          <a:custGeom>
            <a:avLst/>
            <a:gdLst/>
            <a:ahLst/>
            <a:rect l="l" t="t" r="r" b="b"/>
            <a:pathLst>
              <a:path w="447" h="671">
                <a:moveTo>
                  <a:pt x="24358" y="6548"/>
                </a:moveTo>
                <a:cubicBezTo>
                  <a:pt x="24334" y="6738"/>
                  <a:pt x="24301" y="6929"/>
                  <a:pt x="24284" y="7119"/>
                </a:cubicBezTo>
                <a:cubicBezTo>
                  <a:pt x="24298" y="7009"/>
                  <a:pt x="24351" y="6851"/>
                  <a:pt x="24433" y="6772"/>
                </a:cubicBezTo>
                <a:cubicBezTo>
                  <a:pt x="24528" y="6724"/>
                  <a:pt x="24557" y="6707"/>
                  <a:pt x="24631" y="6722"/>
                </a:cubicBezTo>
                <a:cubicBezTo>
                  <a:pt x="24721" y="6858"/>
                  <a:pt x="24790" y="7028"/>
                  <a:pt x="24631" y="7169"/>
                </a:cubicBezTo>
                <a:cubicBezTo>
                  <a:pt x="24520" y="7224"/>
                  <a:pt x="24475" y="7240"/>
                  <a:pt x="24383" y="7218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56080" y="4438800"/>
            <a:ext cx="1982880" cy="411120"/>
          </a:xfrm>
          <a:custGeom>
            <a:avLst/>
            <a:gdLst/>
            <a:ahLst/>
            <a:rect l="l" t="t" r="r" b="b"/>
            <a:pathLst>
              <a:path w="5507" h="1142">
                <a:moveTo>
                  <a:pt x="17884" y="12328"/>
                </a:moveTo>
                <a:cubicBezTo>
                  <a:pt x="17876" y="12328"/>
                  <a:pt x="17867" y="12328"/>
                  <a:pt x="17859" y="12328"/>
                </a:cubicBezTo>
              </a:path>
              <a:path w="5507" h="1142">
                <a:moveTo>
                  <a:pt x="12378" y="13395"/>
                </a:moveTo>
                <a:cubicBezTo>
                  <a:pt x="12378" y="13429"/>
                  <a:pt x="12383" y="13447"/>
                  <a:pt x="12402" y="1346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03800" y="3152880"/>
            <a:ext cx="4064040" cy="2320920"/>
          </a:xfrm>
          <a:custGeom>
            <a:avLst/>
            <a:gdLst/>
            <a:ahLst/>
            <a:rect l="l" t="t" r="r" b="b"/>
            <a:pathLst>
              <a:path w="11287" h="6450">
                <a:moveTo>
                  <a:pt x="14808" y="13047"/>
                </a:moveTo>
                <a:cubicBezTo>
                  <a:pt x="14808" y="12956"/>
                  <a:pt x="14808" y="12915"/>
                  <a:pt x="14808" y="12849"/>
                </a:cubicBezTo>
              </a:path>
              <a:path w="11287" h="6450">
                <a:moveTo>
                  <a:pt x="12626" y="12998"/>
                </a:moveTo>
                <a:cubicBezTo>
                  <a:pt x="12637" y="13172"/>
                  <a:pt x="12608" y="13347"/>
                  <a:pt x="12626" y="13519"/>
                </a:cubicBezTo>
                <a:cubicBezTo>
                  <a:pt x="12634" y="13544"/>
                  <a:pt x="12642" y="13568"/>
                  <a:pt x="12650" y="13593"/>
                </a:cubicBezTo>
                <a:cubicBezTo>
                  <a:pt x="12799" y="13578"/>
                  <a:pt x="12886" y="13548"/>
                  <a:pt x="12973" y="13419"/>
                </a:cubicBezTo>
                <a:cubicBezTo>
                  <a:pt x="13023" y="13345"/>
                  <a:pt x="13022" y="13336"/>
                  <a:pt x="13022" y="13271"/>
                </a:cubicBezTo>
                <a:cubicBezTo>
                  <a:pt x="12890" y="13330"/>
                  <a:pt x="12884" y="13427"/>
                  <a:pt x="12849" y="13568"/>
                </a:cubicBezTo>
              </a:path>
              <a:path w="11287" h="6450">
                <a:moveTo>
                  <a:pt x="12452" y="14163"/>
                </a:moveTo>
                <a:cubicBezTo>
                  <a:pt x="12420" y="14174"/>
                  <a:pt x="12412" y="14197"/>
                  <a:pt x="12402" y="14238"/>
                </a:cubicBezTo>
                <a:cubicBezTo>
                  <a:pt x="12457" y="14146"/>
                  <a:pt x="12568" y="14110"/>
                  <a:pt x="12601" y="14263"/>
                </a:cubicBezTo>
                <a:cubicBezTo>
                  <a:pt x="12625" y="14373"/>
                  <a:pt x="12590" y="14635"/>
                  <a:pt x="12427" y="14635"/>
                </a:cubicBezTo>
                <a:cubicBezTo>
                  <a:pt x="12419" y="14627"/>
                  <a:pt x="12410" y="14618"/>
                  <a:pt x="12402" y="14610"/>
                </a:cubicBezTo>
                <a:cubicBezTo>
                  <a:pt x="12439" y="14464"/>
                  <a:pt x="12502" y="14403"/>
                  <a:pt x="12650" y="14486"/>
                </a:cubicBezTo>
                <a:cubicBezTo>
                  <a:pt x="12673" y="14499"/>
                  <a:pt x="12742" y="14633"/>
                  <a:pt x="12626" y="14536"/>
                </a:cubicBezTo>
              </a:path>
              <a:path w="11287" h="6450">
                <a:moveTo>
                  <a:pt x="12750" y="14114"/>
                </a:moveTo>
                <a:cubicBezTo>
                  <a:pt x="12750" y="14197"/>
                  <a:pt x="12750" y="14279"/>
                  <a:pt x="12750" y="14362"/>
                </a:cubicBezTo>
                <a:cubicBezTo>
                  <a:pt x="12872" y="14324"/>
                  <a:pt x="12955" y="14317"/>
                  <a:pt x="12998" y="14188"/>
                </a:cubicBezTo>
              </a:path>
              <a:path w="11287" h="6450">
                <a:moveTo>
                  <a:pt x="12923" y="13915"/>
                </a:moveTo>
                <a:cubicBezTo>
                  <a:pt x="12938" y="14115"/>
                  <a:pt x="12968" y="14310"/>
                  <a:pt x="12973" y="14511"/>
                </a:cubicBezTo>
                <a:cubicBezTo>
                  <a:pt x="12973" y="14569"/>
                  <a:pt x="12973" y="14577"/>
                  <a:pt x="12973" y="14610"/>
                </a:cubicBezTo>
              </a:path>
              <a:path w="11287" h="6450">
                <a:moveTo>
                  <a:pt x="12278" y="14709"/>
                </a:moveTo>
                <a:cubicBezTo>
                  <a:pt x="12645" y="14852"/>
                  <a:pt x="13020" y="14997"/>
                  <a:pt x="13370" y="14734"/>
                </a:cubicBezTo>
                <a:cubicBezTo>
                  <a:pt x="13668" y="14510"/>
                  <a:pt x="13748" y="14173"/>
                  <a:pt x="13494" y="13891"/>
                </a:cubicBezTo>
                <a:cubicBezTo>
                  <a:pt x="13223" y="13590"/>
                  <a:pt x="12748" y="13806"/>
                  <a:pt x="12452" y="13940"/>
                </a:cubicBezTo>
                <a:cubicBezTo>
                  <a:pt x="12087" y="14105"/>
                  <a:pt x="11816" y="14343"/>
                  <a:pt x="12005" y="14784"/>
                </a:cubicBezTo>
                <a:cubicBezTo>
                  <a:pt x="12186" y="15208"/>
                  <a:pt x="12409" y="15138"/>
                  <a:pt x="12750" y="15081"/>
                </a:cubicBezTo>
              </a:path>
              <a:path w="11287" h="6450">
                <a:moveTo>
                  <a:pt x="14585" y="15180"/>
                </a:moveTo>
                <a:cubicBezTo>
                  <a:pt x="14559" y="15140"/>
                  <a:pt x="14538" y="15171"/>
                  <a:pt x="14511" y="15131"/>
                </a:cubicBezTo>
                <a:cubicBezTo>
                  <a:pt x="14451" y="15041"/>
                  <a:pt x="14358" y="14885"/>
                  <a:pt x="14337" y="14784"/>
                </a:cubicBezTo>
                <a:cubicBezTo>
                  <a:pt x="14248" y="14369"/>
                  <a:pt x="14394" y="13857"/>
                  <a:pt x="14436" y="13444"/>
                </a:cubicBezTo>
                <a:cubicBezTo>
                  <a:pt x="14463" y="13173"/>
                  <a:pt x="14485" y="12898"/>
                  <a:pt x="14511" y="12626"/>
                </a:cubicBezTo>
                <a:cubicBezTo>
                  <a:pt x="14529" y="12436"/>
                  <a:pt x="14559" y="12264"/>
                  <a:pt x="14610" y="12080"/>
                </a:cubicBezTo>
                <a:cubicBezTo>
                  <a:pt x="14736" y="11619"/>
                  <a:pt x="14906" y="11174"/>
                  <a:pt x="15230" y="10815"/>
                </a:cubicBezTo>
                <a:cubicBezTo>
                  <a:pt x="15450" y="10571"/>
                  <a:pt x="15742" y="10356"/>
                  <a:pt x="16024" y="10195"/>
                </a:cubicBezTo>
                <a:cubicBezTo>
                  <a:pt x="16334" y="10018"/>
                  <a:pt x="16652" y="9846"/>
                  <a:pt x="16966" y="9674"/>
                </a:cubicBezTo>
                <a:cubicBezTo>
                  <a:pt x="17459" y="9404"/>
                  <a:pt x="17967" y="9166"/>
                  <a:pt x="18504" y="9004"/>
                </a:cubicBezTo>
                <a:cubicBezTo>
                  <a:pt x="18818" y="8909"/>
                  <a:pt x="19149" y="8854"/>
                  <a:pt x="19472" y="8806"/>
                </a:cubicBezTo>
                <a:cubicBezTo>
                  <a:pt x="19732" y="8767"/>
                  <a:pt x="20003" y="8764"/>
                  <a:pt x="20265" y="8756"/>
                </a:cubicBezTo>
                <a:cubicBezTo>
                  <a:pt x="20468" y="8749"/>
                  <a:pt x="20639" y="8785"/>
                  <a:pt x="20836" y="8806"/>
                </a:cubicBezTo>
                <a:cubicBezTo>
                  <a:pt x="21207" y="8845"/>
                  <a:pt x="21591" y="8869"/>
                  <a:pt x="21952" y="8979"/>
                </a:cubicBezTo>
                <a:cubicBezTo>
                  <a:pt x="22166" y="9044"/>
                  <a:pt x="22404" y="9145"/>
                  <a:pt x="22597" y="9252"/>
                </a:cubicBezTo>
                <a:cubicBezTo>
                  <a:pt x="22681" y="9299"/>
                  <a:pt x="22746" y="9337"/>
                  <a:pt x="22820" y="9401"/>
                </a:cubicBezTo>
                <a:cubicBezTo>
                  <a:pt x="22885" y="9457"/>
                  <a:pt x="22974" y="9542"/>
                  <a:pt x="23019" y="9624"/>
                </a:cubicBezTo>
                <a:cubicBezTo>
                  <a:pt x="23072" y="9720"/>
                  <a:pt x="23063" y="9849"/>
                  <a:pt x="23093" y="9947"/>
                </a:cubicBezTo>
                <a:cubicBezTo>
                  <a:pt x="23068" y="9860"/>
                  <a:pt x="23052" y="9741"/>
                  <a:pt x="23019" y="9649"/>
                </a:cubicBezTo>
                <a:cubicBezTo>
                  <a:pt x="23002" y="9624"/>
                  <a:pt x="22986" y="9600"/>
                  <a:pt x="22969" y="9575"/>
                </a:cubicBezTo>
                <a:cubicBezTo>
                  <a:pt x="23023" y="9680"/>
                  <a:pt x="23032" y="9722"/>
                  <a:pt x="23093" y="9823"/>
                </a:cubicBezTo>
                <a:cubicBezTo>
                  <a:pt x="23116" y="9861"/>
                  <a:pt x="23148" y="9913"/>
                  <a:pt x="23168" y="9947"/>
                </a:cubicBezTo>
                <a:cubicBezTo>
                  <a:pt x="23189" y="9866"/>
                  <a:pt x="23236" y="9767"/>
                  <a:pt x="23242" y="9674"/>
                </a:cubicBezTo>
                <a:cubicBezTo>
                  <a:pt x="23234" y="9674"/>
                  <a:pt x="23225" y="9674"/>
                  <a:pt x="23217" y="967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29240" y="4321080"/>
            <a:ext cx="98640" cy="206640"/>
          </a:xfrm>
          <a:custGeom>
            <a:avLst/>
            <a:gdLst/>
            <a:ahLst/>
            <a:rect l="l" t="t" r="r" b="b"/>
            <a:pathLst>
              <a:path w="274" h="572">
                <a:moveTo>
                  <a:pt x="17859" y="12030"/>
                </a:moveTo>
                <a:cubicBezTo>
                  <a:pt x="17859" y="11897"/>
                  <a:pt x="17859" y="12245"/>
                  <a:pt x="17859" y="12378"/>
                </a:cubicBezTo>
                <a:cubicBezTo>
                  <a:pt x="17859" y="12495"/>
                  <a:pt x="17845" y="12517"/>
                  <a:pt x="17884" y="12576"/>
                </a:cubicBezTo>
                <a:cubicBezTo>
                  <a:pt x="18016" y="12505"/>
                  <a:pt x="18150" y="12406"/>
                  <a:pt x="18132" y="12229"/>
                </a:cubicBezTo>
                <a:cubicBezTo>
                  <a:pt x="18124" y="12221"/>
                  <a:pt x="18115" y="12212"/>
                  <a:pt x="18107" y="12204"/>
                </a:cubicBezTo>
                <a:cubicBezTo>
                  <a:pt x="18022" y="12311"/>
                  <a:pt x="17983" y="12370"/>
                  <a:pt x="18033" y="12502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73800" y="5823000"/>
            <a:ext cx="312480" cy="554040"/>
          </a:xfrm>
          <a:custGeom>
            <a:avLst/>
            <a:gdLst/>
            <a:ahLst/>
            <a:rect l="l" t="t" r="r" b="b"/>
            <a:pathLst>
              <a:path w="869" h="1539">
                <a:moveTo>
                  <a:pt x="15205" y="16272"/>
                </a:moveTo>
                <a:cubicBezTo>
                  <a:pt x="15205" y="16390"/>
                  <a:pt x="15187" y="16518"/>
                  <a:pt x="15230" y="16619"/>
                </a:cubicBezTo>
                <a:cubicBezTo>
                  <a:pt x="15358" y="16581"/>
                  <a:pt x="15425" y="16551"/>
                  <a:pt x="15528" y="16470"/>
                </a:cubicBezTo>
              </a:path>
              <a:path w="869" h="1539">
                <a:moveTo>
                  <a:pt x="15429" y="16297"/>
                </a:moveTo>
                <a:cubicBezTo>
                  <a:pt x="15413" y="16472"/>
                  <a:pt x="15335" y="16835"/>
                  <a:pt x="15379" y="16966"/>
                </a:cubicBezTo>
              </a:path>
              <a:path w="869" h="1539">
                <a:moveTo>
                  <a:pt x="15726" y="16222"/>
                </a:moveTo>
                <a:cubicBezTo>
                  <a:pt x="15664" y="16474"/>
                  <a:pt x="15896" y="16440"/>
                  <a:pt x="15925" y="16644"/>
                </a:cubicBezTo>
                <a:cubicBezTo>
                  <a:pt x="15881" y="16754"/>
                  <a:pt x="15876" y="16787"/>
                  <a:pt x="15801" y="16818"/>
                </a:cubicBezTo>
                <a:cubicBezTo>
                  <a:pt x="15646" y="16629"/>
                  <a:pt x="15811" y="16451"/>
                  <a:pt x="15875" y="16222"/>
                </a:cubicBezTo>
                <a:cubicBezTo>
                  <a:pt x="15875" y="16181"/>
                  <a:pt x="15883" y="16165"/>
                  <a:pt x="15850" y="16173"/>
                </a:cubicBezTo>
              </a:path>
              <a:path w="869" h="1539">
                <a:moveTo>
                  <a:pt x="15354" y="17016"/>
                </a:moveTo>
                <a:cubicBezTo>
                  <a:pt x="15475" y="16980"/>
                  <a:pt x="15957" y="16763"/>
                  <a:pt x="16073" y="16867"/>
                </a:cubicBezTo>
                <a:cubicBezTo>
                  <a:pt x="16073" y="16875"/>
                  <a:pt x="16073" y="16884"/>
                  <a:pt x="16073" y="16892"/>
                </a:cubicBezTo>
              </a:path>
              <a:path w="869" h="1539">
                <a:moveTo>
                  <a:pt x="15429" y="17289"/>
                </a:moveTo>
                <a:cubicBezTo>
                  <a:pt x="15561" y="17258"/>
                  <a:pt x="15678" y="17218"/>
                  <a:pt x="15801" y="17264"/>
                </a:cubicBezTo>
                <a:cubicBezTo>
                  <a:pt x="15694" y="17393"/>
                  <a:pt x="15459" y="17534"/>
                  <a:pt x="15404" y="17686"/>
                </a:cubicBezTo>
                <a:cubicBezTo>
                  <a:pt x="15382" y="17746"/>
                  <a:pt x="15832" y="17557"/>
                  <a:pt x="15875" y="17537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6072120"/>
            <a:ext cx="517680" cy="81000"/>
          </a:xfrm>
          <a:custGeom>
            <a:avLst/>
            <a:gdLst/>
            <a:ahLst/>
            <a:rect l="l" t="t" r="r" b="b"/>
            <a:pathLst>
              <a:path w="1439" h="224">
                <a:moveTo>
                  <a:pt x="16297" y="16991"/>
                </a:moveTo>
                <a:cubicBezTo>
                  <a:pt x="16350" y="16968"/>
                  <a:pt x="16548" y="16857"/>
                  <a:pt x="16520" y="16942"/>
                </a:cubicBezTo>
              </a:path>
              <a:path w="1439" h="224">
                <a:moveTo>
                  <a:pt x="17413" y="16867"/>
                </a:moveTo>
                <a:cubicBezTo>
                  <a:pt x="17428" y="16968"/>
                  <a:pt x="17447" y="17095"/>
                  <a:pt x="17587" y="17090"/>
                </a:cubicBezTo>
                <a:cubicBezTo>
                  <a:pt x="17676" y="17061"/>
                  <a:pt x="17710" y="17041"/>
                  <a:pt x="17735" y="16966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75120" y="5143680"/>
            <a:ext cx="1706760" cy="1268280"/>
          </a:xfrm>
          <a:custGeom>
            <a:avLst/>
            <a:gdLst/>
            <a:ahLst/>
            <a:rect l="l" t="t" r="r" b="b"/>
            <a:pathLst>
              <a:path w="4739" h="3523">
                <a:moveTo>
                  <a:pt x="14461" y="15156"/>
                </a:moveTo>
                <a:cubicBezTo>
                  <a:pt x="14461" y="15180"/>
                  <a:pt x="14461" y="15189"/>
                  <a:pt x="14461" y="15205"/>
                </a:cubicBezTo>
                <a:cubicBezTo>
                  <a:pt x="14470" y="15160"/>
                  <a:pt x="14489" y="15124"/>
                  <a:pt x="14511" y="15081"/>
                </a:cubicBezTo>
              </a:path>
              <a:path w="4739" h="3523">
                <a:moveTo>
                  <a:pt x="16321" y="17214"/>
                </a:moveTo>
                <a:cubicBezTo>
                  <a:pt x="16472" y="17164"/>
                  <a:pt x="16613" y="17123"/>
                  <a:pt x="16768" y="17090"/>
                </a:cubicBezTo>
              </a:path>
              <a:path w="4739" h="3523">
                <a:moveTo>
                  <a:pt x="16966" y="16818"/>
                </a:moveTo>
                <a:cubicBezTo>
                  <a:pt x="17186" y="16927"/>
                  <a:pt x="17354" y="17113"/>
                  <a:pt x="17140" y="17363"/>
                </a:cubicBezTo>
                <a:cubicBezTo>
                  <a:pt x="17006" y="17452"/>
                  <a:pt x="16975" y="17485"/>
                  <a:pt x="16867" y="17462"/>
                </a:cubicBezTo>
                <a:cubicBezTo>
                  <a:pt x="16853" y="17281"/>
                  <a:pt x="17002" y="17145"/>
                  <a:pt x="17214" y="17214"/>
                </a:cubicBezTo>
                <a:cubicBezTo>
                  <a:pt x="17254" y="17274"/>
                  <a:pt x="17258" y="17286"/>
                  <a:pt x="17289" y="17314"/>
                </a:cubicBezTo>
              </a:path>
              <a:path w="4739" h="3523">
                <a:moveTo>
                  <a:pt x="17686" y="16644"/>
                </a:moveTo>
                <a:cubicBezTo>
                  <a:pt x="17686" y="16855"/>
                  <a:pt x="17770" y="17168"/>
                  <a:pt x="17711" y="17363"/>
                </a:cubicBezTo>
                <a:cubicBezTo>
                  <a:pt x="17694" y="17371"/>
                  <a:pt x="17678" y="17380"/>
                  <a:pt x="17661" y="17388"/>
                </a:cubicBezTo>
              </a:path>
              <a:path w="4739" h="3523">
                <a:moveTo>
                  <a:pt x="16520" y="17785"/>
                </a:moveTo>
                <a:cubicBezTo>
                  <a:pt x="16982" y="17806"/>
                  <a:pt x="17487" y="17828"/>
                  <a:pt x="17884" y="17537"/>
                </a:cubicBezTo>
                <a:cubicBezTo>
                  <a:pt x="18273" y="17252"/>
                  <a:pt x="18502" y="16492"/>
                  <a:pt x="18008" y="16173"/>
                </a:cubicBezTo>
                <a:cubicBezTo>
                  <a:pt x="17340" y="15741"/>
                  <a:pt x="16453" y="16655"/>
                  <a:pt x="16371" y="17289"/>
                </a:cubicBezTo>
                <a:cubicBezTo>
                  <a:pt x="16300" y="17842"/>
                  <a:pt x="17042" y="17551"/>
                  <a:pt x="17239" y="17512"/>
                </a:cubicBezTo>
              </a:path>
              <a:path w="4739" h="3523">
                <a:moveTo>
                  <a:pt x="13543" y="14337"/>
                </a:moveTo>
                <a:cubicBezTo>
                  <a:pt x="13633" y="14337"/>
                  <a:pt x="13594" y="14325"/>
                  <a:pt x="13767" y="14387"/>
                </a:cubicBezTo>
                <a:cubicBezTo>
                  <a:pt x="14349" y="14596"/>
                  <a:pt x="14868" y="14746"/>
                  <a:pt x="15404" y="15081"/>
                </a:cubicBezTo>
                <a:cubicBezTo>
                  <a:pt x="15978" y="15440"/>
                  <a:pt x="16362" y="15899"/>
                  <a:pt x="16743" y="16446"/>
                </a:cubicBezTo>
                <a:cubicBezTo>
                  <a:pt x="16788" y="16511"/>
                  <a:pt x="16922" y="16773"/>
                  <a:pt x="16991" y="16818"/>
                </a:cubicBezTo>
                <a:cubicBezTo>
                  <a:pt x="17016" y="16818"/>
                  <a:pt x="17024" y="16818"/>
                  <a:pt x="17016" y="1679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00680" y="4276800"/>
            <a:ext cx="1322280" cy="1947960"/>
          </a:xfrm>
          <a:custGeom>
            <a:avLst/>
            <a:gdLst/>
            <a:ahLst/>
            <a:rect l="l" t="t" r="r" b="b"/>
            <a:pathLst>
              <a:path w="3673" h="5409">
                <a:moveTo>
                  <a:pt x="11112" y="12030"/>
                </a:moveTo>
                <a:cubicBezTo>
                  <a:pt x="11171" y="12009"/>
                  <a:pt x="11594" y="11816"/>
                  <a:pt x="11658" y="11881"/>
                </a:cubicBezTo>
                <a:cubicBezTo>
                  <a:pt x="11658" y="11898"/>
                  <a:pt x="11658" y="11914"/>
                  <a:pt x="11658" y="11931"/>
                </a:cubicBezTo>
              </a:path>
              <a:path w="3673" h="5409">
                <a:moveTo>
                  <a:pt x="11733" y="17041"/>
                </a:moveTo>
                <a:cubicBezTo>
                  <a:pt x="11875" y="17018"/>
                  <a:pt x="12011" y="16999"/>
                  <a:pt x="12154" y="16991"/>
                </a:cubicBezTo>
              </a:path>
              <a:path w="3673" h="5409">
                <a:moveTo>
                  <a:pt x="14486" y="16991"/>
                </a:moveTo>
                <a:cubicBezTo>
                  <a:pt x="14587" y="16985"/>
                  <a:pt x="14684" y="16973"/>
                  <a:pt x="14784" y="16966"/>
                </a:cubicBezTo>
              </a:path>
              <a:path w="3673" h="5409">
                <a:moveTo>
                  <a:pt x="14412" y="17289"/>
                </a:moveTo>
                <a:cubicBezTo>
                  <a:pt x="14526" y="17272"/>
                  <a:pt x="14644" y="17252"/>
                  <a:pt x="14759" y="1723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17960" y="4089240"/>
            <a:ext cx="536400" cy="474840"/>
          </a:xfrm>
          <a:custGeom>
            <a:avLst/>
            <a:gdLst/>
            <a:ahLst/>
            <a:rect l="l" t="t" r="r" b="b"/>
            <a:pathLst>
              <a:path w="1489" h="1315">
                <a:moveTo>
                  <a:pt x="11261" y="11361"/>
                </a:moveTo>
                <a:cubicBezTo>
                  <a:pt x="11286" y="11535"/>
                  <a:pt x="11341" y="11705"/>
                  <a:pt x="11361" y="11881"/>
                </a:cubicBezTo>
                <a:cubicBezTo>
                  <a:pt x="11361" y="11939"/>
                  <a:pt x="11378" y="11964"/>
                  <a:pt x="11336" y="11956"/>
                </a:cubicBezTo>
              </a:path>
              <a:path w="1489" h="1315">
                <a:moveTo>
                  <a:pt x="11286" y="12179"/>
                </a:moveTo>
                <a:cubicBezTo>
                  <a:pt x="11347" y="12179"/>
                  <a:pt x="11379" y="12185"/>
                  <a:pt x="11435" y="12204"/>
                </a:cubicBezTo>
                <a:cubicBezTo>
                  <a:pt x="11396" y="12410"/>
                  <a:pt x="11309" y="12518"/>
                  <a:pt x="11162" y="12675"/>
                </a:cubicBezTo>
                <a:cubicBezTo>
                  <a:pt x="11192" y="12555"/>
                  <a:pt x="11308" y="12560"/>
                  <a:pt x="11410" y="12551"/>
                </a:cubicBezTo>
                <a:cubicBezTo>
                  <a:pt x="11556" y="12538"/>
                  <a:pt x="11453" y="12602"/>
                  <a:pt x="11584" y="12502"/>
                </a:cubicBezTo>
              </a:path>
              <a:path w="1489" h="1315">
                <a:moveTo>
                  <a:pt x="11956" y="11609"/>
                </a:moveTo>
                <a:cubicBezTo>
                  <a:pt x="11884" y="11689"/>
                  <a:pt x="11866" y="11729"/>
                  <a:pt x="11832" y="11832"/>
                </a:cubicBezTo>
                <a:cubicBezTo>
                  <a:pt x="12022" y="11921"/>
                  <a:pt x="12104" y="11955"/>
                  <a:pt x="12105" y="12154"/>
                </a:cubicBezTo>
                <a:cubicBezTo>
                  <a:pt x="11953" y="12179"/>
                  <a:pt x="11894" y="12124"/>
                  <a:pt x="11956" y="11956"/>
                </a:cubicBezTo>
                <a:cubicBezTo>
                  <a:pt x="11985" y="11876"/>
                  <a:pt x="12126" y="11728"/>
                  <a:pt x="12005" y="11708"/>
                </a:cubicBezTo>
              </a:path>
              <a:path w="1489" h="1315">
                <a:moveTo>
                  <a:pt x="12229" y="11410"/>
                </a:moveTo>
                <a:cubicBezTo>
                  <a:pt x="12229" y="11300"/>
                  <a:pt x="12252" y="11576"/>
                  <a:pt x="12278" y="11683"/>
                </a:cubicBezTo>
                <a:cubicBezTo>
                  <a:pt x="12292" y="11740"/>
                  <a:pt x="12328" y="12075"/>
                  <a:pt x="12328" y="12055"/>
                </a:cubicBezTo>
                <a:cubicBezTo>
                  <a:pt x="12328" y="11955"/>
                  <a:pt x="12286" y="11899"/>
                  <a:pt x="12353" y="11807"/>
                </a:cubicBezTo>
                <a:cubicBezTo>
                  <a:pt x="12457" y="11664"/>
                  <a:pt x="12546" y="11822"/>
                  <a:pt x="12601" y="11906"/>
                </a:cubicBezTo>
                <a:cubicBezTo>
                  <a:pt x="12649" y="11980"/>
                  <a:pt x="12650" y="11965"/>
                  <a:pt x="12650" y="12030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32160" y="4670280"/>
            <a:ext cx="125640" cy="312840"/>
          </a:xfrm>
          <a:custGeom>
            <a:avLst/>
            <a:gdLst/>
            <a:ahLst/>
            <a:rect l="l" t="t" r="r" b="b"/>
            <a:pathLst>
              <a:path w="349" h="869">
                <a:moveTo>
                  <a:pt x="11881" y="13171"/>
                </a:moveTo>
                <a:cubicBezTo>
                  <a:pt x="11881" y="13112"/>
                  <a:pt x="11822" y="13434"/>
                  <a:pt x="11807" y="13469"/>
                </a:cubicBezTo>
                <a:cubicBezTo>
                  <a:pt x="11790" y="13494"/>
                  <a:pt x="11774" y="13518"/>
                  <a:pt x="11757" y="13543"/>
                </a:cubicBezTo>
                <a:cubicBezTo>
                  <a:pt x="11870" y="13525"/>
                  <a:pt x="11964" y="13480"/>
                  <a:pt x="12080" y="13469"/>
                </a:cubicBezTo>
                <a:cubicBezTo>
                  <a:pt x="12088" y="13469"/>
                  <a:pt x="12097" y="13469"/>
                  <a:pt x="12105" y="13469"/>
                </a:cubicBezTo>
              </a:path>
              <a:path w="349" h="869">
                <a:moveTo>
                  <a:pt x="12080" y="12973"/>
                </a:moveTo>
                <a:cubicBezTo>
                  <a:pt x="12080" y="13130"/>
                  <a:pt x="12103" y="13285"/>
                  <a:pt x="12105" y="13444"/>
                </a:cubicBezTo>
                <a:cubicBezTo>
                  <a:pt x="12107" y="13576"/>
                  <a:pt x="12105" y="13709"/>
                  <a:pt x="12105" y="1384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5759280"/>
            <a:ext cx="544680" cy="642960"/>
          </a:xfrm>
          <a:custGeom>
            <a:avLst/>
            <a:gdLst/>
            <a:ahLst/>
            <a:rect l="l" t="t" r="r" b="b"/>
            <a:pathLst>
              <a:path w="1514" h="1787">
                <a:moveTo>
                  <a:pt x="13271" y="16049"/>
                </a:moveTo>
                <a:cubicBezTo>
                  <a:pt x="13154" y="16002"/>
                  <a:pt x="12925" y="16182"/>
                  <a:pt x="12824" y="16247"/>
                </a:cubicBezTo>
                <a:cubicBezTo>
                  <a:pt x="12791" y="16272"/>
                  <a:pt x="12758" y="16296"/>
                  <a:pt x="12725" y="16321"/>
                </a:cubicBezTo>
                <a:cubicBezTo>
                  <a:pt x="12823" y="16410"/>
                  <a:pt x="13166" y="16490"/>
                  <a:pt x="13171" y="16669"/>
                </a:cubicBezTo>
                <a:cubicBezTo>
                  <a:pt x="13175" y="16818"/>
                  <a:pt x="12972" y="16798"/>
                  <a:pt x="12898" y="16793"/>
                </a:cubicBezTo>
                <a:cubicBezTo>
                  <a:pt x="12937" y="16599"/>
                  <a:pt x="13026" y="16391"/>
                  <a:pt x="13146" y="16222"/>
                </a:cubicBezTo>
                <a:cubicBezTo>
                  <a:pt x="13146" y="16230"/>
                  <a:pt x="13146" y="16239"/>
                  <a:pt x="13146" y="16247"/>
                </a:cubicBezTo>
              </a:path>
              <a:path w="1514" h="1787">
                <a:moveTo>
                  <a:pt x="13444" y="16644"/>
                </a:moveTo>
                <a:cubicBezTo>
                  <a:pt x="13444" y="16677"/>
                  <a:pt x="13444" y="16693"/>
                  <a:pt x="13444" y="16718"/>
                </a:cubicBezTo>
              </a:path>
              <a:path w="1514" h="1787">
                <a:moveTo>
                  <a:pt x="13866" y="15999"/>
                </a:moveTo>
                <a:cubicBezTo>
                  <a:pt x="13840" y="16183"/>
                  <a:pt x="13767" y="16354"/>
                  <a:pt x="13767" y="16545"/>
                </a:cubicBezTo>
                <a:cubicBezTo>
                  <a:pt x="13767" y="16771"/>
                  <a:pt x="13987" y="16805"/>
                  <a:pt x="14139" y="16669"/>
                </a:cubicBezTo>
                <a:cubicBezTo>
                  <a:pt x="14201" y="16565"/>
                  <a:pt x="14226" y="16547"/>
                  <a:pt x="14213" y="16470"/>
                </a:cubicBezTo>
                <a:cubicBezTo>
                  <a:pt x="14055" y="16488"/>
                  <a:pt x="14035" y="16583"/>
                  <a:pt x="13965" y="16718"/>
                </a:cubicBezTo>
                <a:cubicBezTo>
                  <a:pt x="13957" y="16735"/>
                  <a:pt x="13948" y="16751"/>
                  <a:pt x="13940" y="16768"/>
                </a:cubicBezTo>
              </a:path>
              <a:path w="1514" h="1787">
                <a:moveTo>
                  <a:pt x="12700" y="17066"/>
                </a:moveTo>
                <a:cubicBezTo>
                  <a:pt x="13032" y="16976"/>
                  <a:pt x="13371" y="16950"/>
                  <a:pt x="13717" y="16942"/>
                </a:cubicBezTo>
                <a:cubicBezTo>
                  <a:pt x="13849" y="16942"/>
                  <a:pt x="13866" y="16942"/>
                  <a:pt x="13940" y="16942"/>
                </a:cubicBezTo>
              </a:path>
              <a:path w="1514" h="1787">
                <a:moveTo>
                  <a:pt x="13097" y="17289"/>
                </a:moveTo>
                <a:cubicBezTo>
                  <a:pt x="13267" y="17262"/>
                  <a:pt x="13361" y="17247"/>
                  <a:pt x="13519" y="17289"/>
                </a:cubicBezTo>
                <a:cubicBezTo>
                  <a:pt x="13425" y="17488"/>
                  <a:pt x="13277" y="17578"/>
                  <a:pt x="13097" y="17711"/>
                </a:cubicBezTo>
                <a:cubicBezTo>
                  <a:pt x="13298" y="17760"/>
                  <a:pt x="13429" y="17495"/>
                  <a:pt x="13543" y="17363"/>
                </a:cubicBezTo>
              </a:path>
              <a:path w="1514" h="1787">
                <a:moveTo>
                  <a:pt x="13419" y="16470"/>
                </a:moveTo>
                <a:cubicBezTo>
                  <a:pt x="13419" y="16399"/>
                  <a:pt x="13415" y="16654"/>
                  <a:pt x="13419" y="16669"/>
                </a:cubicBezTo>
                <a:cubicBezTo>
                  <a:pt x="13453" y="16703"/>
                  <a:pt x="13475" y="16712"/>
                  <a:pt x="13519" y="16694"/>
                </a:cubicBezTo>
                <a:cubicBezTo>
                  <a:pt x="13531" y="16618"/>
                  <a:pt x="13557" y="16491"/>
                  <a:pt x="13419" y="16545"/>
                </a:cubicBezTo>
                <a:cubicBezTo>
                  <a:pt x="13342" y="16576"/>
                  <a:pt x="13309" y="16740"/>
                  <a:pt x="13345" y="16718"/>
                </a:cubicBezTo>
                <a:cubicBezTo>
                  <a:pt x="13409" y="16679"/>
                  <a:pt x="13411" y="16633"/>
                  <a:pt x="13419" y="16570"/>
                </a:cubicBezTo>
                <a:cubicBezTo>
                  <a:pt x="13345" y="16600"/>
                  <a:pt x="13302" y="16776"/>
                  <a:pt x="13395" y="16694"/>
                </a:cubicBezTo>
                <a:cubicBezTo>
                  <a:pt x="13432" y="16637"/>
                  <a:pt x="13449" y="16634"/>
                  <a:pt x="13444" y="16594"/>
                </a:cubicBezTo>
              </a:path>
              <a:path w="1514" h="1787">
                <a:moveTo>
                  <a:pt x="13171" y="17785"/>
                </a:moveTo>
                <a:cubicBezTo>
                  <a:pt x="13248" y="17683"/>
                  <a:pt x="13415" y="17692"/>
                  <a:pt x="13543" y="17711"/>
                </a:cubicBezTo>
                <a:cubicBezTo>
                  <a:pt x="13630" y="17724"/>
                  <a:pt x="13618" y="17771"/>
                  <a:pt x="13618" y="1773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73800" y="3581280"/>
            <a:ext cx="9360" cy="98640"/>
          </a:xfrm>
          <a:custGeom>
            <a:avLst/>
            <a:gdLst/>
            <a:ahLst/>
            <a:rect l="l" t="t" r="r" b="b"/>
            <a:pathLst>
              <a:path w="26" h="274">
                <a:moveTo>
                  <a:pt x="15230" y="10220"/>
                </a:moveTo>
                <a:cubicBezTo>
                  <a:pt x="15214" y="10133"/>
                  <a:pt x="15205" y="10059"/>
                  <a:pt x="15205" y="9971"/>
                </a:cubicBezTo>
                <a:cubicBezTo>
                  <a:pt x="15205" y="9963"/>
                  <a:pt x="15205" y="9955"/>
                  <a:pt x="15205" y="9947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32240" y="3741840"/>
            <a:ext cx="216000" cy="1509480"/>
          </a:xfrm>
          <a:custGeom>
            <a:avLst/>
            <a:gdLst/>
            <a:ahLst/>
            <a:rect l="l" t="t" r="r" b="b"/>
            <a:pathLst>
              <a:path w="596" h="4193">
                <a:moveTo>
                  <a:pt x="14536" y="14585"/>
                </a:moveTo>
                <a:cubicBezTo>
                  <a:pt x="14536" y="14534"/>
                  <a:pt x="14537" y="14516"/>
                  <a:pt x="14560" y="14486"/>
                </a:cubicBezTo>
              </a:path>
              <a:path w="596" h="4193">
                <a:moveTo>
                  <a:pt x="14585" y="14114"/>
                </a:moveTo>
                <a:cubicBezTo>
                  <a:pt x="14585" y="14038"/>
                  <a:pt x="14585" y="14012"/>
                  <a:pt x="14610" y="13965"/>
                </a:cubicBezTo>
              </a:path>
              <a:path w="596" h="4193">
                <a:moveTo>
                  <a:pt x="14709" y="13717"/>
                </a:moveTo>
                <a:cubicBezTo>
                  <a:pt x="14749" y="13616"/>
                  <a:pt x="14764" y="13528"/>
                  <a:pt x="14784" y="13419"/>
                </a:cubicBezTo>
              </a:path>
              <a:path w="596" h="4193">
                <a:moveTo>
                  <a:pt x="14808" y="12849"/>
                </a:moveTo>
                <a:lnTo>
                  <a:pt x="14808" y="12849"/>
                </a:lnTo>
              </a:path>
              <a:path w="596" h="4193">
                <a:moveTo>
                  <a:pt x="14883" y="12601"/>
                </a:moveTo>
                <a:cubicBezTo>
                  <a:pt x="14853" y="12512"/>
                  <a:pt x="14845" y="12472"/>
                  <a:pt x="14858" y="12402"/>
                </a:cubicBezTo>
              </a:path>
              <a:path w="596" h="4193">
                <a:moveTo>
                  <a:pt x="14932" y="12154"/>
                </a:moveTo>
                <a:cubicBezTo>
                  <a:pt x="14959" y="12047"/>
                  <a:pt x="14969" y="12006"/>
                  <a:pt x="14982" y="11931"/>
                </a:cubicBezTo>
              </a:path>
              <a:path w="596" h="4193">
                <a:moveTo>
                  <a:pt x="14982" y="11931"/>
                </a:moveTo>
                <a:lnTo>
                  <a:pt x="14982" y="11931"/>
                </a:lnTo>
              </a:path>
              <a:path w="596" h="4193">
                <a:moveTo>
                  <a:pt x="15007" y="11633"/>
                </a:moveTo>
                <a:cubicBezTo>
                  <a:pt x="15007" y="11608"/>
                  <a:pt x="15007" y="11584"/>
                  <a:pt x="15007" y="11559"/>
                </a:cubicBezTo>
              </a:path>
              <a:path w="596" h="4193">
                <a:moveTo>
                  <a:pt x="15081" y="10616"/>
                </a:moveTo>
                <a:cubicBezTo>
                  <a:pt x="15098" y="10542"/>
                  <a:pt x="15114" y="10467"/>
                  <a:pt x="15131" y="1039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91080" y="3537000"/>
            <a:ext cx="617760" cy="34920"/>
          </a:xfrm>
          <a:custGeom>
            <a:avLst/>
            <a:gdLst/>
            <a:ahLst/>
            <a:rect l="l" t="t" r="r" b="b"/>
            <a:pathLst>
              <a:path w="1712" h="100">
                <a:moveTo>
                  <a:pt x="15255" y="9897"/>
                </a:moveTo>
                <a:cubicBezTo>
                  <a:pt x="15280" y="9880"/>
                  <a:pt x="15304" y="9864"/>
                  <a:pt x="15329" y="9847"/>
                </a:cubicBezTo>
              </a:path>
              <a:path w="1712" h="100">
                <a:moveTo>
                  <a:pt x="15329" y="9847"/>
                </a:moveTo>
                <a:lnTo>
                  <a:pt x="15329" y="9847"/>
                </a:lnTo>
              </a:path>
              <a:path w="1712" h="100">
                <a:moveTo>
                  <a:pt x="15974" y="9823"/>
                </a:moveTo>
                <a:cubicBezTo>
                  <a:pt x="15999" y="9823"/>
                  <a:pt x="16024" y="9823"/>
                  <a:pt x="16049" y="9823"/>
                </a:cubicBezTo>
              </a:path>
              <a:path w="1712" h="100">
                <a:moveTo>
                  <a:pt x="16520" y="9922"/>
                </a:moveTo>
                <a:cubicBezTo>
                  <a:pt x="16561" y="9914"/>
                  <a:pt x="16603" y="9905"/>
                  <a:pt x="16644" y="9897"/>
                </a:cubicBezTo>
              </a:path>
              <a:path w="1712" h="100">
                <a:moveTo>
                  <a:pt x="16644" y="9897"/>
                </a:moveTo>
                <a:lnTo>
                  <a:pt x="16644" y="9897"/>
                </a:lnTo>
              </a:path>
              <a:path w="1712" h="100">
                <a:moveTo>
                  <a:pt x="16867" y="9897"/>
                </a:moveTo>
                <a:cubicBezTo>
                  <a:pt x="16900" y="9905"/>
                  <a:pt x="16933" y="9914"/>
                  <a:pt x="16966" y="9922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86680" y="3598920"/>
            <a:ext cx="2071440" cy="81000"/>
          </a:xfrm>
          <a:custGeom>
            <a:avLst/>
            <a:gdLst/>
            <a:ahLst/>
            <a:rect l="l" t="t" r="r" b="b"/>
            <a:pathLst>
              <a:path w="5756" h="225">
                <a:moveTo>
                  <a:pt x="17462" y="9996"/>
                </a:moveTo>
                <a:lnTo>
                  <a:pt x="17462" y="9996"/>
                </a:lnTo>
              </a:path>
              <a:path w="5756" h="225">
                <a:moveTo>
                  <a:pt x="18380" y="10071"/>
                </a:moveTo>
                <a:cubicBezTo>
                  <a:pt x="18405" y="10079"/>
                  <a:pt x="18430" y="10088"/>
                  <a:pt x="18455" y="10096"/>
                </a:cubicBezTo>
              </a:path>
              <a:path w="5756" h="225">
                <a:moveTo>
                  <a:pt x="18455" y="10096"/>
                </a:moveTo>
                <a:lnTo>
                  <a:pt x="18455" y="10096"/>
                </a:lnTo>
              </a:path>
              <a:path w="5756" h="225">
                <a:moveTo>
                  <a:pt x="18901" y="10096"/>
                </a:moveTo>
                <a:cubicBezTo>
                  <a:pt x="18934" y="10096"/>
                  <a:pt x="18967" y="10096"/>
                  <a:pt x="19000" y="10096"/>
                </a:cubicBezTo>
              </a:path>
              <a:path w="5756" h="225">
                <a:moveTo>
                  <a:pt x="19323" y="10096"/>
                </a:moveTo>
                <a:cubicBezTo>
                  <a:pt x="19404" y="10122"/>
                  <a:pt x="19435" y="10130"/>
                  <a:pt x="19496" y="10120"/>
                </a:cubicBezTo>
              </a:path>
              <a:path w="5756" h="225">
                <a:moveTo>
                  <a:pt x="19496" y="10120"/>
                </a:moveTo>
                <a:lnTo>
                  <a:pt x="19496" y="10120"/>
                </a:lnTo>
              </a:path>
              <a:path w="5756" h="225">
                <a:moveTo>
                  <a:pt x="19893" y="10145"/>
                </a:moveTo>
                <a:cubicBezTo>
                  <a:pt x="19934" y="10145"/>
                  <a:pt x="19976" y="10145"/>
                  <a:pt x="20017" y="10145"/>
                </a:cubicBezTo>
              </a:path>
              <a:path w="5756" h="225">
                <a:moveTo>
                  <a:pt x="20414" y="10220"/>
                </a:moveTo>
                <a:cubicBezTo>
                  <a:pt x="20447" y="10203"/>
                  <a:pt x="20480" y="10187"/>
                  <a:pt x="20513" y="10170"/>
                </a:cubicBezTo>
              </a:path>
              <a:path w="5756" h="225">
                <a:moveTo>
                  <a:pt x="20513" y="10170"/>
                </a:moveTo>
                <a:lnTo>
                  <a:pt x="20513" y="10170"/>
                </a:lnTo>
              </a:path>
              <a:path w="5756" h="225">
                <a:moveTo>
                  <a:pt x="20886" y="10145"/>
                </a:moveTo>
                <a:cubicBezTo>
                  <a:pt x="20927" y="10137"/>
                  <a:pt x="20969" y="10128"/>
                  <a:pt x="21010" y="10120"/>
                </a:cubicBezTo>
              </a:path>
              <a:path w="5756" h="225">
                <a:moveTo>
                  <a:pt x="21357" y="10120"/>
                </a:moveTo>
                <a:cubicBezTo>
                  <a:pt x="21440" y="10120"/>
                  <a:pt x="21490" y="10115"/>
                  <a:pt x="21555" y="10096"/>
                </a:cubicBezTo>
              </a:path>
              <a:path w="5756" h="225">
                <a:moveTo>
                  <a:pt x="21555" y="10096"/>
                </a:moveTo>
                <a:lnTo>
                  <a:pt x="21555" y="10096"/>
                </a:lnTo>
              </a:path>
              <a:path w="5756" h="225">
                <a:moveTo>
                  <a:pt x="22523" y="10220"/>
                </a:moveTo>
                <a:cubicBezTo>
                  <a:pt x="22548" y="10220"/>
                  <a:pt x="22572" y="10220"/>
                  <a:pt x="22597" y="10220"/>
                </a:cubicBezTo>
              </a:path>
              <a:path w="5756" h="225">
                <a:moveTo>
                  <a:pt x="23217" y="10220"/>
                </a:moveTo>
                <a:cubicBezTo>
                  <a:pt x="23184" y="10187"/>
                  <a:pt x="23167" y="10170"/>
                  <a:pt x="23143" y="10145"/>
                </a:cubicBezTo>
              </a:path>
              <a:path w="5756" h="225">
                <a:moveTo>
                  <a:pt x="23143" y="10145"/>
                </a:moveTo>
                <a:lnTo>
                  <a:pt x="23143" y="10145"/>
                </a:lnTo>
              </a:path>
              <a:path w="5756" h="225">
                <a:moveTo>
                  <a:pt x="22870" y="10220"/>
                </a:moveTo>
                <a:cubicBezTo>
                  <a:pt x="22853" y="10195"/>
                  <a:pt x="22837" y="10170"/>
                  <a:pt x="22820" y="10145"/>
                </a:cubicBezTo>
              </a:path>
              <a:path w="5756" h="225">
                <a:moveTo>
                  <a:pt x="22572" y="10195"/>
                </a:moveTo>
                <a:cubicBezTo>
                  <a:pt x="22547" y="10178"/>
                  <a:pt x="22523" y="10162"/>
                  <a:pt x="22498" y="10145"/>
                </a:cubicBezTo>
              </a:path>
              <a:path w="5756" h="225">
                <a:moveTo>
                  <a:pt x="22498" y="10145"/>
                </a:moveTo>
                <a:lnTo>
                  <a:pt x="22498" y="10145"/>
                </a:ln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49960" y="3598920"/>
            <a:ext cx="250920" cy="17280"/>
          </a:xfrm>
          <a:custGeom>
            <a:avLst/>
            <a:gdLst/>
            <a:ahLst/>
            <a:rect l="l" t="t" r="r" b="b"/>
            <a:pathLst>
              <a:path w="696" h="51">
                <a:moveTo>
                  <a:pt x="17363" y="9996"/>
                </a:moveTo>
                <a:cubicBezTo>
                  <a:pt x="17396" y="9996"/>
                  <a:pt x="17429" y="9996"/>
                  <a:pt x="17462" y="9996"/>
                </a:cubicBezTo>
              </a:path>
              <a:path w="696" h="51">
                <a:moveTo>
                  <a:pt x="17636" y="9996"/>
                </a:moveTo>
                <a:cubicBezTo>
                  <a:pt x="17789" y="9996"/>
                  <a:pt x="17909" y="10013"/>
                  <a:pt x="18058" y="10046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40800" y="3643200"/>
            <a:ext cx="98280" cy="1800"/>
          </a:xfrm>
          <a:custGeom>
            <a:avLst/>
            <a:gdLst/>
            <a:ahLst/>
            <a:rect l="l" t="t" r="r" b="b"/>
            <a:pathLst>
              <a:path w="273" h="1">
                <a:moveTo>
                  <a:pt x="21779" y="10120"/>
                </a:moveTo>
                <a:cubicBezTo>
                  <a:pt x="21911" y="10120"/>
                  <a:pt x="21960" y="10120"/>
                  <a:pt x="22051" y="10120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13840" y="3714840"/>
            <a:ext cx="63360" cy="581040"/>
          </a:xfrm>
          <a:custGeom>
            <a:avLst/>
            <a:gdLst/>
            <a:ahLst/>
            <a:rect l="l" t="t" r="r" b="b"/>
            <a:pathLst>
              <a:path w="175" h="1613">
                <a:moveTo>
                  <a:pt x="23118" y="11931"/>
                </a:moveTo>
                <a:cubicBezTo>
                  <a:pt x="23140" y="11770"/>
                  <a:pt x="23163" y="11618"/>
                  <a:pt x="23118" y="11460"/>
                </a:cubicBezTo>
                <a:cubicBezTo>
                  <a:pt x="23078" y="11321"/>
                  <a:pt x="23133" y="11205"/>
                  <a:pt x="23168" y="11063"/>
                </a:cubicBezTo>
              </a:path>
              <a:path w="175" h="1613">
                <a:moveTo>
                  <a:pt x="23143" y="10889"/>
                </a:moveTo>
                <a:cubicBezTo>
                  <a:pt x="23175" y="10781"/>
                  <a:pt x="23288" y="10601"/>
                  <a:pt x="23267" y="10492"/>
                </a:cubicBezTo>
                <a:cubicBezTo>
                  <a:pt x="23255" y="10427"/>
                  <a:pt x="23223" y="10409"/>
                  <a:pt x="23217" y="1031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77120" y="4429080"/>
            <a:ext cx="54000" cy="1054080"/>
          </a:xfrm>
          <a:custGeom>
            <a:avLst/>
            <a:gdLst/>
            <a:ahLst/>
            <a:rect l="l" t="t" r="r" b="b"/>
            <a:pathLst>
              <a:path w="150" h="2928">
                <a:moveTo>
                  <a:pt x="22994" y="15230"/>
                </a:moveTo>
                <a:lnTo>
                  <a:pt x="22994" y="15230"/>
                </a:lnTo>
              </a:path>
              <a:path w="150" h="2928">
                <a:moveTo>
                  <a:pt x="22994" y="14536"/>
                </a:moveTo>
                <a:cubicBezTo>
                  <a:pt x="23011" y="14461"/>
                  <a:pt x="23027" y="14387"/>
                  <a:pt x="23044" y="14312"/>
                </a:cubicBezTo>
              </a:path>
              <a:path w="150" h="2928">
                <a:moveTo>
                  <a:pt x="23044" y="14312"/>
                </a:moveTo>
                <a:lnTo>
                  <a:pt x="23044" y="14312"/>
                </a:lnTo>
              </a:path>
              <a:path w="150" h="2928">
                <a:moveTo>
                  <a:pt x="23093" y="13940"/>
                </a:moveTo>
                <a:cubicBezTo>
                  <a:pt x="23101" y="13890"/>
                  <a:pt x="23110" y="13841"/>
                  <a:pt x="23118" y="13791"/>
                </a:cubicBezTo>
              </a:path>
              <a:path w="150" h="2928">
                <a:moveTo>
                  <a:pt x="23068" y="13568"/>
                </a:moveTo>
                <a:cubicBezTo>
                  <a:pt x="23068" y="13510"/>
                  <a:pt x="23068" y="13453"/>
                  <a:pt x="23068" y="13395"/>
                </a:cubicBezTo>
              </a:path>
              <a:path w="150" h="2928">
                <a:moveTo>
                  <a:pt x="23068" y="13395"/>
                </a:moveTo>
                <a:lnTo>
                  <a:pt x="23068" y="13395"/>
                </a:lnTo>
              </a:path>
              <a:path w="150" h="2928">
                <a:moveTo>
                  <a:pt x="23093" y="13122"/>
                </a:moveTo>
                <a:cubicBezTo>
                  <a:pt x="23093" y="12997"/>
                  <a:pt x="23097" y="12939"/>
                  <a:pt x="23118" y="12849"/>
                </a:cubicBezTo>
              </a:path>
              <a:path w="150" h="2928">
                <a:moveTo>
                  <a:pt x="23118" y="12650"/>
                </a:moveTo>
                <a:cubicBezTo>
                  <a:pt x="23090" y="12484"/>
                  <a:pt x="23086" y="12417"/>
                  <a:pt x="23143" y="12303"/>
                </a:cubicBezTo>
              </a:path>
              <a:path w="150" h="2928">
                <a:moveTo>
                  <a:pt x="23143" y="12303"/>
                </a:moveTo>
                <a:lnTo>
                  <a:pt x="23143" y="12303"/>
                </a:ln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53200" y="5715000"/>
            <a:ext cx="187560" cy="241200"/>
          </a:xfrm>
          <a:custGeom>
            <a:avLst/>
            <a:gdLst/>
            <a:ahLst/>
            <a:rect l="l" t="t" r="r" b="b"/>
            <a:pathLst>
              <a:path w="521" h="671">
                <a:moveTo>
                  <a:pt x="20216" y="15900"/>
                </a:moveTo>
                <a:cubicBezTo>
                  <a:pt x="20299" y="15879"/>
                  <a:pt x="20146" y="15840"/>
                  <a:pt x="20067" y="15875"/>
                </a:cubicBezTo>
                <a:cubicBezTo>
                  <a:pt x="19965" y="15920"/>
                  <a:pt x="19899" y="16008"/>
                  <a:pt x="19869" y="16098"/>
                </a:cubicBezTo>
                <a:cubicBezTo>
                  <a:pt x="20030" y="16156"/>
                  <a:pt x="20462" y="16218"/>
                  <a:pt x="20389" y="16470"/>
                </a:cubicBezTo>
                <a:cubicBezTo>
                  <a:pt x="20364" y="16495"/>
                  <a:pt x="20340" y="16520"/>
                  <a:pt x="20315" y="16545"/>
                </a:cubicBezTo>
                <a:cubicBezTo>
                  <a:pt x="20083" y="16487"/>
                  <a:pt x="20161" y="16354"/>
                  <a:pt x="20191" y="16148"/>
                </a:cubicBezTo>
                <a:cubicBezTo>
                  <a:pt x="20212" y="16004"/>
                  <a:pt x="20262" y="15917"/>
                  <a:pt x="20191" y="1587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87880" y="5983200"/>
            <a:ext cx="162000" cy="44640"/>
          </a:xfrm>
          <a:custGeom>
            <a:avLst/>
            <a:gdLst/>
            <a:ahLst/>
            <a:rect l="l" t="t" r="r" b="b"/>
            <a:pathLst>
              <a:path w="448" h="125">
                <a:moveTo>
                  <a:pt x="11633" y="16619"/>
                </a:moveTo>
                <a:cubicBezTo>
                  <a:pt x="11782" y="16661"/>
                  <a:pt x="11931" y="16701"/>
                  <a:pt x="12080" y="1674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 the Area of the triang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EX1.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b= 4ft  h= 11f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438280" y="2895480"/>
          <a:ext cx="116856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895480"/>
                    <a:ext cx="116856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565360" y="1371600"/>
          <a:ext cx="914400" cy="37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65360" y="1371600"/>
                    <a:ext cx="9144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209680" y="3962520"/>
          <a:ext cx="1600200" cy="93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962520"/>
                    <a:ext cx="160020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2362320" y="4952880"/>
          <a:ext cx="1168200" cy="939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4952880"/>
                    <a:ext cx="116820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286000" y="6019920"/>
          <a:ext cx="1574640" cy="50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0" y="6019920"/>
                    <a:ext cx="1574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 the Area of the triangle: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)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2m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 12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 1.5cm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 4c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.)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5yd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 8y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4.)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12km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 4k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54800" y="2303640"/>
            <a:ext cx="2446200" cy="295200"/>
          </a:xfrm>
          <a:custGeom>
            <a:avLst/>
            <a:gdLst/>
            <a:ahLst/>
            <a:rect l="l" t="t" r="r" b="b"/>
            <a:pathLst>
              <a:path w="6797" h="819">
                <a:moveTo>
                  <a:pt x="15429" y="7144"/>
                </a:moveTo>
                <a:cubicBezTo>
                  <a:pt x="15583" y="7108"/>
                  <a:pt x="15632" y="7080"/>
                  <a:pt x="15776" y="7119"/>
                </a:cubicBezTo>
              </a:path>
              <a:path w="6797" h="819">
                <a:moveTo>
                  <a:pt x="16495" y="7094"/>
                </a:moveTo>
                <a:cubicBezTo>
                  <a:pt x="16583" y="7050"/>
                  <a:pt x="16605" y="7034"/>
                  <a:pt x="16669" y="7045"/>
                </a:cubicBezTo>
              </a:path>
              <a:path w="6797" h="819">
                <a:moveTo>
                  <a:pt x="16421" y="7218"/>
                </a:moveTo>
                <a:cubicBezTo>
                  <a:pt x="16565" y="7189"/>
                  <a:pt x="16625" y="7173"/>
                  <a:pt x="16718" y="7119"/>
                </a:cubicBezTo>
              </a:path>
              <a:path w="6797" h="819">
                <a:moveTo>
                  <a:pt x="16718" y="7119"/>
                </a:moveTo>
                <a:lnTo>
                  <a:pt x="16718" y="7119"/>
                </a:lnTo>
              </a:path>
              <a:path w="6797" h="819">
                <a:moveTo>
                  <a:pt x="19025" y="6573"/>
                </a:moveTo>
                <a:cubicBezTo>
                  <a:pt x="19006" y="6674"/>
                  <a:pt x="18893" y="6960"/>
                  <a:pt x="19075" y="6970"/>
                </a:cubicBezTo>
                <a:cubicBezTo>
                  <a:pt x="19116" y="6962"/>
                  <a:pt x="19158" y="6953"/>
                  <a:pt x="19199" y="6945"/>
                </a:cubicBezTo>
              </a:path>
              <a:path w="6797" h="819">
                <a:moveTo>
                  <a:pt x="19769" y="6499"/>
                </a:moveTo>
                <a:cubicBezTo>
                  <a:pt x="19941" y="6785"/>
                  <a:pt x="19925" y="6853"/>
                  <a:pt x="19645" y="7045"/>
                </a:cubicBezTo>
              </a:path>
              <a:path w="6797" h="819">
                <a:moveTo>
                  <a:pt x="20935" y="6474"/>
                </a:moveTo>
                <a:cubicBezTo>
                  <a:pt x="20945" y="6555"/>
                  <a:pt x="20993" y="6654"/>
                  <a:pt x="21109" y="6598"/>
                </a:cubicBezTo>
                <a:cubicBezTo>
                  <a:pt x="21188" y="6519"/>
                  <a:pt x="21212" y="6488"/>
                  <a:pt x="21183" y="6400"/>
                </a:cubicBezTo>
              </a:path>
              <a:path w="6797" h="819">
                <a:moveTo>
                  <a:pt x="21630" y="7119"/>
                </a:moveTo>
                <a:cubicBezTo>
                  <a:pt x="21696" y="7094"/>
                  <a:pt x="21762" y="7070"/>
                  <a:pt x="21828" y="7045"/>
                </a:cubicBezTo>
              </a:path>
              <a:path w="6797" h="819">
                <a:moveTo>
                  <a:pt x="21828" y="7045"/>
                </a:moveTo>
                <a:lnTo>
                  <a:pt x="21828" y="7045"/>
                </a:lnTo>
              </a:path>
              <a:path w="6797" h="819">
                <a:moveTo>
                  <a:pt x="22175" y="6796"/>
                </a:moveTo>
                <a:cubicBezTo>
                  <a:pt x="22193" y="6895"/>
                  <a:pt x="22215" y="6995"/>
                  <a:pt x="22225" y="709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00800" y="2394000"/>
            <a:ext cx="179280" cy="258840"/>
          </a:xfrm>
          <a:custGeom>
            <a:avLst/>
            <a:gdLst/>
            <a:ahLst/>
            <a:rect l="l" t="t" r="r" b="b"/>
            <a:pathLst>
              <a:path w="497" h="720">
                <a:moveTo>
                  <a:pt x="15478" y="6697"/>
                </a:moveTo>
                <a:cubicBezTo>
                  <a:pt x="15446" y="6923"/>
                  <a:pt x="15349" y="7105"/>
                  <a:pt x="15280" y="7317"/>
                </a:cubicBezTo>
                <a:cubicBezTo>
                  <a:pt x="15280" y="7334"/>
                  <a:pt x="15280" y="7350"/>
                  <a:pt x="15280" y="7367"/>
                </a:cubicBezTo>
                <a:cubicBezTo>
                  <a:pt x="15396" y="7148"/>
                  <a:pt x="15476" y="6910"/>
                  <a:pt x="15602" y="6697"/>
                </a:cubicBezTo>
                <a:cubicBezTo>
                  <a:pt x="15619" y="6681"/>
                  <a:pt x="15635" y="6664"/>
                  <a:pt x="15652" y="6648"/>
                </a:cubicBezTo>
                <a:cubicBezTo>
                  <a:pt x="15695" y="6821"/>
                  <a:pt x="15783" y="7040"/>
                  <a:pt x="15776" y="7218"/>
                </a:cubicBezTo>
                <a:cubicBezTo>
                  <a:pt x="15768" y="7226"/>
                  <a:pt x="15759" y="7235"/>
                  <a:pt x="15751" y="724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70760" y="2384280"/>
            <a:ext cx="258480" cy="339840"/>
          </a:xfrm>
          <a:custGeom>
            <a:avLst/>
            <a:gdLst/>
            <a:ahLst/>
            <a:rect l="l" t="t" r="r" b="b"/>
            <a:pathLst>
              <a:path w="720" h="943">
                <a:moveTo>
                  <a:pt x="17140" y="6623"/>
                </a:moveTo>
                <a:cubicBezTo>
                  <a:pt x="17160" y="6742"/>
                  <a:pt x="17177" y="6857"/>
                  <a:pt x="17214" y="6970"/>
                </a:cubicBezTo>
                <a:cubicBezTo>
                  <a:pt x="17214" y="6892"/>
                  <a:pt x="17203" y="6834"/>
                  <a:pt x="17289" y="6821"/>
                </a:cubicBezTo>
                <a:cubicBezTo>
                  <a:pt x="17381" y="6821"/>
                  <a:pt x="17412" y="6815"/>
                  <a:pt x="17413" y="6896"/>
                </a:cubicBezTo>
                <a:cubicBezTo>
                  <a:pt x="17404" y="6911"/>
                  <a:pt x="17224" y="7100"/>
                  <a:pt x="17214" y="6970"/>
                </a:cubicBezTo>
                <a:cubicBezTo>
                  <a:pt x="17222" y="6954"/>
                  <a:pt x="17231" y="6937"/>
                  <a:pt x="17239" y="6921"/>
                </a:cubicBezTo>
              </a:path>
              <a:path w="720" h="943">
                <a:moveTo>
                  <a:pt x="17537" y="6648"/>
                </a:moveTo>
                <a:cubicBezTo>
                  <a:pt x="17554" y="6739"/>
                  <a:pt x="17585" y="6829"/>
                  <a:pt x="17611" y="6921"/>
                </a:cubicBezTo>
                <a:cubicBezTo>
                  <a:pt x="17611" y="6876"/>
                  <a:pt x="17606" y="6750"/>
                  <a:pt x="17686" y="6772"/>
                </a:cubicBezTo>
                <a:cubicBezTo>
                  <a:pt x="17815" y="6807"/>
                  <a:pt x="17896" y="6893"/>
                  <a:pt x="17810" y="6995"/>
                </a:cubicBezTo>
              </a:path>
              <a:path w="720" h="943">
                <a:moveTo>
                  <a:pt x="17239" y="7144"/>
                </a:moveTo>
                <a:cubicBezTo>
                  <a:pt x="17425" y="7078"/>
                  <a:pt x="17586" y="7069"/>
                  <a:pt x="17785" y="7069"/>
                </a:cubicBezTo>
              </a:path>
              <a:path w="720" h="943">
                <a:moveTo>
                  <a:pt x="17413" y="7317"/>
                </a:moveTo>
                <a:cubicBezTo>
                  <a:pt x="17496" y="7317"/>
                  <a:pt x="17512" y="7317"/>
                  <a:pt x="17562" y="7317"/>
                </a:cubicBezTo>
                <a:cubicBezTo>
                  <a:pt x="17518" y="7390"/>
                  <a:pt x="17420" y="7459"/>
                  <a:pt x="17363" y="7541"/>
                </a:cubicBezTo>
                <a:cubicBezTo>
                  <a:pt x="17413" y="7589"/>
                  <a:pt x="17533" y="7560"/>
                  <a:pt x="17611" y="7516"/>
                </a:cubicBezTo>
                <a:cubicBezTo>
                  <a:pt x="17619" y="7508"/>
                  <a:pt x="17628" y="7499"/>
                  <a:pt x="17636" y="749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53160" y="2401920"/>
            <a:ext cx="125640" cy="108000"/>
          </a:xfrm>
          <a:custGeom>
            <a:avLst/>
            <a:gdLst/>
            <a:ahLst/>
            <a:rect l="l" t="t" r="r" b="b"/>
            <a:pathLst>
              <a:path w="349" h="299">
                <a:moveTo>
                  <a:pt x="18504" y="6697"/>
                </a:moveTo>
                <a:cubicBezTo>
                  <a:pt x="18617" y="6683"/>
                  <a:pt x="18773" y="6662"/>
                  <a:pt x="18752" y="6846"/>
                </a:cubicBezTo>
                <a:cubicBezTo>
                  <a:pt x="18733" y="7013"/>
                  <a:pt x="18573" y="6973"/>
                  <a:pt x="18479" y="6921"/>
                </a:cubicBezTo>
                <a:cubicBezTo>
                  <a:pt x="18605" y="6930"/>
                  <a:pt x="18709" y="6965"/>
                  <a:pt x="18827" y="694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939000" y="2384280"/>
            <a:ext cx="169920" cy="108000"/>
          </a:xfrm>
          <a:custGeom>
            <a:avLst/>
            <a:gdLst/>
            <a:ahLst/>
            <a:rect l="l" t="t" r="r" b="b"/>
            <a:pathLst>
              <a:path w="473" h="299">
                <a:moveTo>
                  <a:pt x="19273" y="6648"/>
                </a:moveTo>
                <a:cubicBezTo>
                  <a:pt x="19282" y="6728"/>
                  <a:pt x="19291" y="6878"/>
                  <a:pt x="19323" y="6921"/>
                </a:cubicBezTo>
              </a:path>
              <a:path w="473" h="299">
                <a:moveTo>
                  <a:pt x="19372" y="6648"/>
                </a:moveTo>
                <a:cubicBezTo>
                  <a:pt x="19525" y="6617"/>
                  <a:pt x="19635" y="6606"/>
                  <a:pt x="19546" y="6796"/>
                </a:cubicBezTo>
                <a:cubicBezTo>
                  <a:pt x="19468" y="6963"/>
                  <a:pt x="19630" y="6839"/>
                  <a:pt x="19745" y="6796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67760" y="2295360"/>
            <a:ext cx="276120" cy="384480"/>
          </a:xfrm>
          <a:custGeom>
            <a:avLst/>
            <a:gdLst/>
            <a:ahLst/>
            <a:rect l="l" t="t" r="r" b="b"/>
            <a:pathLst>
              <a:path w="770" h="1067">
                <a:moveTo>
                  <a:pt x="20464" y="6499"/>
                </a:moveTo>
                <a:cubicBezTo>
                  <a:pt x="20575" y="6518"/>
                  <a:pt x="20876" y="6587"/>
                  <a:pt x="20762" y="6772"/>
                </a:cubicBezTo>
                <a:cubicBezTo>
                  <a:pt x="20662" y="6846"/>
                  <a:pt x="20629" y="6871"/>
                  <a:pt x="20538" y="6846"/>
                </a:cubicBezTo>
                <a:cubicBezTo>
                  <a:pt x="20508" y="6816"/>
                  <a:pt x="20503" y="6802"/>
                  <a:pt x="20538" y="6772"/>
                </a:cubicBezTo>
                <a:cubicBezTo>
                  <a:pt x="20676" y="6780"/>
                  <a:pt x="20747" y="6823"/>
                  <a:pt x="20861" y="6772"/>
                </a:cubicBezTo>
              </a:path>
              <a:path w="770" h="1067">
                <a:moveTo>
                  <a:pt x="21158" y="6375"/>
                </a:moveTo>
                <a:cubicBezTo>
                  <a:pt x="21164" y="6508"/>
                  <a:pt x="21210" y="6664"/>
                  <a:pt x="21183" y="6796"/>
                </a:cubicBezTo>
                <a:cubicBezTo>
                  <a:pt x="21175" y="6821"/>
                  <a:pt x="21166" y="6846"/>
                  <a:pt x="21158" y="6871"/>
                </a:cubicBezTo>
              </a:path>
              <a:path w="770" h="1067">
                <a:moveTo>
                  <a:pt x="20638" y="6995"/>
                </a:moveTo>
                <a:cubicBezTo>
                  <a:pt x="20835" y="6942"/>
                  <a:pt x="21032" y="6884"/>
                  <a:pt x="21233" y="6921"/>
                </a:cubicBezTo>
                <a:cubicBezTo>
                  <a:pt x="21225" y="6921"/>
                  <a:pt x="21216" y="6921"/>
                  <a:pt x="21208" y="6921"/>
                </a:cubicBezTo>
              </a:path>
              <a:path w="770" h="1067">
                <a:moveTo>
                  <a:pt x="20886" y="7169"/>
                </a:moveTo>
                <a:cubicBezTo>
                  <a:pt x="20982" y="7169"/>
                  <a:pt x="21012" y="7167"/>
                  <a:pt x="21059" y="7218"/>
                </a:cubicBezTo>
                <a:cubicBezTo>
                  <a:pt x="20986" y="7385"/>
                  <a:pt x="20949" y="7445"/>
                  <a:pt x="20762" y="7417"/>
                </a:cubicBezTo>
                <a:cubicBezTo>
                  <a:pt x="20853" y="7308"/>
                  <a:pt x="20926" y="7353"/>
                  <a:pt x="21059" y="7367"/>
                </a:cubicBezTo>
                <a:cubicBezTo>
                  <a:pt x="21084" y="7367"/>
                  <a:pt x="21109" y="7367"/>
                  <a:pt x="21134" y="7367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786800" y="2500200"/>
            <a:ext cx="90360" cy="1800"/>
          </a:xfrm>
          <a:custGeom>
            <a:avLst/>
            <a:gdLst/>
            <a:ahLst/>
            <a:rect l="l" t="t" r="r" b="b"/>
            <a:pathLst>
              <a:path w="249" h="1">
                <a:moveTo>
                  <a:pt x="21630" y="6945"/>
                </a:moveTo>
                <a:cubicBezTo>
                  <a:pt x="21713" y="6945"/>
                  <a:pt x="21795" y="6945"/>
                  <a:pt x="21878" y="694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72280" y="2268360"/>
            <a:ext cx="563760" cy="295560"/>
          </a:xfrm>
          <a:custGeom>
            <a:avLst/>
            <a:gdLst/>
            <a:ahLst/>
            <a:rect l="l" t="t" r="r" b="b"/>
            <a:pathLst>
              <a:path w="1564" h="820">
                <a:moveTo>
                  <a:pt x="22423" y="6697"/>
                </a:moveTo>
                <a:cubicBezTo>
                  <a:pt x="22572" y="6759"/>
                  <a:pt x="22921" y="6888"/>
                  <a:pt x="22671" y="7094"/>
                </a:cubicBezTo>
                <a:cubicBezTo>
                  <a:pt x="22580" y="7117"/>
                  <a:pt x="22554" y="7128"/>
                  <a:pt x="22498" y="7094"/>
                </a:cubicBezTo>
                <a:cubicBezTo>
                  <a:pt x="22600" y="6993"/>
                  <a:pt x="22624" y="7074"/>
                  <a:pt x="22746" y="7045"/>
                </a:cubicBezTo>
                <a:cubicBezTo>
                  <a:pt x="22763" y="7037"/>
                  <a:pt x="22779" y="7028"/>
                  <a:pt x="22796" y="7020"/>
                </a:cubicBezTo>
              </a:path>
              <a:path w="1564" h="820">
                <a:moveTo>
                  <a:pt x="23019" y="6821"/>
                </a:moveTo>
                <a:cubicBezTo>
                  <a:pt x="23032" y="6870"/>
                  <a:pt x="23044" y="6972"/>
                  <a:pt x="23044" y="6921"/>
                </a:cubicBezTo>
                <a:cubicBezTo>
                  <a:pt x="23066" y="6808"/>
                  <a:pt x="23116" y="6808"/>
                  <a:pt x="23217" y="6871"/>
                </a:cubicBezTo>
                <a:cubicBezTo>
                  <a:pt x="23234" y="6888"/>
                  <a:pt x="23250" y="6904"/>
                  <a:pt x="23267" y="6921"/>
                </a:cubicBezTo>
                <a:cubicBezTo>
                  <a:pt x="23267" y="6853"/>
                  <a:pt x="23282" y="6722"/>
                  <a:pt x="23391" y="6772"/>
                </a:cubicBezTo>
                <a:cubicBezTo>
                  <a:pt x="23471" y="6809"/>
                  <a:pt x="23499" y="6899"/>
                  <a:pt x="23515" y="6970"/>
                </a:cubicBezTo>
              </a:path>
              <a:path w="1564" h="820">
                <a:moveTo>
                  <a:pt x="23589" y="6325"/>
                </a:moveTo>
                <a:cubicBezTo>
                  <a:pt x="23628" y="6316"/>
                  <a:pt x="23892" y="6251"/>
                  <a:pt x="23837" y="6375"/>
                </a:cubicBezTo>
                <a:cubicBezTo>
                  <a:pt x="23767" y="6469"/>
                  <a:pt x="23746" y="6498"/>
                  <a:pt x="23688" y="6548"/>
                </a:cubicBezTo>
                <a:cubicBezTo>
                  <a:pt x="23680" y="6548"/>
                  <a:pt x="23672" y="6548"/>
                  <a:pt x="23664" y="6548"/>
                </a:cubicBezTo>
                <a:cubicBezTo>
                  <a:pt x="23767" y="6548"/>
                  <a:pt x="23901" y="6528"/>
                  <a:pt x="23986" y="6548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97360" y="2571840"/>
            <a:ext cx="169920" cy="125280"/>
          </a:xfrm>
          <a:custGeom>
            <a:avLst/>
            <a:gdLst/>
            <a:ahLst/>
            <a:rect l="l" t="t" r="r" b="b"/>
            <a:pathLst>
              <a:path w="473" h="348">
                <a:moveTo>
                  <a:pt x="16073" y="7193"/>
                </a:moveTo>
                <a:cubicBezTo>
                  <a:pt x="16058" y="7284"/>
                  <a:pt x="16016" y="7401"/>
                  <a:pt x="15949" y="7466"/>
                </a:cubicBezTo>
                <a:cubicBezTo>
                  <a:pt x="15869" y="7544"/>
                  <a:pt x="16057" y="7274"/>
                  <a:pt x="16098" y="7169"/>
                </a:cubicBezTo>
                <a:cubicBezTo>
                  <a:pt x="16098" y="7161"/>
                  <a:pt x="16098" y="7152"/>
                  <a:pt x="16098" y="7144"/>
                </a:cubicBezTo>
                <a:cubicBezTo>
                  <a:pt x="16170" y="7215"/>
                  <a:pt x="16245" y="7307"/>
                  <a:pt x="16297" y="7392"/>
                </a:cubicBezTo>
                <a:cubicBezTo>
                  <a:pt x="16297" y="7400"/>
                  <a:pt x="16297" y="7409"/>
                  <a:pt x="16297" y="7417"/>
                </a:cubicBezTo>
                <a:cubicBezTo>
                  <a:pt x="16193" y="7451"/>
                  <a:pt x="15925" y="7528"/>
                  <a:pt x="15825" y="7491"/>
                </a:cubicBezTo>
                <a:cubicBezTo>
                  <a:pt x="15825" y="7474"/>
                  <a:pt x="15825" y="7458"/>
                  <a:pt x="15825" y="744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83240" y="2571840"/>
            <a:ext cx="714600" cy="63360"/>
          </a:xfrm>
          <a:custGeom>
            <a:avLst/>
            <a:gdLst/>
            <a:ahLst/>
            <a:rect l="l" t="t" r="r" b="b"/>
            <a:pathLst>
              <a:path w="1986" h="174">
                <a:moveTo>
                  <a:pt x="18033" y="7218"/>
                </a:moveTo>
                <a:cubicBezTo>
                  <a:pt x="18094" y="7194"/>
                  <a:pt x="18230" y="7121"/>
                  <a:pt x="18207" y="7193"/>
                </a:cubicBezTo>
              </a:path>
              <a:path w="1986" h="174">
                <a:moveTo>
                  <a:pt x="18008" y="7317"/>
                </a:moveTo>
                <a:cubicBezTo>
                  <a:pt x="18142" y="7291"/>
                  <a:pt x="18193" y="7280"/>
                  <a:pt x="18281" y="7243"/>
                </a:cubicBezTo>
              </a:path>
              <a:path w="1986" h="174">
                <a:moveTo>
                  <a:pt x="18281" y="7243"/>
                </a:moveTo>
                <a:lnTo>
                  <a:pt x="18281" y="7243"/>
                </a:lnTo>
              </a:path>
              <a:path w="1986" h="174">
                <a:moveTo>
                  <a:pt x="19844" y="7193"/>
                </a:moveTo>
                <a:cubicBezTo>
                  <a:pt x="19910" y="7164"/>
                  <a:pt x="19934" y="7149"/>
                  <a:pt x="19993" y="7169"/>
                </a:cubicBezTo>
              </a:path>
              <a:path w="1986" h="174">
                <a:moveTo>
                  <a:pt x="19844" y="7268"/>
                </a:moveTo>
                <a:cubicBezTo>
                  <a:pt x="19894" y="7251"/>
                  <a:pt x="19943" y="7235"/>
                  <a:pt x="19993" y="7218"/>
                </a:cubicBezTo>
              </a:path>
              <a:path w="1986" h="174">
                <a:moveTo>
                  <a:pt x="19993" y="7218"/>
                </a:moveTo>
                <a:lnTo>
                  <a:pt x="19993" y="7218"/>
                </a:ln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32720" y="2536920"/>
            <a:ext cx="295200" cy="195120"/>
          </a:xfrm>
          <a:custGeom>
            <a:avLst/>
            <a:gdLst/>
            <a:ahLst/>
            <a:rect l="l" t="t" r="r" b="b"/>
            <a:pathLst>
              <a:path w="819" h="546">
                <a:moveTo>
                  <a:pt x="18703" y="7144"/>
                </a:moveTo>
                <a:cubicBezTo>
                  <a:pt x="18979" y="7098"/>
                  <a:pt x="19241" y="7045"/>
                  <a:pt x="19521" y="7045"/>
                </a:cubicBezTo>
              </a:path>
              <a:path w="819" h="546">
                <a:moveTo>
                  <a:pt x="18976" y="7317"/>
                </a:moveTo>
                <a:cubicBezTo>
                  <a:pt x="19067" y="7295"/>
                  <a:pt x="19093" y="7284"/>
                  <a:pt x="19149" y="7317"/>
                </a:cubicBezTo>
                <a:cubicBezTo>
                  <a:pt x="19120" y="7448"/>
                  <a:pt x="19026" y="7500"/>
                  <a:pt x="18926" y="7590"/>
                </a:cubicBezTo>
                <a:cubicBezTo>
                  <a:pt x="19040" y="7576"/>
                  <a:pt x="19135" y="7546"/>
                  <a:pt x="19248" y="7516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49880" y="3402000"/>
            <a:ext cx="2278080" cy="250920"/>
          </a:xfrm>
          <a:custGeom>
            <a:avLst/>
            <a:gdLst/>
            <a:ahLst/>
            <a:rect l="l" t="t" r="r" b="b"/>
            <a:pathLst>
              <a:path w="6326" h="695">
                <a:moveTo>
                  <a:pt x="14585" y="10145"/>
                </a:moveTo>
                <a:cubicBezTo>
                  <a:pt x="14727" y="10101"/>
                  <a:pt x="14860" y="10072"/>
                  <a:pt x="15007" y="10046"/>
                </a:cubicBezTo>
              </a:path>
              <a:path w="6326" h="695">
                <a:moveTo>
                  <a:pt x="15553" y="9798"/>
                </a:moveTo>
                <a:cubicBezTo>
                  <a:pt x="15679" y="9758"/>
                  <a:pt x="15734" y="9694"/>
                  <a:pt x="15751" y="9798"/>
                </a:cubicBezTo>
              </a:path>
              <a:path w="6326" h="695">
                <a:moveTo>
                  <a:pt x="15602" y="9947"/>
                </a:moveTo>
                <a:cubicBezTo>
                  <a:pt x="15756" y="9921"/>
                  <a:pt x="15811" y="9910"/>
                  <a:pt x="15900" y="9847"/>
                </a:cubicBezTo>
              </a:path>
              <a:path w="6326" h="695">
                <a:moveTo>
                  <a:pt x="15900" y="9847"/>
                </a:moveTo>
                <a:lnTo>
                  <a:pt x="15900" y="9847"/>
                </a:lnTo>
              </a:path>
              <a:path w="6326" h="695">
                <a:moveTo>
                  <a:pt x="17090" y="9823"/>
                </a:moveTo>
                <a:cubicBezTo>
                  <a:pt x="17164" y="9804"/>
                  <a:pt x="17239" y="9784"/>
                  <a:pt x="17314" y="9773"/>
                </a:cubicBezTo>
              </a:path>
              <a:path w="6326" h="695">
                <a:moveTo>
                  <a:pt x="17041" y="9922"/>
                </a:moveTo>
                <a:cubicBezTo>
                  <a:pt x="17160" y="9898"/>
                  <a:pt x="17197" y="9892"/>
                  <a:pt x="17264" y="9847"/>
                </a:cubicBezTo>
              </a:path>
              <a:path w="6326" h="695">
                <a:moveTo>
                  <a:pt x="17760" y="9500"/>
                </a:moveTo>
                <a:cubicBezTo>
                  <a:pt x="17806" y="9500"/>
                  <a:pt x="17832" y="9488"/>
                  <a:pt x="17859" y="9451"/>
                </a:cubicBezTo>
              </a:path>
              <a:path w="6326" h="695">
                <a:moveTo>
                  <a:pt x="19645" y="9649"/>
                </a:moveTo>
                <a:cubicBezTo>
                  <a:pt x="19736" y="9626"/>
                  <a:pt x="19759" y="9618"/>
                  <a:pt x="19819" y="9624"/>
                </a:cubicBezTo>
              </a:path>
              <a:path w="6326" h="695">
                <a:moveTo>
                  <a:pt x="19621" y="9748"/>
                </a:moveTo>
                <a:cubicBezTo>
                  <a:pt x="19714" y="9739"/>
                  <a:pt x="19762" y="9717"/>
                  <a:pt x="19844" y="9674"/>
                </a:cubicBezTo>
              </a:path>
              <a:path w="6326" h="695">
                <a:moveTo>
                  <a:pt x="20389" y="9624"/>
                </a:moveTo>
                <a:cubicBezTo>
                  <a:pt x="20566" y="9555"/>
                  <a:pt x="20720" y="9496"/>
                  <a:pt x="20910" y="947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32240" y="3411360"/>
            <a:ext cx="277920" cy="330480"/>
          </a:xfrm>
          <a:custGeom>
            <a:avLst/>
            <a:gdLst/>
            <a:ahLst/>
            <a:rect l="l" t="t" r="r" b="b"/>
            <a:pathLst>
              <a:path w="769" h="919">
                <a:moveTo>
                  <a:pt x="14610" y="9847"/>
                </a:moveTo>
                <a:cubicBezTo>
                  <a:pt x="14566" y="10045"/>
                  <a:pt x="14553" y="10094"/>
                  <a:pt x="14536" y="10220"/>
                </a:cubicBezTo>
                <a:cubicBezTo>
                  <a:pt x="14536" y="10349"/>
                  <a:pt x="14648" y="9803"/>
                  <a:pt x="14660" y="9773"/>
                </a:cubicBezTo>
                <a:cubicBezTo>
                  <a:pt x="14743" y="9608"/>
                  <a:pt x="14759" y="9575"/>
                  <a:pt x="14808" y="9475"/>
                </a:cubicBezTo>
                <a:cubicBezTo>
                  <a:pt x="14865" y="9703"/>
                  <a:pt x="14932" y="9935"/>
                  <a:pt x="14883" y="10170"/>
                </a:cubicBezTo>
                <a:cubicBezTo>
                  <a:pt x="14875" y="10187"/>
                  <a:pt x="14866" y="10203"/>
                  <a:pt x="14858" y="10220"/>
                </a:cubicBezTo>
              </a:path>
              <a:path w="769" h="919">
                <a:moveTo>
                  <a:pt x="15131" y="10220"/>
                </a:moveTo>
                <a:cubicBezTo>
                  <a:pt x="15131" y="10321"/>
                  <a:pt x="15141" y="10342"/>
                  <a:pt x="15106" y="10393"/>
                </a:cubicBezTo>
                <a:cubicBezTo>
                  <a:pt x="15106" y="10305"/>
                  <a:pt x="15131" y="10203"/>
                  <a:pt x="15156" y="10120"/>
                </a:cubicBezTo>
                <a:cubicBezTo>
                  <a:pt x="15164" y="10104"/>
                  <a:pt x="15172" y="10087"/>
                  <a:pt x="15180" y="10071"/>
                </a:cubicBezTo>
                <a:cubicBezTo>
                  <a:pt x="15282" y="10171"/>
                  <a:pt x="15304" y="10218"/>
                  <a:pt x="15304" y="10368"/>
                </a:cubicBezTo>
                <a:cubicBezTo>
                  <a:pt x="15209" y="10368"/>
                  <a:pt x="15127" y="10388"/>
                  <a:pt x="15032" y="10393"/>
                </a:cubicBezTo>
                <a:cubicBezTo>
                  <a:pt x="15024" y="10393"/>
                  <a:pt x="15015" y="10393"/>
                  <a:pt x="15007" y="1039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823000" y="3384720"/>
            <a:ext cx="231840" cy="357120"/>
          </a:xfrm>
          <a:custGeom>
            <a:avLst/>
            <a:gdLst/>
            <a:ahLst/>
            <a:rect l="l" t="t" r="r" b="b"/>
            <a:pathLst>
              <a:path w="646" h="993">
                <a:moveTo>
                  <a:pt x="16173" y="9451"/>
                </a:moveTo>
                <a:cubicBezTo>
                  <a:pt x="16225" y="9566"/>
                  <a:pt x="16255" y="9682"/>
                  <a:pt x="16297" y="9798"/>
                </a:cubicBezTo>
                <a:cubicBezTo>
                  <a:pt x="16316" y="9658"/>
                  <a:pt x="16325" y="9632"/>
                  <a:pt x="16446" y="9599"/>
                </a:cubicBezTo>
                <a:cubicBezTo>
                  <a:pt x="16510" y="9719"/>
                  <a:pt x="16483" y="9826"/>
                  <a:pt x="16297" y="9773"/>
                </a:cubicBezTo>
                <a:cubicBezTo>
                  <a:pt x="16280" y="9756"/>
                  <a:pt x="16264" y="9740"/>
                  <a:pt x="16247" y="9723"/>
                </a:cubicBezTo>
              </a:path>
              <a:path w="646" h="993">
                <a:moveTo>
                  <a:pt x="16495" y="9401"/>
                </a:moveTo>
                <a:cubicBezTo>
                  <a:pt x="16515" y="9460"/>
                  <a:pt x="16592" y="9558"/>
                  <a:pt x="16619" y="9649"/>
                </a:cubicBezTo>
                <a:cubicBezTo>
                  <a:pt x="16631" y="9689"/>
                  <a:pt x="16652" y="9592"/>
                  <a:pt x="16669" y="9550"/>
                </a:cubicBezTo>
                <a:cubicBezTo>
                  <a:pt x="16797" y="9604"/>
                  <a:pt x="16805" y="9643"/>
                  <a:pt x="16818" y="9773"/>
                </a:cubicBezTo>
              </a:path>
              <a:path w="646" h="993">
                <a:moveTo>
                  <a:pt x="16197" y="9996"/>
                </a:moveTo>
                <a:cubicBezTo>
                  <a:pt x="16360" y="9935"/>
                  <a:pt x="16571" y="9813"/>
                  <a:pt x="16743" y="9872"/>
                </a:cubicBezTo>
                <a:cubicBezTo>
                  <a:pt x="16735" y="9872"/>
                  <a:pt x="16726" y="9872"/>
                  <a:pt x="16718" y="9872"/>
                </a:cubicBezTo>
              </a:path>
              <a:path w="646" h="993">
                <a:moveTo>
                  <a:pt x="16396" y="10096"/>
                </a:moveTo>
                <a:cubicBezTo>
                  <a:pt x="16446" y="10096"/>
                  <a:pt x="16495" y="10096"/>
                  <a:pt x="16545" y="10096"/>
                </a:cubicBezTo>
                <a:cubicBezTo>
                  <a:pt x="16485" y="10203"/>
                  <a:pt x="16420" y="10295"/>
                  <a:pt x="16346" y="10393"/>
                </a:cubicBezTo>
                <a:cubicBezTo>
                  <a:pt x="16490" y="10393"/>
                  <a:pt x="16576" y="10337"/>
                  <a:pt x="16694" y="1026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03960" y="3295800"/>
            <a:ext cx="573120" cy="384120"/>
          </a:xfrm>
          <a:custGeom>
            <a:avLst/>
            <a:gdLst/>
            <a:ahLst/>
            <a:rect l="l" t="t" r="r" b="b"/>
            <a:pathLst>
              <a:path w="1589" h="1068">
                <a:moveTo>
                  <a:pt x="17512" y="9203"/>
                </a:moveTo>
                <a:cubicBezTo>
                  <a:pt x="17615" y="9335"/>
                  <a:pt x="17691" y="9455"/>
                  <a:pt x="17711" y="9624"/>
                </a:cubicBezTo>
                <a:cubicBezTo>
                  <a:pt x="17711" y="9632"/>
                  <a:pt x="17711" y="9641"/>
                  <a:pt x="17711" y="9649"/>
                </a:cubicBezTo>
              </a:path>
              <a:path w="1589" h="1068">
                <a:moveTo>
                  <a:pt x="17959" y="9227"/>
                </a:moveTo>
                <a:cubicBezTo>
                  <a:pt x="17959" y="9313"/>
                  <a:pt x="17989" y="9305"/>
                  <a:pt x="18083" y="9327"/>
                </a:cubicBezTo>
                <a:cubicBezTo>
                  <a:pt x="18155" y="9344"/>
                  <a:pt x="18317" y="9514"/>
                  <a:pt x="18157" y="9500"/>
                </a:cubicBezTo>
                <a:cubicBezTo>
                  <a:pt x="18132" y="9484"/>
                  <a:pt x="18108" y="9467"/>
                  <a:pt x="18083" y="9451"/>
                </a:cubicBezTo>
              </a:path>
              <a:path w="1589" h="1068">
                <a:moveTo>
                  <a:pt x="18777" y="9153"/>
                </a:moveTo>
                <a:cubicBezTo>
                  <a:pt x="18755" y="9218"/>
                  <a:pt x="18747" y="9233"/>
                  <a:pt x="18752" y="9277"/>
                </a:cubicBezTo>
                <a:cubicBezTo>
                  <a:pt x="18826" y="9277"/>
                  <a:pt x="18938" y="9312"/>
                  <a:pt x="19000" y="9302"/>
                </a:cubicBezTo>
                <a:cubicBezTo>
                  <a:pt x="19000" y="9294"/>
                  <a:pt x="19000" y="9285"/>
                  <a:pt x="19000" y="9277"/>
                </a:cubicBezTo>
              </a:path>
              <a:path w="1589" h="1068">
                <a:moveTo>
                  <a:pt x="17835" y="9897"/>
                </a:moveTo>
                <a:cubicBezTo>
                  <a:pt x="18216" y="9812"/>
                  <a:pt x="18594" y="9726"/>
                  <a:pt x="18976" y="9649"/>
                </a:cubicBezTo>
                <a:cubicBezTo>
                  <a:pt x="19067" y="9631"/>
                  <a:pt x="19108" y="9589"/>
                  <a:pt x="19100" y="9649"/>
                </a:cubicBezTo>
              </a:path>
              <a:path w="1589" h="1068">
                <a:moveTo>
                  <a:pt x="18256" y="9996"/>
                </a:moveTo>
                <a:cubicBezTo>
                  <a:pt x="18300" y="9986"/>
                  <a:pt x="18493" y="9913"/>
                  <a:pt x="18455" y="10021"/>
                </a:cubicBezTo>
                <a:cubicBezTo>
                  <a:pt x="18406" y="10118"/>
                  <a:pt x="18390" y="10150"/>
                  <a:pt x="18331" y="10195"/>
                </a:cubicBezTo>
                <a:cubicBezTo>
                  <a:pt x="18331" y="10295"/>
                  <a:pt x="18652" y="10165"/>
                  <a:pt x="18703" y="1014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58040" y="3224160"/>
            <a:ext cx="1108080" cy="384120"/>
          </a:xfrm>
          <a:custGeom>
            <a:avLst/>
            <a:gdLst/>
            <a:ahLst/>
            <a:rect l="l" t="t" r="r" b="b"/>
            <a:pathLst>
              <a:path w="3077" h="1068">
                <a:moveTo>
                  <a:pt x="20513" y="8954"/>
                </a:moveTo>
                <a:cubicBezTo>
                  <a:pt x="20507" y="9066"/>
                  <a:pt x="20389" y="9344"/>
                  <a:pt x="20464" y="9426"/>
                </a:cubicBezTo>
                <a:cubicBezTo>
                  <a:pt x="20602" y="9577"/>
                  <a:pt x="20789" y="9227"/>
                  <a:pt x="20638" y="9302"/>
                </a:cubicBezTo>
                <a:cubicBezTo>
                  <a:pt x="20541" y="9350"/>
                  <a:pt x="20551" y="9390"/>
                  <a:pt x="20588" y="9451"/>
                </a:cubicBezTo>
              </a:path>
              <a:path w="3077" h="1068">
                <a:moveTo>
                  <a:pt x="20513" y="9773"/>
                </a:moveTo>
                <a:cubicBezTo>
                  <a:pt x="20670" y="9756"/>
                  <a:pt x="20774" y="9744"/>
                  <a:pt x="20638" y="9922"/>
                </a:cubicBezTo>
                <a:cubicBezTo>
                  <a:pt x="20613" y="9947"/>
                  <a:pt x="20588" y="9971"/>
                  <a:pt x="20563" y="9996"/>
                </a:cubicBezTo>
                <a:cubicBezTo>
                  <a:pt x="20563" y="10135"/>
                  <a:pt x="20891" y="9861"/>
                  <a:pt x="20910" y="9847"/>
                </a:cubicBezTo>
              </a:path>
              <a:path w="3077" h="1068">
                <a:moveTo>
                  <a:pt x="21134" y="9475"/>
                </a:moveTo>
                <a:cubicBezTo>
                  <a:pt x="21208" y="9453"/>
                  <a:pt x="21245" y="9425"/>
                  <a:pt x="21258" y="9451"/>
                </a:cubicBezTo>
              </a:path>
              <a:path w="3077" h="1068">
                <a:moveTo>
                  <a:pt x="21059" y="9649"/>
                </a:moveTo>
                <a:cubicBezTo>
                  <a:pt x="21194" y="9617"/>
                  <a:pt x="21282" y="9587"/>
                  <a:pt x="21406" y="9525"/>
                </a:cubicBezTo>
              </a:path>
              <a:path w="3077" h="1068">
                <a:moveTo>
                  <a:pt x="21679" y="9252"/>
                </a:moveTo>
                <a:cubicBezTo>
                  <a:pt x="21725" y="9248"/>
                  <a:pt x="21993" y="9170"/>
                  <a:pt x="21977" y="9277"/>
                </a:cubicBezTo>
                <a:cubicBezTo>
                  <a:pt x="21931" y="9346"/>
                  <a:pt x="21918" y="9366"/>
                  <a:pt x="21878" y="9401"/>
                </a:cubicBezTo>
                <a:cubicBezTo>
                  <a:pt x="21861" y="9401"/>
                  <a:pt x="21970" y="9404"/>
                  <a:pt x="22027" y="9500"/>
                </a:cubicBezTo>
                <a:cubicBezTo>
                  <a:pt x="22136" y="9683"/>
                  <a:pt x="21866" y="9720"/>
                  <a:pt x="21754" y="9674"/>
                </a:cubicBezTo>
                <a:cubicBezTo>
                  <a:pt x="21737" y="9657"/>
                  <a:pt x="21721" y="9641"/>
                  <a:pt x="21704" y="9624"/>
                </a:cubicBezTo>
              </a:path>
              <a:path w="3077" h="1068">
                <a:moveTo>
                  <a:pt x="22299" y="9451"/>
                </a:moveTo>
                <a:cubicBezTo>
                  <a:pt x="22327" y="9478"/>
                  <a:pt x="22336" y="9482"/>
                  <a:pt x="22324" y="9426"/>
                </a:cubicBezTo>
                <a:cubicBezTo>
                  <a:pt x="22257" y="9448"/>
                  <a:pt x="22055" y="9621"/>
                  <a:pt x="22225" y="9699"/>
                </a:cubicBezTo>
                <a:cubicBezTo>
                  <a:pt x="22412" y="9785"/>
                  <a:pt x="22535" y="9585"/>
                  <a:pt x="22572" y="9451"/>
                </a:cubicBezTo>
                <a:cubicBezTo>
                  <a:pt x="22517" y="9487"/>
                  <a:pt x="22551" y="9580"/>
                  <a:pt x="22572" y="9649"/>
                </a:cubicBezTo>
                <a:cubicBezTo>
                  <a:pt x="22572" y="9587"/>
                  <a:pt x="22537" y="9472"/>
                  <a:pt x="22622" y="9451"/>
                </a:cubicBezTo>
                <a:cubicBezTo>
                  <a:pt x="22696" y="9433"/>
                  <a:pt x="22751" y="9534"/>
                  <a:pt x="22771" y="9575"/>
                </a:cubicBezTo>
                <a:cubicBezTo>
                  <a:pt x="22792" y="9450"/>
                  <a:pt x="22842" y="9411"/>
                  <a:pt x="22944" y="9351"/>
                </a:cubicBezTo>
                <a:cubicBezTo>
                  <a:pt x="23017" y="9457"/>
                  <a:pt x="23019" y="9417"/>
                  <a:pt x="23019" y="9550"/>
                </a:cubicBezTo>
              </a:path>
              <a:path w="3077" h="1068">
                <a:moveTo>
                  <a:pt x="23192" y="9029"/>
                </a:moveTo>
                <a:cubicBezTo>
                  <a:pt x="23242" y="9029"/>
                  <a:pt x="23291" y="9029"/>
                  <a:pt x="23341" y="9029"/>
                </a:cubicBezTo>
                <a:cubicBezTo>
                  <a:pt x="23328" y="9126"/>
                  <a:pt x="23288" y="9171"/>
                  <a:pt x="23267" y="9252"/>
                </a:cubicBezTo>
                <a:cubicBezTo>
                  <a:pt x="23350" y="9252"/>
                  <a:pt x="23432" y="9252"/>
                  <a:pt x="23515" y="9252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518160" y="3205080"/>
            <a:ext cx="428760" cy="277920"/>
          </a:xfrm>
          <a:custGeom>
            <a:avLst/>
            <a:gdLst/>
            <a:ahLst/>
            <a:rect l="l" t="t" r="r" b="b"/>
            <a:pathLst>
              <a:path w="1192" h="770">
                <a:moveTo>
                  <a:pt x="18107" y="9128"/>
                </a:moveTo>
                <a:cubicBezTo>
                  <a:pt x="18206" y="9103"/>
                  <a:pt x="18238" y="9095"/>
                  <a:pt x="18306" y="9103"/>
                </a:cubicBezTo>
              </a:path>
              <a:path w="1192" h="770">
                <a:moveTo>
                  <a:pt x="18653" y="8905"/>
                </a:moveTo>
                <a:cubicBezTo>
                  <a:pt x="18569" y="9137"/>
                  <a:pt x="18486" y="9390"/>
                  <a:pt x="18628" y="9624"/>
                </a:cubicBezTo>
                <a:cubicBezTo>
                  <a:pt x="18669" y="9644"/>
                  <a:pt x="18675" y="9653"/>
                  <a:pt x="18703" y="9649"/>
                </a:cubicBezTo>
              </a:path>
              <a:path w="1192" h="770">
                <a:moveTo>
                  <a:pt x="18976" y="9103"/>
                </a:moveTo>
                <a:cubicBezTo>
                  <a:pt x="18994" y="9210"/>
                  <a:pt x="19024" y="9318"/>
                  <a:pt x="19050" y="9426"/>
                </a:cubicBezTo>
              </a:path>
              <a:path w="1192" h="770">
                <a:moveTo>
                  <a:pt x="19100" y="8905"/>
                </a:moveTo>
                <a:cubicBezTo>
                  <a:pt x="19225" y="9113"/>
                  <a:pt x="19438" y="9408"/>
                  <a:pt x="19174" y="9624"/>
                </a:cubicBezTo>
                <a:cubicBezTo>
                  <a:pt x="19124" y="9641"/>
                  <a:pt x="19075" y="9657"/>
                  <a:pt x="19025" y="967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73800" y="4249800"/>
            <a:ext cx="1893960" cy="385560"/>
          </a:xfrm>
          <a:custGeom>
            <a:avLst/>
            <a:gdLst/>
            <a:ahLst/>
            <a:rect l="l" t="t" r="r" b="b"/>
            <a:pathLst>
              <a:path w="5260" h="1068">
                <a:moveTo>
                  <a:pt x="15205" y="12725"/>
                </a:moveTo>
                <a:cubicBezTo>
                  <a:pt x="15279" y="12699"/>
                  <a:pt x="15356" y="12668"/>
                  <a:pt x="15429" y="12650"/>
                </a:cubicBezTo>
              </a:path>
              <a:path w="5260" h="1068">
                <a:moveTo>
                  <a:pt x="15230" y="12874"/>
                </a:moveTo>
                <a:cubicBezTo>
                  <a:pt x="15347" y="12827"/>
                  <a:pt x="15382" y="12814"/>
                  <a:pt x="15453" y="12774"/>
                </a:cubicBezTo>
              </a:path>
              <a:path w="5260" h="1068">
                <a:moveTo>
                  <a:pt x="15453" y="12774"/>
                </a:moveTo>
                <a:lnTo>
                  <a:pt x="15453" y="12774"/>
                </a:lnTo>
              </a:path>
              <a:path w="5260" h="1068">
                <a:moveTo>
                  <a:pt x="16917" y="12799"/>
                </a:moveTo>
                <a:cubicBezTo>
                  <a:pt x="17040" y="12774"/>
                  <a:pt x="17081" y="12766"/>
                  <a:pt x="17140" y="12700"/>
                </a:cubicBezTo>
              </a:path>
              <a:path w="5260" h="1068">
                <a:moveTo>
                  <a:pt x="17140" y="12700"/>
                </a:moveTo>
                <a:lnTo>
                  <a:pt x="17140" y="12700"/>
                </a:lnTo>
              </a:path>
              <a:path w="5260" h="1068">
                <a:moveTo>
                  <a:pt x="18008" y="11881"/>
                </a:moveTo>
                <a:cubicBezTo>
                  <a:pt x="17953" y="12049"/>
                  <a:pt x="17799" y="12343"/>
                  <a:pt x="17983" y="12477"/>
                </a:cubicBezTo>
                <a:cubicBezTo>
                  <a:pt x="18016" y="12485"/>
                  <a:pt x="18050" y="12494"/>
                  <a:pt x="18083" y="12502"/>
                </a:cubicBezTo>
              </a:path>
              <a:path w="5260" h="1068">
                <a:moveTo>
                  <a:pt x="18504" y="11807"/>
                </a:moveTo>
                <a:cubicBezTo>
                  <a:pt x="18677" y="12106"/>
                  <a:pt x="18780" y="12242"/>
                  <a:pt x="18455" y="12427"/>
                </a:cubicBezTo>
              </a:path>
              <a:path w="5260" h="1068">
                <a:moveTo>
                  <a:pt x="18876" y="12576"/>
                </a:moveTo>
                <a:cubicBezTo>
                  <a:pt x="18901" y="12568"/>
                  <a:pt x="18926" y="12559"/>
                  <a:pt x="18951" y="12551"/>
                </a:cubicBezTo>
              </a:path>
              <a:path w="5260" h="1068">
                <a:moveTo>
                  <a:pt x="18703" y="12774"/>
                </a:moveTo>
                <a:cubicBezTo>
                  <a:pt x="18872" y="12718"/>
                  <a:pt x="18941" y="12692"/>
                  <a:pt x="19050" y="12626"/>
                </a:cubicBezTo>
              </a:path>
              <a:path w="5260" h="1068">
                <a:moveTo>
                  <a:pt x="19050" y="12626"/>
                </a:moveTo>
                <a:lnTo>
                  <a:pt x="19050" y="12626"/>
                </a:lnTo>
              </a:path>
              <a:path w="5260" h="1068">
                <a:moveTo>
                  <a:pt x="19323" y="12626"/>
                </a:moveTo>
                <a:cubicBezTo>
                  <a:pt x="19526" y="12560"/>
                  <a:pt x="19721" y="12485"/>
                  <a:pt x="19918" y="12402"/>
                </a:cubicBezTo>
              </a:path>
              <a:path w="5260" h="1068">
                <a:moveTo>
                  <a:pt x="20265" y="12526"/>
                </a:moveTo>
                <a:cubicBezTo>
                  <a:pt x="20365" y="12502"/>
                  <a:pt x="20398" y="12494"/>
                  <a:pt x="20464" y="12477"/>
                </a:cubicBezTo>
              </a:path>
              <a:path w="5260" h="1068">
                <a:moveTo>
                  <a:pt x="20191" y="12700"/>
                </a:moveTo>
                <a:cubicBezTo>
                  <a:pt x="20290" y="12667"/>
                  <a:pt x="20339" y="12650"/>
                  <a:pt x="20414" y="12626"/>
                </a:cubicBezTo>
              </a:path>
              <a:path w="5260" h="1068">
                <a:moveTo>
                  <a:pt x="20414" y="12626"/>
                </a:moveTo>
                <a:lnTo>
                  <a:pt x="20414" y="12626"/>
                </a:ln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26040" y="4473720"/>
            <a:ext cx="312840" cy="312480"/>
          </a:xfrm>
          <a:custGeom>
            <a:avLst/>
            <a:gdLst/>
            <a:ahLst/>
            <a:rect l="l" t="t" r="r" b="b"/>
            <a:pathLst>
              <a:path w="869" h="869">
                <a:moveTo>
                  <a:pt x="14362" y="12526"/>
                </a:moveTo>
                <a:cubicBezTo>
                  <a:pt x="14323" y="12666"/>
                  <a:pt x="14315" y="12931"/>
                  <a:pt x="14238" y="13047"/>
                </a:cubicBezTo>
                <a:cubicBezTo>
                  <a:pt x="14238" y="13031"/>
                  <a:pt x="14238" y="13014"/>
                  <a:pt x="14238" y="12998"/>
                </a:cubicBezTo>
                <a:cubicBezTo>
                  <a:pt x="14305" y="12796"/>
                  <a:pt x="14340" y="12602"/>
                  <a:pt x="14461" y="12427"/>
                </a:cubicBezTo>
                <a:cubicBezTo>
                  <a:pt x="14504" y="12599"/>
                  <a:pt x="14549" y="12771"/>
                  <a:pt x="14585" y="12948"/>
                </a:cubicBezTo>
                <a:cubicBezTo>
                  <a:pt x="14604" y="13022"/>
                  <a:pt x="14612" y="13029"/>
                  <a:pt x="14610" y="13072"/>
                </a:cubicBezTo>
              </a:path>
              <a:path w="869" h="869">
                <a:moveTo>
                  <a:pt x="14337" y="12948"/>
                </a:moveTo>
                <a:cubicBezTo>
                  <a:pt x="14417" y="12908"/>
                  <a:pt x="14474" y="12887"/>
                  <a:pt x="14560" y="12874"/>
                </a:cubicBezTo>
              </a:path>
              <a:path w="869" h="869">
                <a:moveTo>
                  <a:pt x="14808" y="12849"/>
                </a:moveTo>
                <a:cubicBezTo>
                  <a:pt x="14869" y="12909"/>
                  <a:pt x="14854" y="13095"/>
                  <a:pt x="14833" y="13196"/>
                </a:cubicBezTo>
                <a:cubicBezTo>
                  <a:pt x="14809" y="13244"/>
                  <a:pt x="14801" y="13258"/>
                  <a:pt x="14808" y="13295"/>
                </a:cubicBezTo>
                <a:cubicBezTo>
                  <a:pt x="14808" y="13155"/>
                  <a:pt x="14808" y="13014"/>
                  <a:pt x="14808" y="12874"/>
                </a:cubicBezTo>
                <a:cubicBezTo>
                  <a:pt x="14941" y="12926"/>
                  <a:pt x="14942" y="13057"/>
                  <a:pt x="15007" y="13171"/>
                </a:cubicBezTo>
                <a:cubicBezTo>
                  <a:pt x="15063" y="13247"/>
                  <a:pt x="15066" y="13260"/>
                  <a:pt x="15106" y="13295"/>
                </a:cubicBezTo>
                <a:cubicBezTo>
                  <a:pt x="14944" y="13295"/>
                  <a:pt x="14694" y="13384"/>
                  <a:pt x="14858" y="1322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70720" y="4313160"/>
            <a:ext cx="938160" cy="438120"/>
          </a:xfrm>
          <a:custGeom>
            <a:avLst/>
            <a:gdLst/>
            <a:ahLst/>
            <a:rect l="l" t="t" r="r" b="b"/>
            <a:pathLst>
              <a:path w="2605" h="1216">
                <a:moveTo>
                  <a:pt x="15751" y="12179"/>
                </a:moveTo>
                <a:cubicBezTo>
                  <a:pt x="15775" y="12337"/>
                  <a:pt x="15829" y="12458"/>
                  <a:pt x="15900" y="12601"/>
                </a:cubicBezTo>
                <a:cubicBezTo>
                  <a:pt x="15887" y="12557"/>
                  <a:pt x="15896" y="12285"/>
                  <a:pt x="16024" y="12402"/>
                </a:cubicBezTo>
                <a:cubicBezTo>
                  <a:pt x="16136" y="12504"/>
                  <a:pt x="16052" y="12663"/>
                  <a:pt x="15900" y="12601"/>
                </a:cubicBezTo>
                <a:cubicBezTo>
                  <a:pt x="15875" y="12576"/>
                  <a:pt x="15850" y="12551"/>
                  <a:pt x="15825" y="12526"/>
                </a:cubicBezTo>
              </a:path>
              <a:path w="2605" h="1216">
                <a:moveTo>
                  <a:pt x="16173" y="12179"/>
                </a:moveTo>
                <a:cubicBezTo>
                  <a:pt x="16225" y="12283"/>
                  <a:pt x="16299" y="12390"/>
                  <a:pt x="16321" y="12502"/>
                </a:cubicBezTo>
                <a:cubicBezTo>
                  <a:pt x="16321" y="12451"/>
                  <a:pt x="16335" y="12276"/>
                  <a:pt x="16446" y="12353"/>
                </a:cubicBezTo>
                <a:cubicBezTo>
                  <a:pt x="16559" y="12431"/>
                  <a:pt x="16523" y="12524"/>
                  <a:pt x="16495" y="12626"/>
                </a:cubicBezTo>
              </a:path>
              <a:path w="2605" h="1216">
                <a:moveTo>
                  <a:pt x="16197" y="12650"/>
                </a:moveTo>
                <a:cubicBezTo>
                  <a:pt x="16255" y="12642"/>
                  <a:pt x="16461" y="12609"/>
                  <a:pt x="16495" y="12626"/>
                </a:cubicBezTo>
              </a:path>
              <a:path w="2605" h="1216">
                <a:moveTo>
                  <a:pt x="16148" y="12849"/>
                </a:moveTo>
                <a:cubicBezTo>
                  <a:pt x="16255" y="12830"/>
                  <a:pt x="16317" y="12821"/>
                  <a:pt x="16421" y="12849"/>
                </a:cubicBezTo>
                <a:cubicBezTo>
                  <a:pt x="16341" y="12944"/>
                  <a:pt x="16255" y="13025"/>
                  <a:pt x="16173" y="13122"/>
                </a:cubicBezTo>
                <a:cubicBezTo>
                  <a:pt x="16347" y="13179"/>
                  <a:pt x="16346" y="13155"/>
                  <a:pt x="16495" y="13047"/>
                </a:cubicBezTo>
              </a:path>
              <a:path w="2605" h="1216">
                <a:moveTo>
                  <a:pt x="16892" y="12675"/>
                </a:moveTo>
                <a:cubicBezTo>
                  <a:pt x="16943" y="12671"/>
                  <a:pt x="17152" y="12650"/>
                  <a:pt x="17115" y="12650"/>
                </a:cubicBezTo>
              </a:path>
              <a:path w="2605" h="1216">
                <a:moveTo>
                  <a:pt x="17562" y="12030"/>
                </a:moveTo>
                <a:cubicBezTo>
                  <a:pt x="17500" y="12013"/>
                  <a:pt x="17474" y="12005"/>
                  <a:pt x="17413" y="12005"/>
                </a:cubicBezTo>
                <a:cubicBezTo>
                  <a:pt x="17400" y="12084"/>
                  <a:pt x="17334" y="12199"/>
                  <a:pt x="17363" y="12278"/>
                </a:cubicBezTo>
                <a:cubicBezTo>
                  <a:pt x="17404" y="12389"/>
                  <a:pt x="17594" y="12262"/>
                  <a:pt x="17711" y="12278"/>
                </a:cubicBezTo>
                <a:cubicBezTo>
                  <a:pt x="17688" y="12423"/>
                  <a:pt x="17490" y="12587"/>
                  <a:pt x="17314" y="12427"/>
                </a:cubicBezTo>
                <a:cubicBezTo>
                  <a:pt x="17314" y="12402"/>
                  <a:pt x="17314" y="12378"/>
                  <a:pt x="17314" y="12353"/>
                </a:cubicBezTo>
              </a:path>
              <a:path w="2605" h="1216">
                <a:moveTo>
                  <a:pt x="18306" y="11981"/>
                </a:moveTo>
                <a:cubicBezTo>
                  <a:pt x="18129" y="11998"/>
                  <a:pt x="18220" y="12104"/>
                  <a:pt x="18281" y="12229"/>
                </a:cubicBezTo>
                <a:cubicBezTo>
                  <a:pt x="18325" y="12316"/>
                  <a:pt x="18351" y="12340"/>
                  <a:pt x="18281" y="12378"/>
                </a:cubicBezTo>
                <a:cubicBezTo>
                  <a:pt x="18120" y="12324"/>
                  <a:pt x="18269" y="12213"/>
                  <a:pt x="18331" y="12080"/>
                </a:cubicBezTo>
                <a:cubicBezTo>
                  <a:pt x="18350" y="12019"/>
                  <a:pt x="18369" y="12005"/>
                  <a:pt x="18331" y="11981"/>
                </a:cubicBezTo>
              </a:path>
              <a:path w="2605" h="1216">
                <a:moveTo>
                  <a:pt x="17537" y="12774"/>
                </a:moveTo>
                <a:cubicBezTo>
                  <a:pt x="17809" y="12707"/>
                  <a:pt x="18077" y="12648"/>
                  <a:pt x="18355" y="12626"/>
                </a:cubicBezTo>
              </a:path>
              <a:path w="2605" h="1216">
                <a:moveTo>
                  <a:pt x="17835" y="12898"/>
                </a:moveTo>
                <a:cubicBezTo>
                  <a:pt x="17924" y="12883"/>
                  <a:pt x="17990" y="12874"/>
                  <a:pt x="18083" y="12874"/>
                </a:cubicBezTo>
                <a:cubicBezTo>
                  <a:pt x="18004" y="13000"/>
                  <a:pt x="17916" y="13090"/>
                  <a:pt x="17810" y="13196"/>
                </a:cubicBezTo>
                <a:cubicBezTo>
                  <a:pt x="18046" y="13166"/>
                  <a:pt x="18087" y="13108"/>
                  <a:pt x="18306" y="1297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956280" y="4321080"/>
            <a:ext cx="268560" cy="393840"/>
          </a:xfrm>
          <a:custGeom>
            <a:avLst/>
            <a:gdLst/>
            <a:ahLst/>
            <a:rect l="l" t="t" r="r" b="b"/>
            <a:pathLst>
              <a:path w="745" h="1093">
                <a:moveTo>
                  <a:pt x="19348" y="12055"/>
                </a:moveTo>
                <a:cubicBezTo>
                  <a:pt x="19348" y="12122"/>
                  <a:pt x="19344" y="12156"/>
                  <a:pt x="19323" y="12204"/>
                </a:cubicBezTo>
                <a:cubicBezTo>
                  <a:pt x="19443" y="12256"/>
                  <a:pt x="19445" y="12214"/>
                  <a:pt x="19571" y="12154"/>
                </a:cubicBezTo>
              </a:path>
              <a:path w="745" h="1093">
                <a:moveTo>
                  <a:pt x="19546" y="12005"/>
                </a:moveTo>
                <a:cubicBezTo>
                  <a:pt x="19484" y="12159"/>
                  <a:pt x="19422" y="12302"/>
                  <a:pt x="19348" y="12452"/>
                </a:cubicBezTo>
              </a:path>
              <a:path w="745" h="1093">
                <a:moveTo>
                  <a:pt x="19794" y="12030"/>
                </a:moveTo>
                <a:cubicBezTo>
                  <a:pt x="19710" y="12192"/>
                  <a:pt x="19667" y="12221"/>
                  <a:pt x="19695" y="12402"/>
                </a:cubicBezTo>
                <a:cubicBezTo>
                  <a:pt x="19806" y="12356"/>
                  <a:pt x="20108" y="12151"/>
                  <a:pt x="19819" y="12055"/>
                </a:cubicBezTo>
                <a:cubicBezTo>
                  <a:pt x="19769" y="12055"/>
                  <a:pt x="19720" y="12055"/>
                  <a:pt x="19670" y="12055"/>
                </a:cubicBezTo>
              </a:path>
              <a:path w="745" h="1093">
                <a:moveTo>
                  <a:pt x="19447" y="12774"/>
                </a:moveTo>
                <a:cubicBezTo>
                  <a:pt x="19579" y="12774"/>
                  <a:pt x="19612" y="12774"/>
                  <a:pt x="19695" y="12774"/>
                </a:cubicBezTo>
                <a:cubicBezTo>
                  <a:pt x="19695" y="12911"/>
                  <a:pt x="19538" y="12940"/>
                  <a:pt x="19521" y="13072"/>
                </a:cubicBezTo>
                <a:cubicBezTo>
                  <a:pt x="19507" y="13181"/>
                  <a:pt x="20051" y="12834"/>
                  <a:pt x="20067" y="1282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73960" y="4286160"/>
            <a:ext cx="741240" cy="411120"/>
          </a:xfrm>
          <a:custGeom>
            <a:avLst/>
            <a:gdLst/>
            <a:ahLst/>
            <a:rect l="l" t="t" r="r" b="b"/>
            <a:pathLst>
              <a:path w="2059" h="1142">
                <a:moveTo>
                  <a:pt x="20811" y="12254"/>
                </a:moveTo>
                <a:cubicBezTo>
                  <a:pt x="20889" y="12263"/>
                  <a:pt x="20959" y="12281"/>
                  <a:pt x="21034" y="12303"/>
                </a:cubicBezTo>
                <a:cubicBezTo>
                  <a:pt x="20998" y="12455"/>
                  <a:pt x="20896" y="12623"/>
                  <a:pt x="20786" y="12750"/>
                </a:cubicBezTo>
                <a:cubicBezTo>
                  <a:pt x="20733" y="12811"/>
                  <a:pt x="21135" y="12615"/>
                  <a:pt x="21183" y="12576"/>
                </a:cubicBezTo>
              </a:path>
              <a:path w="2059" h="1142">
                <a:moveTo>
                  <a:pt x="21258" y="12303"/>
                </a:moveTo>
                <a:cubicBezTo>
                  <a:pt x="21161" y="12476"/>
                  <a:pt x="21123" y="12532"/>
                  <a:pt x="21134" y="12725"/>
                </a:cubicBezTo>
                <a:cubicBezTo>
                  <a:pt x="21304" y="12725"/>
                  <a:pt x="21590" y="12625"/>
                  <a:pt x="21406" y="12378"/>
                </a:cubicBezTo>
                <a:cubicBezTo>
                  <a:pt x="21300" y="12307"/>
                  <a:pt x="21302" y="12273"/>
                  <a:pt x="21233" y="12278"/>
                </a:cubicBezTo>
              </a:path>
              <a:path w="2059" h="1142">
                <a:moveTo>
                  <a:pt x="21555" y="12477"/>
                </a:moveTo>
                <a:cubicBezTo>
                  <a:pt x="21581" y="12622"/>
                  <a:pt x="21702" y="12774"/>
                  <a:pt x="21853" y="12576"/>
                </a:cubicBezTo>
                <a:cubicBezTo>
                  <a:pt x="21878" y="12478"/>
                  <a:pt x="21886" y="12446"/>
                  <a:pt x="21878" y="12378"/>
                </a:cubicBezTo>
                <a:cubicBezTo>
                  <a:pt x="21878" y="12584"/>
                  <a:pt x="21958" y="12789"/>
                  <a:pt x="21828" y="12973"/>
                </a:cubicBezTo>
                <a:cubicBezTo>
                  <a:pt x="21639" y="13242"/>
                  <a:pt x="21407" y="12956"/>
                  <a:pt x="21406" y="12799"/>
                </a:cubicBezTo>
              </a:path>
              <a:path w="2059" h="1142">
                <a:moveTo>
                  <a:pt x="22200" y="12378"/>
                </a:moveTo>
                <a:cubicBezTo>
                  <a:pt x="22036" y="12460"/>
                  <a:pt x="22008" y="12558"/>
                  <a:pt x="21952" y="12725"/>
                </a:cubicBezTo>
                <a:cubicBezTo>
                  <a:pt x="22171" y="12688"/>
                  <a:pt x="22332" y="12596"/>
                  <a:pt x="22275" y="12328"/>
                </a:cubicBezTo>
                <a:cubicBezTo>
                  <a:pt x="22217" y="12212"/>
                  <a:pt x="22225" y="12180"/>
                  <a:pt x="22151" y="12154"/>
                </a:cubicBezTo>
                <a:cubicBezTo>
                  <a:pt x="22209" y="12285"/>
                  <a:pt x="22229" y="12438"/>
                  <a:pt x="22275" y="12576"/>
                </a:cubicBezTo>
              </a:path>
              <a:path w="2059" h="1142">
                <a:moveTo>
                  <a:pt x="22523" y="11931"/>
                </a:moveTo>
                <a:cubicBezTo>
                  <a:pt x="22600" y="11920"/>
                  <a:pt x="22667" y="11906"/>
                  <a:pt x="22746" y="11906"/>
                </a:cubicBezTo>
                <a:cubicBezTo>
                  <a:pt x="22681" y="11997"/>
                  <a:pt x="22621" y="12081"/>
                  <a:pt x="22572" y="12179"/>
                </a:cubicBezTo>
                <a:cubicBezTo>
                  <a:pt x="22680" y="12201"/>
                  <a:pt x="22713" y="12176"/>
                  <a:pt x="22820" y="1212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16880" y="5187960"/>
            <a:ext cx="938160" cy="366840"/>
          </a:xfrm>
          <a:custGeom>
            <a:avLst/>
            <a:gdLst/>
            <a:ahLst/>
            <a:rect l="l" t="t" r="r" b="b"/>
            <a:pathLst>
              <a:path w="2606" h="1018">
                <a:moveTo>
                  <a:pt x="21233" y="15032"/>
                </a:moveTo>
                <a:cubicBezTo>
                  <a:pt x="21311" y="14980"/>
                  <a:pt x="21339" y="14962"/>
                  <a:pt x="21406" y="14957"/>
                </a:cubicBezTo>
                <a:cubicBezTo>
                  <a:pt x="21467" y="15078"/>
                  <a:pt x="21326" y="15261"/>
                  <a:pt x="21208" y="15379"/>
                </a:cubicBezTo>
                <a:cubicBezTo>
                  <a:pt x="21191" y="15387"/>
                  <a:pt x="21175" y="15396"/>
                  <a:pt x="21158" y="15404"/>
                </a:cubicBezTo>
                <a:cubicBezTo>
                  <a:pt x="21344" y="15437"/>
                  <a:pt x="21471" y="15466"/>
                  <a:pt x="21580" y="15329"/>
                </a:cubicBezTo>
              </a:path>
              <a:path w="2606" h="1018">
                <a:moveTo>
                  <a:pt x="21704" y="14908"/>
                </a:moveTo>
                <a:cubicBezTo>
                  <a:pt x="21697" y="14973"/>
                  <a:pt x="21628" y="15115"/>
                  <a:pt x="21729" y="15131"/>
                </a:cubicBezTo>
                <a:cubicBezTo>
                  <a:pt x="21856" y="15131"/>
                  <a:pt x="21901" y="15130"/>
                  <a:pt x="21977" y="15081"/>
                </a:cubicBezTo>
              </a:path>
              <a:path w="2606" h="1018">
                <a:moveTo>
                  <a:pt x="21903" y="14759"/>
                </a:moveTo>
                <a:cubicBezTo>
                  <a:pt x="21903" y="14938"/>
                  <a:pt x="21904" y="15105"/>
                  <a:pt x="21878" y="15280"/>
                </a:cubicBezTo>
              </a:path>
              <a:path w="2606" h="1018">
                <a:moveTo>
                  <a:pt x="22349" y="14759"/>
                </a:moveTo>
                <a:cubicBezTo>
                  <a:pt x="22388" y="14945"/>
                  <a:pt x="22299" y="15494"/>
                  <a:pt x="22299" y="15304"/>
                </a:cubicBezTo>
                <a:cubicBezTo>
                  <a:pt x="22307" y="15279"/>
                  <a:pt x="22316" y="15255"/>
                  <a:pt x="22324" y="15230"/>
                </a:cubicBezTo>
              </a:path>
              <a:path w="2606" h="1018">
                <a:moveTo>
                  <a:pt x="22547" y="14858"/>
                </a:moveTo>
                <a:cubicBezTo>
                  <a:pt x="22455" y="14950"/>
                  <a:pt x="22272" y="15055"/>
                  <a:pt x="22448" y="15180"/>
                </a:cubicBezTo>
                <a:cubicBezTo>
                  <a:pt x="22616" y="15299"/>
                  <a:pt x="22780" y="15237"/>
                  <a:pt x="22845" y="15056"/>
                </a:cubicBezTo>
                <a:cubicBezTo>
                  <a:pt x="22845" y="15040"/>
                  <a:pt x="22845" y="15023"/>
                  <a:pt x="22845" y="15007"/>
                </a:cubicBezTo>
                <a:cubicBezTo>
                  <a:pt x="22845" y="15096"/>
                  <a:pt x="22811" y="15170"/>
                  <a:pt x="22796" y="15255"/>
                </a:cubicBezTo>
                <a:cubicBezTo>
                  <a:pt x="22807" y="15177"/>
                  <a:pt x="22881" y="15002"/>
                  <a:pt x="22969" y="14982"/>
                </a:cubicBezTo>
                <a:cubicBezTo>
                  <a:pt x="23005" y="15053"/>
                  <a:pt x="23018" y="15093"/>
                  <a:pt x="23019" y="15156"/>
                </a:cubicBezTo>
                <a:cubicBezTo>
                  <a:pt x="22940" y="15207"/>
                  <a:pt x="23030" y="15027"/>
                  <a:pt x="23093" y="14957"/>
                </a:cubicBezTo>
                <a:cubicBezTo>
                  <a:pt x="23219" y="14817"/>
                  <a:pt x="23233" y="15056"/>
                  <a:pt x="23242" y="15131"/>
                </a:cubicBezTo>
                <a:cubicBezTo>
                  <a:pt x="23242" y="15059"/>
                  <a:pt x="23263" y="15008"/>
                  <a:pt x="23316" y="14957"/>
                </a:cubicBezTo>
              </a:path>
              <a:path w="2606" h="1018">
                <a:moveTo>
                  <a:pt x="23416" y="14412"/>
                </a:moveTo>
                <a:cubicBezTo>
                  <a:pt x="23474" y="14418"/>
                  <a:pt x="23531" y="14428"/>
                  <a:pt x="23589" y="14436"/>
                </a:cubicBezTo>
                <a:cubicBezTo>
                  <a:pt x="23554" y="14518"/>
                  <a:pt x="23519" y="14587"/>
                  <a:pt x="23465" y="14660"/>
                </a:cubicBezTo>
                <a:cubicBezTo>
                  <a:pt x="23571" y="14667"/>
                  <a:pt x="23694" y="14655"/>
                  <a:pt x="23763" y="1458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05240" y="5232240"/>
            <a:ext cx="2295720" cy="492120"/>
          </a:xfrm>
          <a:custGeom>
            <a:avLst/>
            <a:gdLst/>
            <a:ahLst/>
            <a:rect l="l" t="t" r="r" b="b"/>
            <a:pathLst>
              <a:path w="6376" h="1365">
                <a:moveTo>
                  <a:pt x="14461" y="15900"/>
                </a:moveTo>
                <a:cubicBezTo>
                  <a:pt x="14502" y="15892"/>
                  <a:pt x="14544" y="15883"/>
                  <a:pt x="14585" y="15875"/>
                </a:cubicBezTo>
              </a:path>
              <a:path w="6376" h="1365">
                <a:moveTo>
                  <a:pt x="15404" y="15801"/>
                </a:moveTo>
                <a:cubicBezTo>
                  <a:pt x="15445" y="15776"/>
                  <a:pt x="15487" y="15751"/>
                  <a:pt x="15528" y="15726"/>
                </a:cubicBezTo>
              </a:path>
              <a:path w="6376" h="1365">
                <a:moveTo>
                  <a:pt x="15528" y="15726"/>
                </a:moveTo>
                <a:lnTo>
                  <a:pt x="15528" y="15726"/>
                </a:lnTo>
              </a:path>
              <a:path w="6376" h="1365">
                <a:moveTo>
                  <a:pt x="17190" y="15652"/>
                </a:moveTo>
                <a:cubicBezTo>
                  <a:pt x="17345" y="15600"/>
                  <a:pt x="17401" y="15579"/>
                  <a:pt x="17487" y="15503"/>
                </a:cubicBezTo>
              </a:path>
              <a:path w="6376" h="1365">
                <a:moveTo>
                  <a:pt x="17487" y="15503"/>
                </a:moveTo>
                <a:lnTo>
                  <a:pt x="17487" y="15503"/>
                </a:lnTo>
              </a:path>
              <a:path w="6376" h="1365">
                <a:moveTo>
                  <a:pt x="18380" y="14610"/>
                </a:moveTo>
                <a:cubicBezTo>
                  <a:pt x="18348" y="14853"/>
                  <a:pt x="18239" y="15141"/>
                  <a:pt x="18554" y="15081"/>
                </a:cubicBezTo>
              </a:path>
              <a:path w="6376" h="1365">
                <a:moveTo>
                  <a:pt x="18802" y="14709"/>
                </a:moveTo>
                <a:cubicBezTo>
                  <a:pt x="18807" y="14818"/>
                  <a:pt x="18795" y="14911"/>
                  <a:pt x="18852" y="14982"/>
                </a:cubicBezTo>
              </a:path>
              <a:path w="6376" h="1365">
                <a:moveTo>
                  <a:pt x="18852" y="14982"/>
                </a:moveTo>
                <a:lnTo>
                  <a:pt x="18852" y="14982"/>
                </a:lnTo>
              </a:path>
              <a:path w="6376" h="1365">
                <a:moveTo>
                  <a:pt x="18926" y="14536"/>
                </a:moveTo>
                <a:cubicBezTo>
                  <a:pt x="19041" y="14823"/>
                  <a:pt x="19091" y="14874"/>
                  <a:pt x="19000" y="15156"/>
                </a:cubicBezTo>
              </a:path>
              <a:path w="6376" h="1365">
                <a:moveTo>
                  <a:pt x="18107" y="15478"/>
                </a:moveTo>
                <a:cubicBezTo>
                  <a:pt x="18349" y="15421"/>
                  <a:pt x="18583" y="15350"/>
                  <a:pt x="18827" y="15379"/>
                </a:cubicBezTo>
              </a:path>
              <a:path w="6376" h="1365">
                <a:moveTo>
                  <a:pt x="19248" y="15329"/>
                </a:moveTo>
                <a:cubicBezTo>
                  <a:pt x="19332" y="15308"/>
                  <a:pt x="19351" y="15307"/>
                  <a:pt x="19397" y="15280"/>
                </a:cubicBezTo>
              </a:path>
              <a:path w="6376" h="1365">
                <a:moveTo>
                  <a:pt x="19199" y="15429"/>
                </a:moveTo>
                <a:cubicBezTo>
                  <a:pt x="19249" y="15412"/>
                  <a:pt x="19298" y="15396"/>
                  <a:pt x="19348" y="15379"/>
                </a:cubicBezTo>
              </a:path>
              <a:path w="6376" h="1365">
                <a:moveTo>
                  <a:pt x="19348" y="15379"/>
                </a:moveTo>
                <a:lnTo>
                  <a:pt x="19348" y="15379"/>
                </a:lnTo>
              </a:path>
              <a:path w="6376" h="1365">
                <a:moveTo>
                  <a:pt x="20017" y="14560"/>
                </a:moveTo>
                <a:cubicBezTo>
                  <a:pt x="19984" y="14806"/>
                  <a:pt x="19843" y="15048"/>
                  <a:pt x="20092" y="14982"/>
                </a:cubicBezTo>
              </a:path>
              <a:path w="6376" h="1365">
                <a:moveTo>
                  <a:pt x="19918" y="15354"/>
                </a:moveTo>
                <a:cubicBezTo>
                  <a:pt x="20081" y="15325"/>
                  <a:pt x="20213" y="15294"/>
                  <a:pt x="20365" y="15230"/>
                </a:cubicBezTo>
              </a:path>
              <a:path w="6376" h="1365">
                <a:moveTo>
                  <a:pt x="20638" y="15205"/>
                </a:moveTo>
                <a:cubicBezTo>
                  <a:pt x="20706" y="15171"/>
                  <a:pt x="20753" y="15147"/>
                  <a:pt x="20811" y="15156"/>
                </a:cubicBezTo>
              </a:path>
              <a:path w="6376" h="1365">
                <a:moveTo>
                  <a:pt x="20588" y="15354"/>
                </a:moveTo>
                <a:cubicBezTo>
                  <a:pt x="20720" y="15301"/>
                  <a:pt x="20768" y="15279"/>
                  <a:pt x="20836" y="15205"/>
                </a:cubicBezTo>
              </a:path>
              <a:path w="6376" h="1365">
                <a:moveTo>
                  <a:pt x="20836" y="15205"/>
                </a:moveTo>
                <a:lnTo>
                  <a:pt x="20836" y="15205"/>
                </a:ln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99040" y="5518080"/>
            <a:ext cx="152280" cy="277920"/>
          </a:xfrm>
          <a:custGeom>
            <a:avLst/>
            <a:gdLst/>
            <a:ahLst/>
            <a:rect l="l" t="t" r="r" b="b"/>
            <a:pathLst>
              <a:path w="423" h="770">
                <a:moveTo>
                  <a:pt x="14387" y="15528"/>
                </a:moveTo>
                <a:cubicBezTo>
                  <a:pt x="14258" y="15399"/>
                  <a:pt x="14308" y="15830"/>
                  <a:pt x="14238" y="15999"/>
                </a:cubicBezTo>
                <a:cubicBezTo>
                  <a:pt x="14201" y="16072"/>
                  <a:pt x="14213" y="16105"/>
                  <a:pt x="14163" y="16098"/>
                </a:cubicBezTo>
                <a:cubicBezTo>
                  <a:pt x="14261" y="15872"/>
                  <a:pt x="14311" y="15629"/>
                  <a:pt x="14412" y="15404"/>
                </a:cubicBezTo>
                <a:cubicBezTo>
                  <a:pt x="14428" y="15379"/>
                  <a:pt x="14445" y="15354"/>
                  <a:pt x="14461" y="15329"/>
                </a:cubicBezTo>
                <a:cubicBezTo>
                  <a:pt x="14477" y="15555"/>
                  <a:pt x="14494" y="15805"/>
                  <a:pt x="14560" y="16024"/>
                </a:cubicBezTo>
                <a:cubicBezTo>
                  <a:pt x="14583" y="16047"/>
                  <a:pt x="14594" y="16055"/>
                  <a:pt x="14560" y="1604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76920" y="5392800"/>
            <a:ext cx="482760" cy="430200"/>
          </a:xfrm>
          <a:custGeom>
            <a:avLst/>
            <a:gdLst/>
            <a:ahLst/>
            <a:rect l="l" t="t" r="r" b="b"/>
            <a:pathLst>
              <a:path w="1340" h="1192">
                <a:moveTo>
                  <a:pt x="16049" y="14982"/>
                </a:moveTo>
                <a:cubicBezTo>
                  <a:pt x="16078" y="15133"/>
                  <a:pt x="16111" y="15280"/>
                  <a:pt x="16148" y="15429"/>
                </a:cubicBezTo>
                <a:cubicBezTo>
                  <a:pt x="16156" y="15414"/>
                  <a:pt x="16259" y="15076"/>
                  <a:pt x="16346" y="15230"/>
                </a:cubicBezTo>
                <a:cubicBezTo>
                  <a:pt x="16449" y="15412"/>
                  <a:pt x="16272" y="15517"/>
                  <a:pt x="16173" y="15404"/>
                </a:cubicBezTo>
              </a:path>
              <a:path w="1340" h="1192">
                <a:moveTo>
                  <a:pt x="16495" y="15056"/>
                </a:moveTo>
                <a:cubicBezTo>
                  <a:pt x="16521" y="15161"/>
                  <a:pt x="16555" y="15272"/>
                  <a:pt x="16570" y="15379"/>
                </a:cubicBezTo>
                <a:cubicBezTo>
                  <a:pt x="16581" y="15281"/>
                  <a:pt x="16615" y="15065"/>
                  <a:pt x="16718" y="15280"/>
                </a:cubicBezTo>
                <a:cubicBezTo>
                  <a:pt x="16763" y="15435"/>
                  <a:pt x="16779" y="15474"/>
                  <a:pt x="16768" y="15577"/>
                </a:cubicBezTo>
              </a:path>
              <a:path w="1340" h="1192">
                <a:moveTo>
                  <a:pt x="16371" y="15627"/>
                </a:moveTo>
                <a:cubicBezTo>
                  <a:pt x="16544" y="15590"/>
                  <a:pt x="16718" y="15548"/>
                  <a:pt x="16892" y="15528"/>
                </a:cubicBezTo>
              </a:path>
              <a:path w="1340" h="1192">
                <a:moveTo>
                  <a:pt x="16396" y="15949"/>
                </a:moveTo>
                <a:cubicBezTo>
                  <a:pt x="16532" y="15931"/>
                  <a:pt x="16792" y="15836"/>
                  <a:pt x="16570" y="16049"/>
                </a:cubicBezTo>
                <a:cubicBezTo>
                  <a:pt x="16537" y="16074"/>
                  <a:pt x="16503" y="16098"/>
                  <a:pt x="16470" y="16123"/>
                </a:cubicBezTo>
                <a:cubicBezTo>
                  <a:pt x="16462" y="16140"/>
                  <a:pt x="16454" y="16156"/>
                  <a:pt x="16446" y="16173"/>
                </a:cubicBezTo>
                <a:cubicBezTo>
                  <a:pt x="16603" y="16113"/>
                  <a:pt x="16766" y="16008"/>
                  <a:pt x="16917" y="15925"/>
                </a:cubicBezTo>
              </a:path>
              <a:path w="1340" h="1192">
                <a:moveTo>
                  <a:pt x="17165" y="15478"/>
                </a:moveTo>
                <a:cubicBezTo>
                  <a:pt x="17229" y="15466"/>
                  <a:pt x="17359" y="15434"/>
                  <a:pt x="17388" y="1545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89800" y="5340240"/>
            <a:ext cx="206280" cy="401760"/>
          </a:xfrm>
          <a:custGeom>
            <a:avLst/>
            <a:gdLst/>
            <a:ahLst/>
            <a:rect l="l" t="t" r="r" b="b"/>
            <a:pathLst>
              <a:path w="571" h="1117">
                <a:moveTo>
                  <a:pt x="18604" y="14833"/>
                </a:moveTo>
                <a:cubicBezTo>
                  <a:pt x="18596" y="14841"/>
                  <a:pt x="18587" y="14850"/>
                  <a:pt x="18579" y="14858"/>
                </a:cubicBezTo>
                <a:cubicBezTo>
                  <a:pt x="18672" y="14858"/>
                  <a:pt x="18758" y="14878"/>
                  <a:pt x="18852" y="14883"/>
                </a:cubicBezTo>
                <a:cubicBezTo>
                  <a:pt x="18885" y="14883"/>
                  <a:pt x="18893" y="14874"/>
                  <a:pt x="18876" y="14833"/>
                </a:cubicBezTo>
              </a:path>
              <a:path w="571" h="1117">
                <a:moveTo>
                  <a:pt x="18306" y="15677"/>
                </a:moveTo>
                <a:cubicBezTo>
                  <a:pt x="18371" y="15668"/>
                  <a:pt x="18705" y="15587"/>
                  <a:pt x="18628" y="15726"/>
                </a:cubicBezTo>
                <a:cubicBezTo>
                  <a:pt x="18551" y="15830"/>
                  <a:pt x="18522" y="15867"/>
                  <a:pt x="18455" y="15925"/>
                </a:cubicBezTo>
                <a:cubicBezTo>
                  <a:pt x="18373" y="16004"/>
                  <a:pt x="18772" y="15838"/>
                  <a:pt x="18802" y="1582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08920" y="5241960"/>
            <a:ext cx="258840" cy="473040"/>
          </a:xfrm>
          <a:custGeom>
            <a:avLst/>
            <a:gdLst/>
            <a:ahLst/>
            <a:rect l="l" t="t" r="r" b="b"/>
            <a:pathLst>
              <a:path w="720" h="1316">
                <a:moveTo>
                  <a:pt x="19745" y="14610"/>
                </a:moveTo>
                <a:cubicBezTo>
                  <a:pt x="19769" y="14708"/>
                  <a:pt x="19777" y="14740"/>
                  <a:pt x="19769" y="14808"/>
                </a:cubicBezTo>
                <a:cubicBezTo>
                  <a:pt x="19920" y="14846"/>
                  <a:pt x="19936" y="14824"/>
                  <a:pt x="20067" y="14759"/>
                </a:cubicBezTo>
              </a:path>
              <a:path w="720" h="1316">
                <a:moveTo>
                  <a:pt x="20290" y="14560"/>
                </a:moveTo>
                <a:cubicBezTo>
                  <a:pt x="20120" y="14732"/>
                  <a:pt x="20249" y="14745"/>
                  <a:pt x="20340" y="14932"/>
                </a:cubicBezTo>
                <a:cubicBezTo>
                  <a:pt x="20364" y="15028"/>
                  <a:pt x="20375" y="15057"/>
                  <a:pt x="20315" y="15106"/>
                </a:cubicBezTo>
                <a:cubicBezTo>
                  <a:pt x="20153" y="14992"/>
                  <a:pt x="20258" y="14834"/>
                  <a:pt x="20340" y="14660"/>
                </a:cubicBezTo>
                <a:cubicBezTo>
                  <a:pt x="20363" y="14637"/>
                  <a:pt x="20371" y="14633"/>
                  <a:pt x="20365" y="14610"/>
                </a:cubicBezTo>
              </a:path>
              <a:path w="720" h="1316">
                <a:moveTo>
                  <a:pt x="19993" y="15577"/>
                </a:moveTo>
                <a:cubicBezTo>
                  <a:pt x="20069" y="15582"/>
                  <a:pt x="20141" y="15593"/>
                  <a:pt x="20216" y="15602"/>
                </a:cubicBezTo>
                <a:cubicBezTo>
                  <a:pt x="20169" y="15705"/>
                  <a:pt x="20120" y="15766"/>
                  <a:pt x="20042" y="15850"/>
                </a:cubicBezTo>
                <a:cubicBezTo>
                  <a:pt x="20150" y="15958"/>
                  <a:pt x="20388" y="15688"/>
                  <a:pt x="20464" y="15627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02240" y="5322960"/>
            <a:ext cx="206640" cy="133200"/>
          </a:xfrm>
          <a:custGeom>
            <a:avLst/>
            <a:gdLst/>
            <a:ahLst/>
            <a:rect l="l" t="t" r="r" b="b"/>
            <a:pathLst>
              <a:path w="571" h="373">
                <a:moveTo>
                  <a:pt x="17785" y="14784"/>
                </a:moveTo>
                <a:cubicBezTo>
                  <a:pt x="17804" y="14903"/>
                  <a:pt x="17835" y="15009"/>
                  <a:pt x="17835" y="15131"/>
                </a:cubicBezTo>
              </a:path>
              <a:path w="571" h="373">
                <a:moveTo>
                  <a:pt x="17934" y="14833"/>
                </a:moveTo>
                <a:cubicBezTo>
                  <a:pt x="18030" y="14785"/>
                  <a:pt x="18061" y="14768"/>
                  <a:pt x="18132" y="14808"/>
                </a:cubicBezTo>
                <a:cubicBezTo>
                  <a:pt x="18146" y="14988"/>
                  <a:pt x="18013" y="14993"/>
                  <a:pt x="17959" y="15131"/>
                </a:cubicBezTo>
                <a:cubicBezTo>
                  <a:pt x="17918" y="15237"/>
                  <a:pt x="18336" y="14999"/>
                  <a:pt x="18355" y="14982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59240" y="5705640"/>
            <a:ext cx="179640" cy="152280"/>
          </a:xfrm>
          <a:custGeom>
            <a:avLst/>
            <a:gdLst/>
            <a:ahLst/>
            <a:rect l="l" t="t" r="r" b="b"/>
            <a:pathLst>
              <a:path w="497" h="423">
                <a:moveTo>
                  <a:pt x="14784" y="16098"/>
                </a:moveTo>
                <a:cubicBezTo>
                  <a:pt x="14765" y="16192"/>
                  <a:pt x="14778" y="16212"/>
                  <a:pt x="14734" y="16247"/>
                </a:cubicBezTo>
                <a:cubicBezTo>
                  <a:pt x="14734" y="16163"/>
                  <a:pt x="14746" y="16167"/>
                  <a:pt x="14784" y="16049"/>
                </a:cubicBezTo>
              </a:path>
              <a:path w="497" h="423">
                <a:moveTo>
                  <a:pt x="14808" y="15850"/>
                </a:moveTo>
                <a:cubicBezTo>
                  <a:pt x="14919" y="15923"/>
                  <a:pt x="14975" y="16064"/>
                  <a:pt x="15056" y="16173"/>
                </a:cubicBezTo>
                <a:cubicBezTo>
                  <a:pt x="15095" y="16211"/>
                  <a:pt x="15112" y="16213"/>
                  <a:pt x="15106" y="16247"/>
                </a:cubicBezTo>
                <a:cubicBezTo>
                  <a:pt x="14947" y="16247"/>
                  <a:pt x="14793" y="16267"/>
                  <a:pt x="14635" y="16272"/>
                </a:cubicBezTo>
                <a:cubicBezTo>
                  <a:pt x="14592" y="16272"/>
                  <a:pt x="14589" y="16255"/>
                  <a:pt x="14635" y="16197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10160" y="5634000"/>
            <a:ext cx="71640" cy="19080"/>
          </a:xfrm>
          <a:custGeom>
            <a:avLst/>
            <a:gdLst/>
            <a:ahLst/>
            <a:rect l="l" t="t" r="r" b="b"/>
            <a:pathLst>
              <a:path w="200" h="50">
                <a:moveTo>
                  <a:pt x="15304" y="15701"/>
                </a:moveTo>
                <a:cubicBezTo>
                  <a:pt x="15378" y="15674"/>
                  <a:pt x="15400" y="15652"/>
                  <a:pt x="15478" y="15652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 the area of the triang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43000" y="2895480"/>
            <a:ext cx="1981080" cy="1371600"/>
          </a:xfrm>
          <a:prstGeom prst="rtTriangl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62720" y="2514600"/>
            <a:ext cx="2133360" cy="167652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4876920"/>
            <a:ext cx="3276720" cy="1447560"/>
          </a:xfrm>
          <a:prstGeom prst="triangle">
            <a:avLst>
              <a:gd name="adj" fmla="val 7156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3962520"/>
            <a:ext cx="304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3962520"/>
            <a:ext cx="0" cy="304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29400" y="2514600"/>
            <a:ext cx="0" cy="16765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3809880"/>
            <a:ext cx="304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934320" y="3809880"/>
            <a:ext cx="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76920" y="4876920"/>
            <a:ext cx="0" cy="1447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6019920"/>
            <a:ext cx="2286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05520" y="6019920"/>
            <a:ext cx="0" cy="304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1c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3276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c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72200" y="3276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24480" y="4267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2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91120" y="5562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5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1120" y="64911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7080" y="2178000"/>
            <a:ext cx="6813720" cy="536760"/>
          </a:xfrm>
          <a:custGeom>
            <a:avLst/>
            <a:gdLst/>
            <a:ahLst/>
            <a:rect l="l" t="t" r="r" b="b"/>
            <a:pathLst>
              <a:path w="18927" h="1490">
                <a:moveTo>
                  <a:pt x="6102" y="7243"/>
                </a:moveTo>
                <a:cubicBezTo>
                  <a:pt x="6213" y="7204"/>
                  <a:pt x="6238" y="7176"/>
                  <a:pt x="6350" y="7218"/>
                </a:cubicBezTo>
              </a:path>
              <a:path w="18927" h="1490">
                <a:moveTo>
                  <a:pt x="6102" y="7417"/>
                </a:moveTo>
                <a:cubicBezTo>
                  <a:pt x="6268" y="7361"/>
                  <a:pt x="6335" y="7338"/>
                  <a:pt x="6449" y="7293"/>
                </a:cubicBezTo>
              </a:path>
              <a:path w="18927" h="1490">
                <a:moveTo>
                  <a:pt x="6449" y="7293"/>
                </a:moveTo>
                <a:lnTo>
                  <a:pt x="6449" y="7293"/>
                </a:lnTo>
              </a:path>
              <a:path w="18927" h="1490">
                <a:moveTo>
                  <a:pt x="7689" y="7441"/>
                </a:moveTo>
                <a:cubicBezTo>
                  <a:pt x="7753" y="7410"/>
                  <a:pt x="7785" y="7398"/>
                  <a:pt x="7838" y="7392"/>
                </a:cubicBezTo>
              </a:path>
              <a:path w="18927" h="1490">
                <a:moveTo>
                  <a:pt x="7764" y="7516"/>
                </a:moveTo>
                <a:cubicBezTo>
                  <a:pt x="7805" y="7491"/>
                  <a:pt x="7847" y="7466"/>
                  <a:pt x="7888" y="7441"/>
                </a:cubicBezTo>
              </a:path>
              <a:path w="18927" h="1490">
                <a:moveTo>
                  <a:pt x="7888" y="7441"/>
                </a:moveTo>
                <a:lnTo>
                  <a:pt x="7888" y="7441"/>
                </a:lnTo>
              </a:path>
              <a:path w="18927" h="1490">
                <a:moveTo>
                  <a:pt x="8905" y="6871"/>
                </a:moveTo>
                <a:cubicBezTo>
                  <a:pt x="8905" y="6974"/>
                  <a:pt x="8907" y="7010"/>
                  <a:pt x="8954" y="7069"/>
                </a:cubicBezTo>
              </a:path>
              <a:path w="18927" h="1490">
                <a:moveTo>
                  <a:pt x="8954" y="7069"/>
                </a:moveTo>
                <a:lnTo>
                  <a:pt x="8954" y="7069"/>
                </a:lnTo>
              </a:path>
              <a:path w="18927" h="1490">
                <a:moveTo>
                  <a:pt x="8905" y="6648"/>
                </a:moveTo>
                <a:cubicBezTo>
                  <a:pt x="9072" y="6892"/>
                  <a:pt x="9123" y="6973"/>
                  <a:pt x="8954" y="7218"/>
                </a:cubicBezTo>
              </a:path>
              <a:path w="18927" h="1490">
                <a:moveTo>
                  <a:pt x="8384" y="7541"/>
                </a:moveTo>
                <a:cubicBezTo>
                  <a:pt x="8560" y="7484"/>
                  <a:pt x="8832" y="7368"/>
                  <a:pt x="8979" y="7417"/>
                </a:cubicBezTo>
              </a:path>
              <a:path w="18927" h="1490">
                <a:moveTo>
                  <a:pt x="9178" y="7367"/>
                </a:moveTo>
                <a:cubicBezTo>
                  <a:pt x="9238" y="7347"/>
                  <a:pt x="9253" y="7348"/>
                  <a:pt x="9277" y="7317"/>
                </a:cubicBezTo>
              </a:path>
              <a:path w="18927" h="1490">
                <a:moveTo>
                  <a:pt x="9079" y="7541"/>
                </a:moveTo>
                <a:cubicBezTo>
                  <a:pt x="9233" y="7489"/>
                  <a:pt x="9287" y="7468"/>
                  <a:pt x="9351" y="7367"/>
                </a:cubicBezTo>
              </a:path>
              <a:path w="18927" h="1490">
                <a:moveTo>
                  <a:pt x="9351" y="7367"/>
                </a:moveTo>
                <a:lnTo>
                  <a:pt x="9351" y="7367"/>
                </a:lnTo>
              </a:path>
              <a:path w="18927" h="1490">
                <a:moveTo>
                  <a:pt x="9748" y="7293"/>
                </a:moveTo>
                <a:cubicBezTo>
                  <a:pt x="9861" y="7261"/>
                  <a:pt x="10323" y="7170"/>
                  <a:pt x="10269" y="7144"/>
                </a:cubicBezTo>
              </a:path>
              <a:path w="18927" h="1490">
                <a:moveTo>
                  <a:pt x="10492" y="7243"/>
                </a:moveTo>
                <a:cubicBezTo>
                  <a:pt x="10542" y="7218"/>
                  <a:pt x="10559" y="7210"/>
                  <a:pt x="10592" y="7193"/>
                </a:cubicBezTo>
              </a:path>
              <a:path w="18927" h="1490">
                <a:moveTo>
                  <a:pt x="10492" y="7317"/>
                </a:moveTo>
                <a:cubicBezTo>
                  <a:pt x="10620" y="7267"/>
                  <a:pt x="10664" y="7248"/>
                  <a:pt x="10740" y="7193"/>
                </a:cubicBezTo>
              </a:path>
              <a:path w="18927" h="1490">
                <a:moveTo>
                  <a:pt x="10740" y="7193"/>
                </a:moveTo>
                <a:lnTo>
                  <a:pt x="10740" y="7193"/>
                </a:lnTo>
              </a:path>
              <a:path w="18927" h="1490">
                <a:moveTo>
                  <a:pt x="20042" y="7342"/>
                </a:moveTo>
                <a:cubicBezTo>
                  <a:pt x="20139" y="7310"/>
                  <a:pt x="20188" y="7297"/>
                  <a:pt x="20265" y="7293"/>
                </a:cubicBezTo>
              </a:path>
              <a:path w="18927" h="1490">
                <a:moveTo>
                  <a:pt x="20910" y="7020"/>
                </a:moveTo>
                <a:cubicBezTo>
                  <a:pt x="21013" y="6996"/>
                  <a:pt x="21085" y="6977"/>
                  <a:pt x="21183" y="6995"/>
                </a:cubicBezTo>
              </a:path>
              <a:path w="18927" h="1490">
                <a:moveTo>
                  <a:pt x="21034" y="7218"/>
                </a:moveTo>
                <a:cubicBezTo>
                  <a:pt x="21084" y="7202"/>
                  <a:pt x="21133" y="7185"/>
                  <a:pt x="21183" y="7169"/>
                </a:cubicBezTo>
              </a:path>
              <a:path w="18927" h="1490">
                <a:moveTo>
                  <a:pt x="21183" y="7169"/>
                </a:moveTo>
                <a:lnTo>
                  <a:pt x="21183" y="7169"/>
                </a:lnTo>
              </a:path>
              <a:path w="18927" h="1490">
                <a:moveTo>
                  <a:pt x="22299" y="7119"/>
                </a:moveTo>
                <a:cubicBezTo>
                  <a:pt x="22332" y="7111"/>
                  <a:pt x="22366" y="7102"/>
                  <a:pt x="22399" y="7094"/>
                </a:cubicBezTo>
              </a:path>
              <a:path w="18927" h="1490">
                <a:moveTo>
                  <a:pt x="22175" y="7317"/>
                </a:moveTo>
                <a:cubicBezTo>
                  <a:pt x="22294" y="7294"/>
                  <a:pt x="22331" y="7288"/>
                  <a:pt x="22399" y="7243"/>
                </a:cubicBezTo>
              </a:path>
              <a:path w="18927" h="1490">
                <a:moveTo>
                  <a:pt x="22399" y="7243"/>
                </a:moveTo>
                <a:lnTo>
                  <a:pt x="22399" y="7243"/>
                </a:lnTo>
              </a:path>
              <a:path w="18927" h="1490">
                <a:moveTo>
                  <a:pt x="22994" y="6226"/>
                </a:moveTo>
                <a:cubicBezTo>
                  <a:pt x="22961" y="6451"/>
                  <a:pt x="22855" y="6755"/>
                  <a:pt x="23044" y="6896"/>
                </a:cubicBezTo>
              </a:path>
              <a:path w="18927" h="1490">
                <a:moveTo>
                  <a:pt x="23093" y="6350"/>
                </a:moveTo>
                <a:cubicBezTo>
                  <a:pt x="23124" y="6494"/>
                  <a:pt x="23125" y="6670"/>
                  <a:pt x="23168" y="6796"/>
                </a:cubicBezTo>
              </a:path>
              <a:path w="18927" h="1490">
                <a:moveTo>
                  <a:pt x="23316" y="6052"/>
                </a:moveTo>
                <a:cubicBezTo>
                  <a:pt x="23535" y="6219"/>
                  <a:pt x="23781" y="6507"/>
                  <a:pt x="23540" y="6796"/>
                </a:cubicBezTo>
                <a:cubicBezTo>
                  <a:pt x="23482" y="6829"/>
                  <a:pt x="23424" y="6863"/>
                  <a:pt x="23366" y="6896"/>
                </a:cubicBezTo>
              </a:path>
              <a:path w="18927" h="1490">
                <a:moveTo>
                  <a:pt x="23788" y="6995"/>
                </a:moveTo>
                <a:cubicBezTo>
                  <a:pt x="23869" y="6968"/>
                  <a:pt x="23900" y="6959"/>
                  <a:pt x="23961" y="6970"/>
                </a:cubicBezTo>
              </a:path>
              <a:path w="18927" h="1490">
                <a:moveTo>
                  <a:pt x="23688" y="7193"/>
                </a:moveTo>
                <a:cubicBezTo>
                  <a:pt x="23845" y="7149"/>
                  <a:pt x="23885" y="7136"/>
                  <a:pt x="23986" y="7119"/>
                </a:cubicBezTo>
              </a:path>
              <a:path w="18927" h="1490">
                <a:moveTo>
                  <a:pt x="23986" y="7119"/>
                </a:moveTo>
                <a:lnTo>
                  <a:pt x="23986" y="7119"/>
                </a:lnTo>
              </a:path>
              <a:path w="18927" h="1490">
                <a:moveTo>
                  <a:pt x="24829" y="6796"/>
                </a:moveTo>
                <a:cubicBezTo>
                  <a:pt x="24903" y="6760"/>
                  <a:pt x="24936" y="6715"/>
                  <a:pt x="24929" y="6772"/>
                </a:cubicBezTo>
              </a:path>
              <a:path w="18927" h="1490">
                <a:moveTo>
                  <a:pt x="24854" y="6970"/>
                </a:moveTo>
                <a:cubicBezTo>
                  <a:pt x="24954" y="6930"/>
                  <a:pt x="24972" y="6926"/>
                  <a:pt x="25028" y="6896"/>
                </a:cubicBezTo>
              </a:path>
              <a:path w="18927" h="1490">
                <a:moveTo>
                  <a:pt x="25028" y="6896"/>
                </a:moveTo>
                <a:lnTo>
                  <a:pt x="25028" y="6896"/>
                </a:ln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874880" y="2446200"/>
            <a:ext cx="287280" cy="403200"/>
          </a:xfrm>
          <a:custGeom>
            <a:avLst/>
            <a:gdLst/>
            <a:ahLst/>
            <a:rect l="l" t="t" r="r" b="b"/>
            <a:pathLst>
              <a:path w="795" h="1118">
                <a:moveTo>
                  <a:pt x="5308" y="6921"/>
                </a:moveTo>
                <a:cubicBezTo>
                  <a:pt x="5277" y="7140"/>
                  <a:pt x="5280" y="7380"/>
                  <a:pt x="5209" y="7590"/>
                </a:cubicBezTo>
                <a:cubicBezTo>
                  <a:pt x="5209" y="7582"/>
                  <a:pt x="5209" y="7573"/>
                  <a:pt x="5209" y="7565"/>
                </a:cubicBezTo>
                <a:cubicBezTo>
                  <a:pt x="5255" y="7317"/>
                  <a:pt x="5316" y="7070"/>
                  <a:pt x="5358" y="6821"/>
                </a:cubicBezTo>
                <a:cubicBezTo>
                  <a:pt x="5358" y="6813"/>
                  <a:pt x="5358" y="6804"/>
                  <a:pt x="5358" y="6796"/>
                </a:cubicBezTo>
                <a:cubicBezTo>
                  <a:pt x="5472" y="7007"/>
                  <a:pt x="5539" y="7232"/>
                  <a:pt x="5606" y="7466"/>
                </a:cubicBezTo>
              </a:path>
              <a:path w="795" h="1118">
                <a:moveTo>
                  <a:pt x="5804" y="7565"/>
                </a:moveTo>
                <a:cubicBezTo>
                  <a:pt x="5799" y="7691"/>
                  <a:pt x="5797" y="7732"/>
                  <a:pt x="5779" y="7838"/>
                </a:cubicBezTo>
                <a:cubicBezTo>
                  <a:pt x="5779" y="7686"/>
                  <a:pt x="5772" y="7539"/>
                  <a:pt x="5804" y="7392"/>
                </a:cubicBezTo>
                <a:cubicBezTo>
                  <a:pt x="5829" y="7540"/>
                  <a:pt x="5917" y="7656"/>
                  <a:pt x="5978" y="7789"/>
                </a:cubicBezTo>
                <a:cubicBezTo>
                  <a:pt x="6046" y="7938"/>
                  <a:pt x="5899" y="7901"/>
                  <a:pt x="5779" y="7913"/>
                </a:cubicBezTo>
                <a:cubicBezTo>
                  <a:pt x="5721" y="7913"/>
                  <a:pt x="5705" y="7904"/>
                  <a:pt x="5730" y="7838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01920" y="2438280"/>
            <a:ext cx="260280" cy="446040"/>
          </a:xfrm>
          <a:custGeom>
            <a:avLst/>
            <a:gdLst/>
            <a:ahLst/>
            <a:rect l="l" t="t" r="r" b="b"/>
            <a:pathLst>
              <a:path w="721" h="1241">
                <a:moveTo>
                  <a:pt x="6672" y="6846"/>
                </a:moveTo>
                <a:cubicBezTo>
                  <a:pt x="6708" y="6941"/>
                  <a:pt x="6762" y="7234"/>
                  <a:pt x="6821" y="7293"/>
                </a:cubicBezTo>
                <a:cubicBezTo>
                  <a:pt x="6874" y="7346"/>
                  <a:pt x="6853" y="7155"/>
                  <a:pt x="6896" y="7094"/>
                </a:cubicBezTo>
                <a:cubicBezTo>
                  <a:pt x="6935" y="7133"/>
                  <a:pt x="6965" y="7302"/>
                  <a:pt x="6846" y="7293"/>
                </a:cubicBezTo>
                <a:cubicBezTo>
                  <a:pt x="6813" y="7276"/>
                  <a:pt x="6780" y="7260"/>
                  <a:pt x="6747" y="7243"/>
                </a:cubicBezTo>
              </a:path>
              <a:path w="721" h="1241">
                <a:moveTo>
                  <a:pt x="7020" y="6772"/>
                </a:moveTo>
                <a:cubicBezTo>
                  <a:pt x="7085" y="6885"/>
                  <a:pt x="7243" y="7169"/>
                  <a:pt x="7218" y="7193"/>
                </a:cubicBezTo>
                <a:cubicBezTo>
                  <a:pt x="7176" y="7013"/>
                  <a:pt x="7217" y="7055"/>
                  <a:pt x="7342" y="7169"/>
                </a:cubicBezTo>
                <a:cubicBezTo>
                  <a:pt x="7411" y="7232"/>
                  <a:pt x="7382" y="7219"/>
                  <a:pt x="7367" y="7293"/>
                </a:cubicBezTo>
              </a:path>
              <a:path w="721" h="1241">
                <a:moveTo>
                  <a:pt x="6871" y="7590"/>
                </a:moveTo>
                <a:cubicBezTo>
                  <a:pt x="7027" y="7534"/>
                  <a:pt x="7183" y="7456"/>
                  <a:pt x="7342" y="7417"/>
                </a:cubicBezTo>
              </a:path>
              <a:path w="721" h="1241">
                <a:moveTo>
                  <a:pt x="7020" y="7689"/>
                </a:moveTo>
                <a:cubicBezTo>
                  <a:pt x="7103" y="7689"/>
                  <a:pt x="7119" y="7689"/>
                  <a:pt x="7169" y="7689"/>
                </a:cubicBezTo>
                <a:cubicBezTo>
                  <a:pt x="7181" y="7815"/>
                  <a:pt x="6960" y="7900"/>
                  <a:pt x="7020" y="8012"/>
                </a:cubicBezTo>
                <a:cubicBezTo>
                  <a:pt x="7067" y="8098"/>
                  <a:pt x="7242" y="7914"/>
                  <a:pt x="7268" y="7888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01960" y="2411280"/>
            <a:ext cx="403200" cy="482760"/>
          </a:xfrm>
          <a:custGeom>
            <a:avLst/>
            <a:gdLst/>
            <a:ahLst/>
            <a:rect l="l" t="t" r="r" b="b"/>
            <a:pathLst>
              <a:path w="1117" h="1341">
                <a:moveTo>
                  <a:pt x="8086" y="6772"/>
                </a:moveTo>
                <a:cubicBezTo>
                  <a:pt x="8078" y="6882"/>
                  <a:pt x="7987" y="7167"/>
                  <a:pt x="8111" y="7243"/>
                </a:cubicBezTo>
                <a:cubicBezTo>
                  <a:pt x="8212" y="7305"/>
                  <a:pt x="8318" y="7177"/>
                  <a:pt x="8334" y="7094"/>
                </a:cubicBezTo>
                <a:cubicBezTo>
                  <a:pt x="8259" y="7169"/>
                  <a:pt x="8252" y="7151"/>
                  <a:pt x="8235" y="7268"/>
                </a:cubicBezTo>
              </a:path>
              <a:path w="1117" h="1341">
                <a:moveTo>
                  <a:pt x="8483" y="6697"/>
                </a:moveTo>
                <a:cubicBezTo>
                  <a:pt x="8480" y="6785"/>
                  <a:pt x="8379" y="7303"/>
                  <a:pt x="8582" y="7268"/>
                </a:cubicBezTo>
                <a:cubicBezTo>
                  <a:pt x="8632" y="7243"/>
                  <a:pt x="8681" y="7218"/>
                  <a:pt x="8731" y="7193"/>
                </a:cubicBezTo>
              </a:path>
              <a:path w="1117" h="1341">
                <a:moveTo>
                  <a:pt x="8756" y="7020"/>
                </a:moveTo>
                <a:cubicBezTo>
                  <a:pt x="8756" y="7159"/>
                  <a:pt x="8722" y="7189"/>
                  <a:pt x="8806" y="7119"/>
                </a:cubicBezTo>
              </a:path>
              <a:path w="1117" h="1341">
                <a:moveTo>
                  <a:pt x="8731" y="7689"/>
                </a:moveTo>
                <a:cubicBezTo>
                  <a:pt x="8798" y="7689"/>
                  <a:pt x="8850" y="7690"/>
                  <a:pt x="8905" y="7714"/>
                </a:cubicBezTo>
                <a:cubicBezTo>
                  <a:pt x="8849" y="7827"/>
                  <a:pt x="8786" y="7926"/>
                  <a:pt x="8731" y="8037"/>
                </a:cubicBezTo>
                <a:cubicBezTo>
                  <a:pt x="9015" y="7989"/>
                  <a:pt x="9044" y="7832"/>
                  <a:pt x="9178" y="7590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54280" y="2232000"/>
            <a:ext cx="1143000" cy="706320"/>
          </a:xfrm>
          <a:custGeom>
            <a:avLst/>
            <a:gdLst/>
            <a:ahLst/>
            <a:rect l="l" t="t" r="r" b="b"/>
            <a:pathLst>
              <a:path w="3176" h="1961">
                <a:moveTo>
                  <a:pt x="9922" y="7466"/>
                </a:moveTo>
                <a:cubicBezTo>
                  <a:pt x="10013" y="7448"/>
                  <a:pt x="10020" y="7439"/>
                  <a:pt x="10071" y="7441"/>
                </a:cubicBezTo>
                <a:cubicBezTo>
                  <a:pt x="10017" y="7567"/>
                  <a:pt x="9942" y="7672"/>
                  <a:pt x="9872" y="7789"/>
                </a:cubicBezTo>
                <a:cubicBezTo>
                  <a:pt x="10084" y="7765"/>
                  <a:pt x="10087" y="7740"/>
                  <a:pt x="10244" y="7590"/>
                </a:cubicBezTo>
              </a:path>
              <a:path w="3176" h="1961">
                <a:moveTo>
                  <a:pt x="10765" y="6970"/>
                </a:moveTo>
                <a:cubicBezTo>
                  <a:pt x="10904" y="6920"/>
                  <a:pt x="10981" y="6902"/>
                  <a:pt x="11088" y="6995"/>
                </a:cubicBezTo>
                <a:cubicBezTo>
                  <a:pt x="11045" y="7080"/>
                  <a:pt x="10935" y="7073"/>
                  <a:pt x="10939" y="7169"/>
                </a:cubicBezTo>
                <a:cubicBezTo>
                  <a:pt x="10977" y="7169"/>
                  <a:pt x="11253" y="7142"/>
                  <a:pt x="11162" y="7268"/>
                </a:cubicBezTo>
                <a:cubicBezTo>
                  <a:pt x="11091" y="7367"/>
                  <a:pt x="11007" y="7361"/>
                  <a:pt x="10914" y="7342"/>
                </a:cubicBezTo>
              </a:path>
              <a:path w="3176" h="1961">
                <a:moveTo>
                  <a:pt x="11237" y="6846"/>
                </a:moveTo>
                <a:cubicBezTo>
                  <a:pt x="11274" y="6830"/>
                  <a:pt x="11492" y="6761"/>
                  <a:pt x="11460" y="6871"/>
                </a:cubicBezTo>
                <a:cubicBezTo>
                  <a:pt x="11407" y="6949"/>
                  <a:pt x="11387" y="6978"/>
                  <a:pt x="11336" y="7020"/>
                </a:cubicBezTo>
                <a:cubicBezTo>
                  <a:pt x="11328" y="7020"/>
                  <a:pt x="11319" y="7020"/>
                  <a:pt x="11311" y="7020"/>
                </a:cubicBezTo>
                <a:cubicBezTo>
                  <a:pt x="11368" y="7020"/>
                  <a:pt x="11577" y="7006"/>
                  <a:pt x="11559" y="7119"/>
                </a:cubicBezTo>
                <a:cubicBezTo>
                  <a:pt x="11535" y="7268"/>
                  <a:pt x="11359" y="7238"/>
                  <a:pt x="11261" y="7243"/>
                </a:cubicBezTo>
              </a:path>
              <a:path w="3176" h="1961">
                <a:moveTo>
                  <a:pt x="11733" y="6995"/>
                </a:moveTo>
                <a:cubicBezTo>
                  <a:pt x="11741" y="7003"/>
                  <a:pt x="11749" y="7012"/>
                  <a:pt x="11757" y="7020"/>
                </a:cubicBezTo>
                <a:cubicBezTo>
                  <a:pt x="11687" y="6948"/>
                  <a:pt x="11654" y="6983"/>
                  <a:pt x="11658" y="7119"/>
                </a:cubicBezTo>
                <a:cubicBezTo>
                  <a:pt x="11664" y="7345"/>
                  <a:pt x="11872" y="7203"/>
                  <a:pt x="11931" y="7094"/>
                </a:cubicBezTo>
                <a:cubicBezTo>
                  <a:pt x="11931" y="7078"/>
                  <a:pt x="11931" y="7061"/>
                  <a:pt x="11931" y="7045"/>
                </a:cubicBezTo>
                <a:cubicBezTo>
                  <a:pt x="11912" y="7106"/>
                  <a:pt x="11906" y="7150"/>
                  <a:pt x="11906" y="7218"/>
                </a:cubicBezTo>
                <a:cubicBezTo>
                  <a:pt x="11956" y="7135"/>
                  <a:pt x="11920" y="7051"/>
                  <a:pt x="12030" y="7119"/>
                </a:cubicBezTo>
                <a:cubicBezTo>
                  <a:pt x="12038" y="7127"/>
                  <a:pt x="12047" y="7136"/>
                  <a:pt x="12055" y="7144"/>
                </a:cubicBezTo>
                <a:cubicBezTo>
                  <a:pt x="12055" y="7171"/>
                  <a:pt x="12064" y="7047"/>
                  <a:pt x="12129" y="6995"/>
                </a:cubicBezTo>
                <a:cubicBezTo>
                  <a:pt x="12209" y="6932"/>
                  <a:pt x="12226" y="7098"/>
                  <a:pt x="12328" y="7094"/>
                </a:cubicBezTo>
              </a:path>
              <a:path w="3176" h="1961">
                <a:moveTo>
                  <a:pt x="12378" y="6672"/>
                </a:moveTo>
                <a:cubicBezTo>
                  <a:pt x="12435" y="6653"/>
                  <a:pt x="12442" y="6645"/>
                  <a:pt x="12477" y="6648"/>
                </a:cubicBezTo>
                <a:cubicBezTo>
                  <a:pt x="12456" y="6711"/>
                  <a:pt x="12444" y="6765"/>
                  <a:pt x="12402" y="6796"/>
                </a:cubicBezTo>
                <a:cubicBezTo>
                  <a:pt x="12529" y="6859"/>
                  <a:pt x="12630" y="6782"/>
                  <a:pt x="12750" y="6722"/>
                </a:cubicBezTo>
              </a:path>
              <a:path w="3176" h="1961">
                <a:moveTo>
                  <a:pt x="10765" y="7913"/>
                </a:moveTo>
                <a:cubicBezTo>
                  <a:pt x="11528" y="7824"/>
                  <a:pt x="12191" y="7646"/>
                  <a:pt x="12774" y="7119"/>
                </a:cubicBezTo>
                <a:cubicBezTo>
                  <a:pt x="13075" y="6847"/>
                  <a:pt x="13040" y="6769"/>
                  <a:pt x="12973" y="6424"/>
                </a:cubicBezTo>
                <a:cubicBezTo>
                  <a:pt x="12311" y="6153"/>
                  <a:pt x="11895" y="6176"/>
                  <a:pt x="11237" y="6548"/>
                </a:cubicBezTo>
                <a:cubicBezTo>
                  <a:pt x="10332" y="7060"/>
                  <a:pt x="10335" y="7511"/>
                  <a:pt x="10939" y="816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43840" y="2438280"/>
            <a:ext cx="169920" cy="249480"/>
          </a:xfrm>
          <a:custGeom>
            <a:avLst/>
            <a:gdLst/>
            <a:ahLst/>
            <a:rect l="l" t="t" r="r" b="b"/>
            <a:pathLst>
              <a:path w="472" h="695">
                <a:moveTo>
                  <a:pt x="19943" y="7169"/>
                </a:moveTo>
                <a:cubicBezTo>
                  <a:pt x="19901" y="7337"/>
                  <a:pt x="19898" y="7375"/>
                  <a:pt x="19844" y="7466"/>
                </a:cubicBezTo>
                <a:cubicBezTo>
                  <a:pt x="19874" y="7285"/>
                  <a:pt x="19925" y="7094"/>
                  <a:pt x="19993" y="6921"/>
                </a:cubicBezTo>
                <a:cubicBezTo>
                  <a:pt x="20018" y="6871"/>
                  <a:pt x="20042" y="6822"/>
                  <a:pt x="20067" y="6772"/>
                </a:cubicBezTo>
                <a:cubicBezTo>
                  <a:pt x="20183" y="6975"/>
                  <a:pt x="20279" y="7159"/>
                  <a:pt x="20315" y="7392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70880" y="2251080"/>
            <a:ext cx="1224000" cy="534960"/>
          </a:xfrm>
          <a:custGeom>
            <a:avLst/>
            <a:gdLst/>
            <a:ahLst/>
            <a:rect l="l" t="t" r="r" b="b"/>
            <a:pathLst>
              <a:path w="3399" h="1489">
                <a:moveTo>
                  <a:pt x="21307" y="6623"/>
                </a:moveTo>
                <a:cubicBezTo>
                  <a:pt x="21380" y="6770"/>
                  <a:pt x="21432" y="6889"/>
                  <a:pt x="21481" y="7045"/>
                </a:cubicBezTo>
                <a:cubicBezTo>
                  <a:pt x="21481" y="6867"/>
                  <a:pt x="21511" y="6849"/>
                  <a:pt x="21654" y="6871"/>
                </a:cubicBezTo>
                <a:cubicBezTo>
                  <a:pt x="21662" y="6980"/>
                  <a:pt x="21553" y="7193"/>
                  <a:pt x="21431" y="6995"/>
                </a:cubicBezTo>
                <a:cubicBezTo>
                  <a:pt x="21431" y="6962"/>
                  <a:pt x="21431" y="6929"/>
                  <a:pt x="21431" y="6896"/>
                </a:cubicBezTo>
              </a:path>
              <a:path w="3399" h="1489">
                <a:moveTo>
                  <a:pt x="21704" y="6548"/>
                </a:moveTo>
                <a:cubicBezTo>
                  <a:pt x="21782" y="6697"/>
                  <a:pt x="21839" y="6852"/>
                  <a:pt x="21903" y="6995"/>
                </a:cubicBezTo>
                <a:cubicBezTo>
                  <a:pt x="21903" y="6927"/>
                  <a:pt x="21911" y="6887"/>
                  <a:pt x="21927" y="6821"/>
                </a:cubicBezTo>
                <a:cubicBezTo>
                  <a:pt x="22020" y="6893"/>
                  <a:pt x="22035" y="6936"/>
                  <a:pt x="22076" y="7045"/>
                </a:cubicBezTo>
              </a:path>
              <a:path w="3399" h="1489">
                <a:moveTo>
                  <a:pt x="21481" y="7193"/>
                </a:moveTo>
                <a:cubicBezTo>
                  <a:pt x="21699" y="7166"/>
                  <a:pt x="21910" y="7133"/>
                  <a:pt x="22126" y="7094"/>
                </a:cubicBezTo>
              </a:path>
              <a:path w="3399" h="1489">
                <a:moveTo>
                  <a:pt x="21679" y="7441"/>
                </a:moveTo>
                <a:cubicBezTo>
                  <a:pt x="21913" y="7407"/>
                  <a:pt x="21903" y="7401"/>
                  <a:pt x="21754" y="7590"/>
                </a:cubicBezTo>
                <a:cubicBezTo>
                  <a:pt x="21721" y="7631"/>
                  <a:pt x="21687" y="7673"/>
                  <a:pt x="21654" y="7714"/>
                </a:cubicBezTo>
                <a:cubicBezTo>
                  <a:pt x="21534" y="7839"/>
                  <a:pt x="21921" y="7643"/>
                  <a:pt x="22076" y="7565"/>
                </a:cubicBezTo>
              </a:path>
              <a:path w="3399" h="1489">
                <a:moveTo>
                  <a:pt x="22721" y="6449"/>
                </a:moveTo>
                <a:cubicBezTo>
                  <a:pt x="22585" y="6483"/>
                  <a:pt x="22595" y="6450"/>
                  <a:pt x="22547" y="6573"/>
                </a:cubicBezTo>
                <a:cubicBezTo>
                  <a:pt x="22527" y="6614"/>
                  <a:pt x="22519" y="6620"/>
                  <a:pt x="22523" y="6648"/>
                </a:cubicBezTo>
                <a:cubicBezTo>
                  <a:pt x="22628" y="6612"/>
                  <a:pt x="22690" y="6554"/>
                  <a:pt x="22796" y="6648"/>
                </a:cubicBezTo>
                <a:cubicBezTo>
                  <a:pt x="22804" y="6664"/>
                  <a:pt x="22812" y="6681"/>
                  <a:pt x="22820" y="6697"/>
                </a:cubicBezTo>
                <a:cubicBezTo>
                  <a:pt x="22680" y="6808"/>
                  <a:pt x="22593" y="6894"/>
                  <a:pt x="22547" y="6697"/>
                </a:cubicBezTo>
              </a:path>
              <a:path w="3399" h="1489">
                <a:moveTo>
                  <a:pt x="23217" y="6375"/>
                </a:moveTo>
                <a:cubicBezTo>
                  <a:pt x="23355" y="6352"/>
                  <a:pt x="23448" y="6376"/>
                  <a:pt x="23341" y="6548"/>
                </a:cubicBezTo>
                <a:cubicBezTo>
                  <a:pt x="23316" y="6573"/>
                  <a:pt x="23292" y="6598"/>
                  <a:pt x="23267" y="6623"/>
                </a:cubicBezTo>
                <a:cubicBezTo>
                  <a:pt x="23259" y="6631"/>
                  <a:pt x="23250" y="6640"/>
                  <a:pt x="23242" y="6648"/>
                </a:cubicBezTo>
                <a:cubicBezTo>
                  <a:pt x="23369" y="6630"/>
                  <a:pt x="23490" y="6583"/>
                  <a:pt x="23614" y="6548"/>
                </a:cubicBezTo>
              </a:path>
              <a:path w="3399" h="1489">
                <a:moveTo>
                  <a:pt x="22845" y="7045"/>
                </a:moveTo>
                <a:cubicBezTo>
                  <a:pt x="23037" y="7012"/>
                  <a:pt x="23414" y="6875"/>
                  <a:pt x="23416" y="6970"/>
                </a:cubicBezTo>
              </a:path>
              <a:path w="3399" h="1489">
                <a:moveTo>
                  <a:pt x="22969" y="7293"/>
                </a:moveTo>
                <a:cubicBezTo>
                  <a:pt x="23035" y="7276"/>
                  <a:pt x="23101" y="7255"/>
                  <a:pt x="23168" y="7243"/>
                </a:cubicBezTo>
                <a:cubicBezTo>
                  <a:pt x="23155" y="7369"/>
                  <a:pt x="23110" y="7415"/>
                  <a:pt x="23044" y="7516"/>
                </a:cubicBezTo>
                <a:cubicBezTo>
                  <a:pt x="23233" y="7516"/>
                  <a:pt x="23329" y="7457"/>
                  <a:pt x="23490" y="7367"/>
                </a:cubicBezTo>
              </a:path>
              <a:path w="3399" h="1489">
                <a:moveTo>
                  <a:pt x="24185" y="6276"/>
                </a:moveTo>
                <a:cubicBezTo>
                  <a:pt x="24185" y="6240"/>
                  <a:pt x="24150" y="6513"/>
                  <a:pt x="24135" y="6573"/>
                </a:cubicBezTo>
                <a:cubicBezTo>
                  <a:pt x="24089" y="6754"/>
                  <a:pt x="24254" y="6603"/>
                  <a:pt x="24309" y="6548"/>
                </a:cubicBezTo>
                <a:cubicBezTo>
                  <a:pt x="24329" y="6508"/>
                  <a:pt x="24347" y="6492"/>
                  <a:pt x="24309" y="6499"/>
                </a:cubicBezTo>
                <a:cubicBezTo>
                  <a:pt x="24186" y="6631"/>
                  <a:pt x="24046" y="6701"/>
                  <a:pt x="24309" y="6672"/>
                </a:cubicBezTo>
              </a:path>
              <a:path w="3399" h="1489">
                <a:moveTo>
                  <a:pt x="24507" y="6276"/>
                </a:moveTo>
                <a:cubicBezTo>
                  <a:pt x="24487" y="6377"/>
                  <a:pt x="24482" y="6448"/>
                  <a:pt x="24507" y="6548"/>
                </a:cubicBezTo>
                <a:cubicBezTo>
                  <a:pt x="24610" y="6534"/>
                  <a:pt x="24798" y="6482"/>
                  <a:pt x="24681" y="6325"/>
                </a:cubicBezTo>
                <a:cubicBezTo>
                  <a:pt x="24603" y="6274"/>
                  <a:pt x="24574" y="6258"/>
                  <a:pt x="24507" y="6300"/>
                </a:cubicBezTo>
              </a:path>
              <a:path w="3399" h="1489">
                <a:moveTo>
                  <a:pt x="24284" y="6796"/>
                </a:moveTo>
                <a:cubicBezTo>
                  <a:pt x="24406" y="6706"/>
                  <a:pt x="24506" y="6663"/>
                  <a:pt x="24656" y="6648"/>
                </a:cubicBezTo>
                <a:cubicBezTo>
                  <a:pt x="24664" y="6648"/>
                  <a:pt x="24673" y="6648"/>
                  <a:pt x="24681" y="6648"/>
                </a:cubicBezTo>
              </a:path>
              <a:path w="3399" h="1489">
                <a:moveTo>
                  <a:pt x="24383" y="6921"/>
                </a:moveTo>
                <a:cubicBezTo>
                  <a:pt x="24482" y="6896"/>
                  <a:pt x="24515" y="6888"/>
                  <a:pt x="24581" y="6871"/>
                </a:cubicBezTo>
                <a:cubicBezTo>
                  <a:pt x="24554" y="6987"/>
                  <a:pt x="24479" y="7129"/>
                  <a:pt x="24383" y="7218"/>
                </a:cubicBezTo>
                <a:cubicBezTo>
                  <a:pt x="24348" y="7251"/>
                  <a:pt x="24636" y="7103"/>
                  <a:pt x="24681" y="706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93960" y="2652840"/>
            <a:ext cx="5776920" cy="2170080"/>
          </a:xfrm>
          <a:custGeom>
            <a:avLst/>
            <a:gdLst/>
            <a:ahLst/>
            <a:rect l="l" t="t" r="r" b="b"/>
            <a:pathLst>
              <a:path w="16049" h="6029">
                <a:moveTo>
                  <a:pt x="5259" y="7466"/>
                </a:moveTo>
                <a:cubicBezTo>
                  <a:pt x="5403" y="7394"/>
                  <a:pt x="5447" y="7370"/>
                  <a:pt x="5556" y="7367"/>
                </a:cubicBezTo>
              </a:path>
              <a:path w="16049" h="6029">
                <a:moveTo>
                  <a:pt x="20638" y="12675"/>
                </a:moveTo>
                <a:cubicBezTo>
                  <a:pt x="20591" y="12875"/>
                  <a:pt x="20465" y="13206"/>
                  <a:pt x="20662" y="13370"/>
                </a:cubicBezTo>
                <a:cubicBezTo>
                  <a:pt x="20695" y="13378"/>
                  <a:pt x="20729" y="13387"/>
                  <a:pt x="20762" y="13395"/>
                </a:cubicBezTo>
              </a:path>
              <a:path w="16049" h="6029">
                <a:moveTo>
                  <a:pt x="21109" y="12675"/>
                </a:moveTo>
                <a:cubicBezTo>
                  <a:pt x="21256" y="12866"/>
                  <a:pt x="21438" y="13115"/>
                  <a:pt x="21158" y="13320"/>
                </a:cubicBezTo>
                <a:cubicBezTo>
                  <a:pt x="21109" y="13337"/>
                  <a:pt x="21059" y="13353"/>
                  <a:pt x="21010" y="13370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29000" y="2384280"/>
            <a:ext cx="277920" cy="169920"/>
          </a:xfrm>
          <a:custGeom>
            <a:avLst/>
            <a:gdLst/>
            <a:ahLst/>
            <a:rect l="l" t="t" r="r" b="b"/>
            <a:pathLst>
              <a:path w="770" h="472">
                <a:moveTo>
                  <a:pt x="9525" y="6896"/>
                </a:moveTo>
                <a:cubicBezTo>
                  <a:pt x="9566" y="6977"/>
                  <a:pt x="9788" y="7276"/>
                  <a:pt x="9872" y="6995"/>
                </a:cubicBezTo>
                <a:cubicBezTo>
                  <a:pt x="9864" y="6962"/>
                  <a:pt x="9855" y="6929"/>
                  <a:pt x="9847" y="6896"/>
                </a:cubicBezTo>
                <a:cubicBezTo>
                  <a:pt x="9741" y="6883"/>
                  <a:pt x="9761" y="6910"/>
                  <a:pt x="9699" y="7020"/>
                </a:cubicBezTo>
                <a:cubicBezTo>
                  <a:pt x="9785" y="7064"/>
                  <a:pt x="9842" y="7061"/>
                  <a:pt x="9922" y="6995"/>
                </a:cubicBezTo>
              </a:path>
              <a:path w="770" h="472">
                <a:moveTo>
                  <a:pt x="10046" y="6623"/>
                </a:moveTo>
                <a:cubicBezTo>
                  <a:pt x="10024" y="6733"/>
                  <a:pt x="10024" y="6811"/>
                  <a:pt x="10046" y="6921"/>
                </a:cubicBezTo>
                <a:cubicBezTo>
                  <a:pt x="10209" y="6911"/>
                  <a:pt x="10259" y="6919"/>
                  <a:pt x="10294" y="6747"/>
                </a:cubicBezTo>
                <a:cubicBezTo>
                  <a:pt x="10197" y="6807"/>
                  <a:pt x="10170" y="6897"/>
                  <a:pt x="10195" y="7020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661240" y="2973240"/>
            <a:ext cx="1800" cy="27000"/>
          </a:xfrm>
          <a:custGeom>
            <a:avLst/>
            <a:gdLst/>
            <a:ahLst/>
            <a:rect l="l" t="t" r="r" b="b"/>
            <a:pathLst>
              <a:path w="1" h="75">
                <a:moveTo>
                  <a:pt x="24061" y="8260"/>
                </a:moveTo>
                <a:cubicBezTo>
                  <a:pt x="24061" y="8285"/>
                  <a:pt x="24061" y="8309"/>
                  <a:pt x="24061" y="833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75680" y="2633760"/>
            <a:ext cx="107640" cy="179280"/>
          </a:xfrm>
          <a:custGeom>
            <a:avLst/>
            <a:gdLst/>
            <a:ahLst/>
            <a:rect l="l" t="t" r="r" b="b"/>
            <a:pathLst>
              <a:path w="298" h="497">
                <a:moveTo>
                  <a:pt x="20563" y="7491"/>
                </a:moveTo>
                <a:cubicBezTo>
                  <a:pt x="20541" y="7598"/>
                  <a:pt x="20533" y="7622"/>
                  <a:pt x="20538" y="7689"/>
                </a:cubicBezTo>
                <a:cubicBezTo>
                  <a:pt x="20538" y="7565"/>
                  <a:pt x="20604" y="7461"/>
                  <a:pt x="20638" y="7342"/>
                </a:cubicBezTo>
                <a:cubicBezTo>
                  <a:pt x="20638" y="7334"/>
                  <a:pt x="20638" y="7325"/>
                  <a:pt x="20638" y="7317"/>
                </a:cubicBezTo>
                <a:cubicBezTo>
                  <a:pt x="20700" y="7414"/>
                  <a:pt x="20711" y="7536"/>
                  <a:pt x="20762" y="7640"/>
                </a:cubicBezTo>
                <a:cubicBezTo>
                  <a:pt x="20789" y="7668"/>
                  <a:pt x="20797" y="7682"/>
                  <a:pt x="20786" y="7714"/>
                </a:cubicBezTo>
                <a:cubicBezTo>
                  <a:pt x="20691" y="7746"/>
                  <a:pt x="20589" y="7780"/>
                  <a:pt x="20489" y="781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62920" y="2724120"/>
            <a:ext cx="866880" cy="482760"/>
          </a:xfrm>
          <a:custGeom>
            <a:avLst/>
            <a:gdLst/>
            <a:ahLst/>
            <a:rect l="l" t="t" r="r" b="b"/>
            <a:pathLst>
              <a:path w="2407" h="1341">
                <a:moveTo>
                  <a:pt x="23019" y="8062"/>
                </a:moveTo>
                <a:cubicBezTo>
                  <a:pt x="23043" y="8059"/>
                  <a:pt x="23299" y="7979"/>
                  <a:pt x="23217" y="8111"/>
                </a:cubicBezTo>
                <a:cubicBezTo>
                  <a:pt x="23130" y="8198"/>
                  <a:pt x="23111" y="8222"/>
                  <a:pt x="23044" y="8260"/>
                </a:cubicBezTo>
                <a:cubicBezTo>
                  <a:pt x="23202" y="8278"/>
                  <a:pt x="23167" y="8277"/>
                  <a:pt x="23242" y="8359"/>
                </a:cubicBezTo>
                <a:cubicBezTo>
                  <a:pt x="23123" y="8453"/>
                  <a:pt x="23067" y="8517"/>
                  <a:pt x="22920" y="8434"/>
                </a:cubicBezTo>
              </a:path>
              <a:path w="2407" h="1341">
                <a:moveTo>
                  <a:pt x="23515" y="8111"/>
                </a:moveTo>
                <a:cubicBezTo>
                  <a:pt x="23450" y="8241"/>
                  <a:pt x="23419" y="8269"/>
                  <a:pt x="23465" y="8359"/>
                </a:cubicBezTo>
                <a:cubicBezTo>
                  <a:pt x="23578" y="8364"/>
                  <a:pt x="23992" y="8341"/>
                  <a:pt x="23763" y="8111"/>
                </a:cubicBezTo>
                <a:cubicBezTo>
                  <a:pt x="23664" y="8086"/>
                  <a:pt x="23630" y="8078"/>
                  <a:pt x="23564" y="8111"/>
                </a:cubicBezTo>
              </a:path>
              <a:path w="2407" h="1341">
                <a:moveTo>
                  <a:pt x="24036" y="7987"/>
                </a:moveTo>
                <a:cubicBezTo>
                  <a:pt x="24124" y="8009"/>
                  <a:pt x="24132" y="8080"/>
                  <a:pt x="24160" y="8161"/>
                </a:cubicBezTo>
                <a:cubicBezTo>
                  <a:pt x="24179" y="8218"/>
                  <a:pt x="24188" y="8225"/>
                  <a:pt x="24185" y="8260"/>
                </a:cubicBezTo>
                <a:cubicBezTo>
                  <a:pt x="24139" y="8245"/>
                  <a:pt x="24144" y="8154"/>
                  <a:pt x="24185" y="8111"/>
                </a:cubicBezTo>
                <a:cubicBezTo>
                  <a:pt x="24321" y="7968"/>
                  <a:pt x="24405" y="8147"/>
                  <a:pt x="24433" y="8260"/>
                </a:cubicBezTo>
                <a:cubicBezTo>
                  <a:pt x="24433" y="8285"/>
                  <a:pt x="24433" y="8293"/>
                  <a:pt x="24433" y="8260"/>
                </a:cubicBezTo>
              </a:path>
              <a:path w="2407" h="1341">
                <a:moveTo>
                  <a:pt x="24507" y="7789"/>
                </a:moveTo>
                <a:cubicBezTo>
                  <a:pt x="24589" y="7761"/>
                  <a:pt x="24622" y="7751"/>
                  <a:pt x="24681" y="7739"/>
                </a:cubicBezTo>
                <a:cubicBezTo>
                  <a:pt x="24742" y="7866"/>
                  <a:pt x="24647" y="7885"/>
                  <a:pt x="24581" y="7987"/>
                </a:cubicBezTo>
                <a:cubicBezTo>
                  <a:pt x="24531" y="8064"/>
                  <a:pt x="24775" y="8013"/>
                  <a:pt x="24780" y="8012"/>
                </a:cubicBezTo>
              </a:path>
              <a:path w="2407" h="1341">
                <a:moveTo>
                  <a:pt x="22895" y="8657"/>
                </a:moveTo>
                <a:cubicBezTo>
                  <a:pt x="23445" y="8679"/>
                  <a:pt x="24032" y="8689"/>
                  <a:pt x="24532" y="8409"/>
                </a:cubicBezTo>
                <a:cubicBezTo>
                  <a:pt x="24731" y="8231"/>
                  <a:pt x="24798" y="8195"/>
                  <a:pt x="24805" y="8012"/>
                </a:cubicBezTo>
                <a:cubicBezTo>
                  <a:pt x="24420" y="7511"/>
                  <a:pt x="23937" y="7464"/>
                  <a:pt x="23316" y="7764"/>
                </a:cubicBezTo>
                <a:cubicBezTo>
                  <a:pt x="22211" y="8298"/>
                  <a:pt x="22193" y="8793"/>
                  <a:pt x="23292" y="890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697360" y="4653000"/>
            <a:ext cx="2768760" cy="339840"/>
          </a:xfrm>
          <a:custGeom>
            <a:avLst/>
            <a:gdLst/>
            <a:ahLst/>
            <a:rect l="l" t="t" r="r" b="b"/>
            <a:pathLst>
              <a:path w="7691" h="944">
                <a:moveTo>
                  <a:pt x="15825" y="13791"/>
                </a:moveTo>
                <a:cubicBezTo>
                  <a:pt x="15950" y="13761"/>
                  <a:pt x="16008" y="13746"/>
                  <a:pt x="16098" y="13717"/>
                </a:cubicBezTo>
              </a:path>
              <a:path w="7691" h="944">
                <a:moveTo>
                  <a:pt x="16842" y="13519"/>
                </a:moveTo>
                <a:cubicBezTo>
                  <a:pt x="16991" y="13464"/>
                  <a:pt x="17025" y="13392"/>
                  <a:pt x="17041" y="13519"/>
                </a:cubicBezTo>
              </a:path>
              <a:path w="7691" h="944">
                <a:moveTo>
                  <a:pt x="16842" y="13742"/>
                </a:moveTo>
                <a:cubicBezTo>
                  <a:pt x="16908" y="13717"/>
                  <a:pt x="16975" y="13692"/>
                  <a:pt x="17041" y="13667"/>
                </a:cubicBezTo>
              </a:path>
              <a:path w="7691" h="944">
                <a:moveTo>
                  <a:pt x="17041" y="13667"/>
                </a:moveTo>
                <a:lnTo>
                  <a:pt x="17041" y="13667"/>
                </a:lnTo>
              </a:path>
              <a:path w="7691" h="944">
                <a:moveTo>
                  <a:pt x="17611" y="13866"/>
                </a:moveTo>
                <a:cubicBezTo>
                  <a:pt x="17819" y="13819"/>
                  <a:pt x="18024" y="13767"/>
                  <a:pt x="18231" y="13717"/>
                </a:cubicBezTo>
              </a:path>
              <a:path w="7691" h="944">
                <a:moveTo>
                  <a:pt x="18728" y="13717"/>
                </a:moveTo>
                <a:cubicBezTo>
                  <a:pt x="18859" y="13673"/>
                  <a:pt x="18891" y="13660"/>
                  <a:pt x="18976" y="13643"/>
                </a:cubicBezTo>
              </a:path>
              <a:path w="7691" h="944">
                <a:moveTo>
                  <a:pt x="18976" y="13643"/>
                </a:moveTo>
                <a:lnTo>
                  <a:pt x="18976" y="13643"/>
                </a:lnTo>
              </a:path>
              <a:path w="7691" h="944">
                <a:moveTo>
                  <a:pt x="19869" y="13320"/>
                </a:moveTo>
                <a:cubicBezTo>
                  <a:pt x="19869" y="13348"/>
                  <a:pt x="19871" y="13354"/>
                  <a:pt x="19893" y="13320"/>
                </a:cubicBezTo>
              </a:path>
              <a:path w="7691" h="944">
                <a:moveTo>
                  <a:pt x="19893" y="13320"/>
                </a:moveTo>
                <a:lnTo>
                  <a:pt x="19893" y="13320"/>
                </a:lnTo>
              </a:path>
              <a:path w="7691" h="944">
                <a:moveTo>
                  <a:pt x="21134" y="13618"/>
                </a:moveTo>
                <a:cubicBezTo>
                  <a:pt x="21211" y="13602"/>
                  <a:pt x="21281" y="13572"/>
                  <a:pt x="21357" y="13543"/>
                </a:cubicBezTo>
              </a:path>
              <a:path w="7691" h="944">
                <a:moveTo>
                  <a:pt x="21134" y="13767"/>
                </a:moveTo>
                <a:cubicBezTo>
                  <a:pt x="21267" y="13745"/>
                  <a:pt x="21301" y="13740"/>
                  <a:pt x="21382" y="13717"/>
                </a:cubicBezTo>
              </a:path>
              <a:path w="7691" h="944">
                <a:moveTo>
                  <a:pt x="21927" y="12923"/>
                </a:moveTo>
                <a:cubicBezTo>
                  <a:pt x="21967" y="13077"/>
                  <a:pt x="21997" y="13169"/>
                  <a:pt x="21977" y="13320"/>
                </a:cubicBezTo>
              </a:path>
              <a:path w="7691" h="944">
                <a:moveTo>
                  <a:pt x="22671" y="13543"/>
                </a:moveTo>
                <a:cubicBezTo>
                  <a:pt x="22724" y="13526"/>
                  <a:pt x="22825" y="13460"/>
                  <a:pt x="22845" y="13519"/>
                </a:cubicBezTo>
              </a:path>
              <a:path w="7691" h="944">
                <a:moveTo>
                  <a:pt x="22622" y="13717"/>
                </a:moveTo>
                <a:cubicBezTo>
                  <a:pt x="22765" y="13687"/>
                  <a:pt x="22822" y="13669"/>
                  <a:pt x="22944" y="13593"/>
                </a:cubicBezTo>
              </a:path>
              <a:path w="7691" h="944">
                <a:moveTo>
                  <a:pt x="23515" y="13618"/>
                </a:moveTo>
                <a:cubicBezTo>
                  <a:pt x="23515" y="13626"/>
                  <a:pt x="23515" y="13635"/>
                  <a:pt x="23515" y="13643"/>
                </a:cubicBezTo>
              </a:path>
              <a:path w="7691" h="944">
                <a:moveTo>
                  <a:pt x="23515" y="13643"/>
                </a:moveTo>
                <a:lnTo>
                  <a:pt x="23515" y="13643"/>
                </a:ln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643720" y="4724280"/>
            <a:ext cx="179280" cy="320760"/>
          </a:xfrm>
          <a:custGeom>
            <a:avLst/>
            <a:gdLst/>
            <a:ahLst/>
            <a:rect l="l" t="t" r="r" b="b"/>
            <a:pathLst>
              <a:path w="497" h="894">
                <a:moveTo>
                  <a:pt x="15825" y="13221"/>
                </a:moveTo>
                <a:cubicBezTo>
                  <a:pt x="15825" y="13344"/>
                  <a:pt x="15753" y="13707"/>
                  <a:pt x="15701" y="13915"/>
                </a:cubicBezTo>
                <a:cubicBezTo>
                  <a:pt x="15683" y="13990"/>
                  <a:pt x="15675" y="14049"/>
                  <a:pt x="15677" y="13990"/>
                </a:cubicBezTo>
                <a:cubicBezTo>
                  <a:pt x="15798" y="13715"/>
                  <a:pt x="15798" y="13435"/>
                  <a:pt x="15875" y="13146"/>
                </a:cubicBezTo>
                <a:cubicBezTo>
                  <a:pt x="15883" y="13138"/>
                  <a:pt x="15892" y="13130"/>
                  <a:pt x="15900" y="13122"/>
                </a:cubicBezTo>
                <a:cubicBezTo>
                  <a:pt x="16073" y="13371"/>
                  <a:pt x="16146" y="13609"/>
                  <a:pt x="16173" y="13915"/>
                </a:cubicBezTo>
                <a:cubicBezTo>
                  <a:pt x="16173" y="13940"/>
                  <a:pt x="16173" y="13948"/>
                  <a:pt x="16173" y="1391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59680" y="4626000"/>
            <a:ext cx="1196640" cy="598320"/>
          </a:xfrm>
          <a:custGeom>
            <a:avLst/>
            <a:gdLst/>
            <a:ahLst/>
            <a:rect l="l" t="t" r="r" b="b"/>
            <a:pathLst>
              <a:path w="3325" h="1663">
                <a:moveTo>
                  <a:pt x="17388" y="13122"/>
                </a:moveTo>
                <a:cubicBezTo>
                  <a:pt x="17440" y="13314"/>
                  <a:pt x="17533" y="13557"/>
                  <a:pt x="17487" y="13742"/>
                </a:cubicBezTo>
                <a:cubicBezTo>
                  <a:pt x="17523" y="13527"/>
                  <a:pt x="17562" y="13480"/>
                  <a:pt x="17760" y="13469"/>
                </a:cubicBezTo>
                <a:cubicBezTo>
                  <a:pt x="17760" y="13547"/>
                  <a:pt x="17619" y="13876"/>
                  <a:pt x="17487" y="13667"/>
                </a:cubicBezTo>
                <a:cubicBezTo>
                  <a:pt x="17487" y="13626"/>
                  <a:pt x="17487" y="13584"/>
                  <a:pt x="17487" y="13543"/>
                </a:cubicBezTo>
              </a:path>
              <a:path w="3325" h="1663">
                <a:moveTo>
                  <a:pt x="17959" y="13320"/>
                </a:moveTo>
                <a:cubicBezTo>
                  <a:pt x="18016" y="13453"/>
                  <a:pt x="18020" y="13471"/>
                  <a:pt x="18058" y="13543"/>
                </a:cubicBezTo>
                <a:cubicBezTo>
                  <a:pt x="18058" y="13453"/>
                  <a:pt x="18057" y="13246"/>
                  <a:pt x="18182" y="13419"/>
                </a:cubicBezTo>
                <a:cubicBezTo>
                  <a:pt x="18265" y="13533"/>
                  <a:pt x="18274" y="13603"/>
                  <a:pt x="18231" y="13717"/>
                </a:cubicBezTo>
              </a:path>
              <a:path w="3325" h="1663">
                <a:moveTo>
                  <a:pt x="17760" y="14163"/>
                </a:moveTo>
                <a:cubicBezTo>
                  <a:pt x="17944" y="14142"/>
                  <a:pt x="18170" y="14064"/>
                  <a:pt x="17959" y="14288"/>
                </a:cubicBezTo>
                <a:cubicBezTo>
                  <a:pt x="17863" y="14383"/>
                  <a:pt x="17833" y="14411"/>
                  <a:pt x="17785" y="14486"/>
                </a:cubicBezTo>
                <a:cubicBezTo>
                  <a:pt x="17974" y="14675"/>
                  <a:pt x="18158" y="14231"/>
                  <a:pt x="18207" y="14139"/>
                </a:cubicBezTo>
              </a:path>
              <a:path w="3325" h="1663">
                <a:moveTo>
                  <a:pt x="17859" y="13221"/>
                </a:moveTo>
                <a:cubicBezTo>
                  <a:pt x="17859" y="13186"/>
                  <a:pt x="17838" y="13135"/>
                  <a:pt x="17859" y="13171"/>
                </a:cubicBezTo>
                <a:cubicBezTo>
                  <a:pt x="17962" y="13345"/>
                  <a:pt x="17999" y="13503"/>
                  <a:pt x="18157" y="13593"/>
                </a:cubicBezTo>
              </a:path>
              <a:path w="3325" h="1663">
                <a:moveTo>
                  <a:pt x="18752" y="13494"/>
                </a:moveTo>
                <a:cubicBezTo>
                  <a:pt x="18849" y="13485"/>
                  <a:pt x="18963" y="13408"/>
                  <a:pt x="18926" y="13519"/>
                </a:cubicBezTo>
              </a:path>
              <a:path w="3325" h="1663">
                <a:moveTo>
                  <a:pt x="19472" y="12998"/>
                </a:moveTo>
                <a:cubicBezTo>
                  <a:pt x="19644" y="13063"/>
                  <a:pt x="19858" y="13277"/>
                  <a:pt x="19546" y="13419"/>
                </a:cubicBezTo>
                <a:cubicBezTo>
                  <a:pt x="19428" y="13419"/>
                  <a:pt x="19407" y="13433"/>
                  <a:pt x="19348" y="13395"/>
                </a:cubicBezTo>
                <a:cubicBezTo>
                  <a:pt x="19394" y="13300"/>
                  <a:pt x="19578" y="13335"/>
                  <a:pt x="19670" y="13370"/>
                </a:cubicBezTo>
                <a:cubicBezTo>
                  <a:pt x="19670" y="13378"/>
                  <a:pt x="19670" y="13387"/>
                  <a:pt x="19670" y="13395"/>
                </a:cubicBezTo>
              </a:path>
              <a:path w="3325" h="1663">
                <a:moveTo>
                  <a:pt x="20241" y="12849"/>
                </a:moveTo>
                <a:cubicBezTo>
                  <a:pt x="20181" y="12849"/>
                  <a:pt x="20083" y="12844"/>
                  <a:pt x="20042" y="12874"/>
                </a:cubicBezTo>
                <a:cubicBezTo>
                  <a:pt x="19993" y="12910"/>
                  <a:pt x="20054" y="12987"/>
                  <a:pt x="20042" y="13047"/>
                </a:cubicBezTo>
                <a:cubicBezTo>
                  <a:pt x="20134" y="13037"/>
                  <a:pt x="20316" y="12989"/>
                  <a:pt x="20365" y="13122"/>
                </a:cubicBezTo>
                <a:cubicBezTo>
                  <a:pt x="20438" y="13322"/>
                  <a:pt x="20109" y="13299"/>
                  <a:pt x="20042" y="13271"/>
                </a:cubicBezTo>
              </a:path>
              <a:path w="3325" h="1663">
                <a:moveTo>
                  <a:pt x="19621" y="13866"/>
                </a:moveTo>
                <a:cubicBezTo>
                  <a:pt x="19793" y="13824"/>
                  <a:pt x="20566" y="13516"/>
                  <a:pt x="20712" y="13643"/>
                </a:cubicBezTo>
                <a:cubicBezTo>
                  <a:pt x="20687" y="13659"/>
                  <a:pt x="20663" y="13676"/>
                  <a:pt x="20638" y="13692"/>
                </a:cubicBezTo>
              </a:path>
              <a:path w="3325" h="1663">
                <a:moveTo>
                  <a:pt x="19968" y="14064"/>
                </a:moveTo>
                <a:cubicBezTo>
                  <a:pt x="20111" y="14048"/>
                  <a:pt x="20189" y="14013"/>
                  <a:pt x="20290" y="14089"/>
                </a:cubicBezTo>
                <a:cubicBezTo>
                  <a:pt x="20228" y="14204"/>
                  <a:pt x="20166" y="14284"/>
                  <a:pt x="20042" y="14337"/>
                </a:cubicBezTo>
                <a:cubicBezTo>
                  <a:pt x="20216" y="14348"/>
                  <a:pt x="20355" y="14298"/>
                  <a:pt x="20513" y="1421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920000" y="4510080"/>
            <a:ext cx="1152720" cy="606600"/>
          </a:xfrm>
          <a:custGeom>
            <a:avLst/>
            <a:gdLst/>
            <a:ahLst/>
            <a:rect l="l" t="t" r="r" b="b"/>
            <a:pathLst>
              <a:path w="3201" h="1688">
                <a:moveTo>
                  <a:pt x="22399" y="12799"/>
                </a:moveTo>
                <a:cubicBezTo>
                  <a:pt x="22283" y="12857"/>
                  <a:pt x="22195" y="12867"/>
                  <a:pt x="22200" y="13022"/>
                </a:cubicBezTo>
                <a:cubicBezTo>
                  <a:pt x="22208" y="13047"/>
                  <a:pt x="22217" y="13072"/>
                  <a:pt x="22225" y="13097"/>
                </a:cubicBezTo>
                <a:cubicBezTo>
                  <a:pt x="22315" y="13063"/>
                  <a:pt x="22379" y="13035"/>
                  <a:pt x="22473" y="13022"/>
                </a:cubicBezTo>
                <a:cubicBezTo>
                  <a:pt x="22516" y="13151"/>
                  <a:pt x="22526" y="13377"/>
                  <a:pt x="22299" y="13370"/>
                </a:cubicBezTo>
                <a:cubicBezTo>
                  <a:pt x="22234" y="13326"/>
                  <a:pt x="22215" y="13320"/>
                  <a:pt x="22200" y="13271"/>
                </a:cubicBezTo>
              </a:path>
              <a:path w="3201" h="1688">
                <a:moveTo>
                  <a:pt x="22002" y="13519"/>
                </a:moveTo>
                <a:cubicBezTo>
                  <a:pt x="22223" y="13463"/>
                  <a:pt x="22419" y="13395"/>
                  <a:pt x="22647" y="13395"/>
                </a:cubicBezTo>
              </a:path>
              <a:path w="3201" h="1688">
                <a:moveTo>
                  <a:pt x="22101" y="13767"/>
                </a:moveTo>
                <a:cubicBezTo>
                  <a:pt x="22275" y="13719"/>
                  <a:pt x="22322" y="13733"/>
                  <a:pt x="22423" y="13866"/>
                </a:cubicBezTo>
                <a:cubicBezTo>
                  <a:pt x="22370" y="13946"/>
                  <a:pt x="22236" y="14148"/>
                  <a:pt x="22101" y="14039"/>
                </a:cubicBezTo>
                <a:cubicBezTo>
                  <a:pt x="22109" y="14031"/>
                  <a:pt x="22118" y="14023"/>
                  <a:pt x="22126" y="14015"/>
                </a:cubicBezTo>
                <a:cubicBezTo>
                  <a:pt x="22233" y="13965"/>
                  <a:pt x="22312" y="13942"/>
                  <a:pt x="22423" y="13990"/>
                </a:cubicBezTo>
              </a:path>
              <a:path w="3201" h="1688">
                <a:moveTo>
                  <a:pt x="23019" y="13295"/>
                </a:moveTo>
                <a:cubicBezTo>
                  <a:pt x="23147" y="13262"/>
                  <a:pt x="23259" y="13246"/>
                  <a:pt x="23391" y="13246"/>
                </a:cubicBezTo>
                <a:cubicBezTo>
                  <a:pt x="23421" y="13408"/>
                  <a:pt x="23370" y="13605"/>
                  <a:pt x="23292" y="13767"/>
                </a:cubicBezTo>
                <a:cubicBezTo>
                  <a:pt x="23262" y="13796"/>
                  <a:pt x="23257" y="13798"/>
                  <a:pt x="23292" y="13742"/>
                </a:cubicBezTo>
              </a:path>
              <a:path w="3201" h="1688">
                <a:moveTo>
                  <a:pt x="23837" y="13196"/>
                </a:moveTo>
                <a:cubicBezTo>
                  <a:pt x="23753" y="13247"/>
                  <a:pt x="23758" y="13229"/>
                  <a:pt x="23713" y="13295"/>
                </a:cubicBezTo>
                <a:cubicBezTo>
                  <a:pt x="23762" y="13410"/>
                  <a:pt x="23902" y="13344"/>
                  <a:pt x="23961" y="13494"/>
                </a:cubicBezTo>
                <a:cubicBezTo>
                  <a:pt x="24038" y="13689"/>
                  <a:pt x="23829" y="13713"/>
                  <a:pt x="23713" y="13643"/>
                </a:cubicBezTo>
                <a:cubicBezTo>
                  <a:pt x="23680" y="13618"/>
                  <a:pt x="23647" y="13593"/>
                  <a:pt x="23614" y="13568"/>
                </a:cubicBezTo>
              </a:path>
              <a:path w="3201" h="1688">
                <a:moveTo>
                  <a:pt x="23837" y="13246"/>
                </a:moveTo>
                <a:cubicBezTo>
                  <a:pt x="23919" y="13232"/>
                  <a:pt x="24029" y="13167"/>
                  <a:pt x="24110" y="13171"/>
                </a:cubicBezTo>
                <a:cubicBezTo>
                  <a:pt x="24127" y="13179"/>
                  <a:pt x="24143" y="13188"/>
                  <a:pt x="24160" y="13196"/>
                </a:cubicBezTo>
              </a:path>
              <a:path w="3201" h="1688">
                <a:moveTo>
                  <a:pt x="24209" y="13345"/>
                </a:moveTo>
                <a:cubicBezTo>
                  <a:pt x="24222" y="13422"/>
                  <a:pt x="24234" y="13488"/>
                  <a:pt x="24234" y="13568"/>
                </a:cubicBezTo>
                <a:cubicBezTo>
                  <a:pt x="24234" y="13643"/>
                  <a:pt x="24234" y="13397"/>
                  <a:pt x="24234" y="13395"/>
                </a:cubicBezTo>
                <a:cubicBezTo>
                  <a:pt x="24259" y="13370"/>
                  <a:pt x="24267" y="13362"/>
                  <a:pt x="24284" y="13345"/>
                </a:cubicBezTo>
                <a:cubicBezTo>
                  <a:pt x="24380" y="13433"/>
                  <a:pt x="24414" y="13483"/>
                  <a:pt x="24433" y="13618"/>
                </a:cubicBezTo>
                <a:cubicBezTo>
                  <a:pt x="24411" y="13529"/>
                  <a:pt x="24422" y="13462"/>
                  <a:pt x="24482" y="13370"/>
                </a:cubicBezTo>
                <a:cubicBezTo>
                  <a:pt x="24499" y="13353"/>
                  <a:pt x="24515" y="13337"/>
                  <a:pt x="24532" y="13320"/>
                </a:cubicBezTo>
                <a:cubicBezTo>
                  <a:pt x="24609" y="13367"/>
                  <a:pt x="24700" y="13483"/>
                  <a:pt x="24681" y="13593"/>
                </a:cubicBezTo>
                <a:cubicBezTo>
                  <a:pt x="24658" y="13570"/>
                  <a:pt x="24650" y="13566"/>
                  <a:pt x="24656" y="13543"/>
                </a:cubicBezTo>
              </a:path>
              <a:path w="3201" h="1688">
                <a:moveTo>
                  <a:pt x="24705" y="13022"/>
                </a:moveTo>
                <a:cubicBezTo>
                  <a:pt x="24764" y="13016"/>
                  <a:pt x="24820" y="13004"/>
                  <a:pt x="24879" y="12998"/>
                </a:cubicBezTo>
                <a:cubicBezTo>
                  <a:pt x="24879" y="13078"/>
                  <a:pt x="24729" y="13169"/>
                  <a:pt x="24805" y="13196"/>
                </a:cubicBezTo>
                <a:cubicBezTo>
                  <a:pt x="24884" y="13224"/>
                  <a:pt x="25002" y="13185"/>
                  <a:pt x="25078" y="13171"/>
                </a:cubicBezTo>
              </a:path>
              <a:path w="3201" h="1688">
                <a:moveTo>
                  <a:pt x="24755" y="12576"/>
                </a:moveTo>
                <a:cubicBezTo>
                  <a:pt x="24276" y="12544"/>
                  <a:pt x="23764" y="12484"/>
                  <a:pt x="23341" y="12774"/>
                </a:cubicBezTo>
                <a:cubicBezTo>
                  <a:pt x="23062" y="12965"/>
                  <a:pt x="22604" y="13713"/>
                  <a:pt x="22969" y="14039"/>
                </a:cubicBezTo>
                <a:cubicBezTo>
                  <a:pt x="23374" y="14401"/>
                  <a:pt x="24316" y="14238"/>
                  <a:pt x="24730" y="13990"/>
                </a:cubicBezTo>
                <a:cubicBezTo>
                  <a:pt x="25150" y="13739"/>
                  <a:pt x="25444" y="13101"/>
                  <a:pt x="25028" y="12700"/>
                </a:cubicBezTo>
                <a:cubicBezTo>
                  <a:pt x="24688" y="12517"/>
                  <a:pt x="24562" y="12461"/>
                  <a:pt x="24284" y="12576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57920" y="4964040"/>
            <a:ext cx="115920" cy="179640"/>
          </a:xfrm>
          <a:custGeom>
            <a:avLst/>
            <a:gdLst/>
            <a:ahLst/>
            <a:rect l="l" t="t" r="r" b="b"/>
            <a:pathLst>
              <a:path w="323" h="498">
                <a:moveTo>
                  <a:pt x="16495" y="13965"/>
                </a:moveTo>
                <a:cubicBezTo>
                  <a:pt x="16471" y="14084"/>
                  <a:pt x="16465" y="14120"/>
                  <a:pt x="16421" y="14188"/>
                </a:cubicBezTo>
                <a:cubicBezTo>
                  <a:pt x="16421" y="14053"/>
                  <a:pt x="16467" y="13947"/>
                  <a:pt x="16495" y="13816"/>
                </a:cubicBezTo>
                <a:cubicBezTo>
                  <a:pt x="16495" y="13808"/>
                  <a:pt x="16495" y="13799"/>
                  <a:pt x="16495" y="13791"/>
                </a:cubicBezTo>
                <a:cubicBezTo>
                  <a:pt x="16516" y="13917"/>
                  <a:pt x="16602" y="14085"/>
                  <a:pt x="16594" y="14213"/>
                </a:cubicBezTo>
                <a:cubicBezTo>
                  <a:pt x="16591" y="14260"/>
                  <a:pt x="16283" y="14287"/>
                  <a:pt x="16272" y="14288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83320" y="4660920"/>
            <a:ext cx="106560" cy="108000"/>
          </a:xfrm>
          <a:custGeom>
            <a:avLst/>
            <a:gdLst/>
            <a:ahLst/>
            <a:rect l="l" t="t" r="r" b="b"/>
            <a:pathLst>
              <a:path w="299" h="299">
                <a:moveTo>
                  <a:pt x="20811" y="12948"/>
                </a:moveTo>
                <a:cubicBezTo>
                  <a:pt x="20790" y="13063"/>
                  <a:pt x="20787" y="13132"/>
                  <a:pt x="20811" y="13246"/>
                </a:cubicBezTo>
                <a:cubicBezTo>
                  <a:pt x="20879" y="13242"/>
                  <a:pt x="21153" y="13258"/>
                  <a:pt x="21084" y="13097"/>
                </a:cubicBezTo>
                <a:cubicBezTo>
                  <a:pt x="21057" y="13035"/>
                  <a:pt x="20967" y="13185"/>
                  <a:pt x="21034" y="13196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ing the height of a triang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2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905120" y="2438280"/>
          <a:ext cx="2108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438280"/>
                    <a:ext cx="2108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572000" y="2514600"/>
          <a:ext cx="166356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514600"/>
                    <a:ext cx="16635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3581280" y="3124080"/>
          <a:ext cx="914400" cy="73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3124080"/>
                    <a:ext cx="91440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3505320" y="3962520"/>
          <a:ext cx="121896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3962520"/>
                    <a:ext cx="121896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3581280" y="4876920"/>
          <a:ext cx="1219320" cy="282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81280" y="4876920"/>
                    <a:ext cx="121932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3581280" y="5410080"/>
          <a:ext cx="1219320" cy="273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81280" y="5410080"/>
                    <a:ext cx="1219320" cy="2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3886200" y="5943600"/>
          <a:ext cx="609480" cy="262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5943600"/>
                    <a:ext cx="609480" cy="2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5638680" y="41148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b 36 for A and 8 for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48006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mplif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638680" y="54100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-write as a division prob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38680" y="5867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mplif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 the height of the triang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066680" y="2438280"/>
          <a:ext cx="212112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438280"/>
                    <a:ext cx="21211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3657600" y="2514600"/>
          <a:ext cx="166356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2514600"/>
                    <a:ext cx="16635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228600" y="24382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1.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37339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2.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51055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3.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143000" y="3809880"/>
          <a:ext cx="212076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3809880"/>
                    <a:ext cx="21207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3581280" y="3809880"/>
          <a:ext cx="1676520" cy="4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81280" y="3809880"/>
                    <a:ext cx="16765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143000" y="5105520"/>
          <a:ext cx="2514600" cy="431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43000" y="5105520"/>
                    <a:ext cx="25146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4114800" y="5181480"/>
          <a:ext cx="1790640" cy="355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14800" y="5181480"/>
                    <a:ext cx="17906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7027920" y="3205080"/>
            <a:ext cx="179280" cy="206280"/>
          </a:xfrm>
          <a:custGeom>
            <a:avLst/>
            <a:gdLst/>
            <a:ahLst/>
            <a:rect l="l" t="t" r="r" b="b"/>
            <a:pathLst>
              <a:path w="497" h="571">
                <a:moveTo>
                  <a:pt x="19893" y="8930"/>
                </a:moveTo>
                <a:cubicBezTo>
                  <a:pt x="19777" y="8913"/>
                  <a:pt x="19775" y="8870"/>
                  <a:pt x="19745" y="8954"/>
                </a:cubicBezTo>
                <a:cubicBezTo>
                  <a:pt x="19699" y="9069"/>
                  <a:pt x="19685" y="9100"/>
                  <a:pt x="19670" y="9178"/>
                </a:cubicBezTo>
                <a:cubicBezTo>
                  <a:pt x="19850" y="9133"/>
                  <a:pt x="19866" y="9105"/>
                  <a:pt x="20017" y="9203"/>
                </a:cubicBezTo>
                <a:cubicBezTo>
                  <a:pt x="19955" y="9353"/>
                  <a:pt x="19763" y="9603"/>
                  <a:pt x="19546" y="9451"/>
                </a:cubicBezTo>
                <a:cubicBezTo>
                  <a:pt x="19517" y="9333"/>
                  <a:pt x="19523" y="9288"/>
                  <a:pt x="19645" y="9252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19800" y="3259080"/>
            <a:ext cx="1982880" cy="2857680"/>
          </a:xfrm>
          <a:custGeom>
            <a:avLst/>
            <a:gdLst/>
            <a:ahLst/>
            <a:rect l="l" t="t" r="r" b="b"/>
            <a:pathLst>
              <a:path w="5508" h="7938">
                <a:moveTo>
                  <a:pt x="20241" y="9079"/>
                </a:moveTo>
                <a:cubicBezTo>
                  <a:pt x="20333" y="9064"/>
                  <a:pt x="20407" y="9036"/>
                  <a:pt x="20464" y="9079"/>
                </a:cubicBezTo>
              </a:path>
              <a:path w="5508" h="7938">
                <a:moveTo>
                  <a:pt x="20265" y="9227"/>
                </a:moveTo>
                <a:cubicBezTo>
                  <a:pt x="20423" y="9205"/>
                  <a:pt x="20465" y="9200"/>
                  <a:pt x="20563" y="9178"/>
                </a:cubicBezTo>
              </a:path>
              <a:path w="5508" h="7938">
                <a:moveTo>
                  <a:pt x="16669" y="11212"/>
                </a:moveTo>
                <a:cubicBezTo>
                  <a:pt x="16715" y="11201"/>
                  <a:pt x="16851" y="11147"/>
                  <a:pt x="16743" y="11212"/>
                </a:cubicBezTo>
              </a:path>
              <a:path w="5508" h="7938">
                <a:moveTo>
                  <a:pt x="16570" y="11385"/>
                </a:moveTo>
                <a:cubicBezTo>
                  <a:pt x="16711" y="11338"/>
                  <a:pt x="16753" y="11325"/>
                  <a:pt x="16842" y="11286"/>
                </a:cubicBezTo>
              </a:path>
              <a:path w="5508" h="7938">
                <a:moveTo>
                  <a:pt x="17388" y="10492"/>
                </a:moveTo>
                <a:cubicBezTo>
                  <a:pt x="17420" y="10660"/>
                  <a:pt x="17462" y="10817"/>
                  <a:pt x="17462" y="10988"/>
                </a:cubicBezTo>
                <a:cubicBezTo>
                  <a:pt x="17470" y="10945"/>
                  <a:pt x="17569" y="10636"/>
                  <a:pt x="17636" y="10815"/>
                </a:cubicBezTo>
                <a:cubicBezTo>
                  <a:pt x="17713" y="11021"/>
                  <a:pt x="17356" y="11035"/>
                  <a:pt x="17363" y="10939"/>
                </a:cubicBezTo>
                <a:cubicBezTo>
                  <a:pt x="17388" y="10881"/>
                  <a:pt x="17413" y="10823"/>
                  <a:pt x="17438" y="10765"/>
                </a:cubicBezTo>
              </a:path>
              <a:path w="5508" h="7938">
                <a:moveTo>
                  <a:pt x="17686" y="10567"/>
                </a:moveTo>
                <a:cubicBezTo>
                  <a:pt x="17744" y="10690"/>
                  <a:pt x="17794" y="10810"/>
                  <a:pt x="17835" y="10939"/>
                </a:cubicBezTo>
                <a:cubicBezTo>
                  <a:pt x="17849" y="10840"/>
                  <a:pt x="17890" y="10669"/>
                  <a:pt x="18033" y="10765"/>
                </a:cubicBezTo>
                <a:cubicBezTo>
                  <a:pt x="18101" y="10811"/>
                  <a:pt x="18229" y="10964"/>
                  <a:pt x="18083" y="10964"/>
                </a:cubicBezTo>
              </a:path>
              <a:path w="5508" h="7938">
                <a:moveTo>
                  <a:pt x="17413" y="11187"/>
                </a:moveTo>
                <a:cubicBezTo>
                  <a:pt x="17596" y="11117"/>
                  <a:pt x="18008" y="10877"/>
                  <a:pt x="18207" y="10964"/>
                </a:cubicBezTo>
                <a:cubicBezTo>
                  <a:pt x="18207" y="10980"/>
                  <a:pt x="18207" y="10997"/>
                  <a:pt x="18207" y="11013"/>
                </a:cubicBezTo>
              </a:path>
              <a:path w="5508" h="7938">
                <a:moveTo>
                  <a:pt x="17711" y="11336"/>
                </a:moveTo>
                <a:cubicBezTo>
                  <a:pt x="17836" y="11315"/>
                  <a:pt x="17957" y="11294"/>
                  <a:pt x="18083" y="11286"/>
                </a:cubicBezTo>
                <a:cubicBezTo>
                  <a:pt x="17989" y="11462"/>
                  <a:pt x="17840" y="11565"/>
                  <a:pt x="17686" y="11708"/>
                </a:cubicBezTo>
                <a:cubicBezTo>
                  <a:pt x="17843" y="11727"/>
                  <a:pt x="17956" y="11697"/>
                  <a:pt x="18107" y="11658"/>
                </a:cubicBezTo>
              </a:path>
              <a:path w="5508" h="7938">
                <a:moveTo>
                  <a:pt x="17066" y="12576"/>
                </a:moveTo>
                <a:cubicBezTo>
                  <a:pt x="17242" y="12525"/>
                  <a:pt x="17302" y="12507"/>
                  <a:pt x="17413" y="12452"/>
                </a:cubicBezTo>
              </a:path>
              <a:path w="5508" h="7938">
                <a:moveTo>
                  <a:pt x="17413" y="12452"/>
                </a:moveTo>
                <a:lnTo>
                  <a:pt x="17413" y="12452"/>
                </a:lnTo>
              </a:path>
              <a:path w="5508" h="7938">
                <a:moveTo>
                  <a:pt x="17388" y="14213"/>
                </a:moveTo>
                <a:cubicBezTo>
                  <a:pt x="17505" y="14187"/>
                  <a:pt x="17595" y="14195"/>
                  <a:pt x="17611" y="14114"/>
                </a:cubicBezTo>
              </a:path>
              <a:path w="5508" h="7938">
                <a:moveTo>
                  <a:pt x="18281" y="14412"/>
                </a:moveTo>
                <a:cubicBezTo>
                  <a:pt x="18248" y="14554"/>
                  <a:pt x="18271" y="14704"/>
                  <a:pt x="18479" y="14635"/>
                </a:cubicBezTo>
                <a:cubicBezTo>
                  <a:pt x="18512" y="14610"/>
                  <a:pt x="18546" y="14585"/>
                  <a:pt x="18579" y="14560"/>
                </a:cubicBezTo>
              </a:path>
              <a:path w="5508" h="7938">
                <a:moveTo>
                  <a:pt x="16222" y="14486"/>
                </a:moveTo>
                <a:lnTo>
                  <a:pt x="16222" y="14486"/>
                </a:lnTo>
              </a:path>
              <a:path w="5508" h="7938">
                <a:moveTo>
                  <a:pt x="16222" y="14486"/>
                </a:moveTo>
                <a:lnTo>
                  <a:pt x="16222" y="14486"/>
                </a:lnTo>
              </a:path>
              <a:path w="5508" h="7938">
                <a:moveTo>
                  <a:pt x="16570" y="14784"/>
                </a:moveTo>
                <a:cubicBezTo>
                  <a:pt x="16508" y="14846"/>
                  <a:pt x="16464" y="14979"/>
                  <a:pt x="16619" y="14982"/>
                </a:cubicBezTo>
                <a:cubicBezTo>
                  <a:pt x="16781" y="14959"/>
                  <a:pt x="16831" y="14959"/>
                  <a:pt x="16892" y="14858"/>
                </a:cubicBezTo>
              </a:path>
              <a:path w="5508" h="7938">
                <a:moveTo>
                  <a:pt x="17686" y="15801"/>
                </a:moveTo>
                <a:cubicBezTo>
                  <a:pt x="17912" y="15773"/>
                  <a:pt x="18004" y="15757"/>
                  <a:pt x="18157" y="15701"/>
                </a:cubicBezTo>
              </a:path>
              <a:path w="5508" h="7938">
                <a:moveTo>
                  <a:pt x="15056" y="16942"/>
                </a:moveTo>
                <a:cubicBezTo>
                  <a:pt x="15064" y="16958"/>
                  <a:pt x="15073" y="16975"/>
                  <a:pt x="15081" y="16991"/>
                </a:cubicBezTo>
              </a:path>
              <a:path w="5508" h="7938">
                <a:moveTo>
                  <a:pt x="15553" y="15999"/>
                </a:moveTo>
                <a:cubicBezTo>
                  <a:pt x="15610" y="15961"/>
                  <a:pt x="15664" y="15921"/>
                  <a:pt x="15726" y="15900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822920" y="4340160"/>
            <a:ext cx="2008080" cy="2170080"/>
          </a:xfrm>
          <a:custGeom>
            <a:avLst/>
            <a:gdLst/>
            <a:ahLst/>
            <a:rect l="l" t="t" r="r" b="b"/>
            <a:pathLst>
              <a:path w="5582" h="6029">
                <a:moveTo>
                  <a:pt x="15900" y="12353"/>
                </a:moveTo>
                <a:cubicBezTo>
                  <a:pt x="15978" y="12333"/>
                  <a:pt x="16106" y="12243"/>
                  <a:pt x="16173" y="12353"/>
                </a:cubicBezTo>
                <a:cubicBezTo>
                  <a:pt x="16243" y="12469"/>
                  <a:pt x="16065" y="12550"/>
                  <a:pt x="15999" y="12601"/>
                </a:cubicBezTo>
                <a:cubicBezTo>
                  <a:pt x="16100" y="12533"/>
                  <a:pt x="16271" y="12586"/>
                  <a:pt x="16222" y="12750"/>
                </a:cubicBezTo>
                <a:cubicBezTo>
                  <a:pt x="16156" y="12970"/>
                  <a:pt x="15947" y="12970"/>
                  <a:pt x="15825" y="12849"/>
                </a:cubicBezTo>
              </a:path>
              <a:path w="5582" h="6029">
                <a:moveTo>
                  <a:pt x="16371" y="12402"/>
                </a:moveTo>
                <a:cubicBezTo>
                  <a:pt x="16511" y="12422"/>
                  <a:pt x="16751" y="12517"/>
                  <a:pt x="16644" y="12725"/>
                </a:cubicBezTo>
                <a:cubicBezTo>
                  <a:pt x="16577" y="12856"/>
                  <a:pt x="16430" y="12857"/>
                  <a:pt x="16321" y="12849"/>
                </a:cubicBezTo>
                <a:cubicBezTo>
                  <a:pt x="16433" y="12695"/>
                  <a:pt x="16528" y="12723"/>
                  <a:pt x="16718" y="12750"/>
                </a:cubicBezTo>
                <a:cubicBezTo>
                  <a:pt x="16758" y="12750"/>
                  <a:pt x="16777" y="12739"/>
                  <a:pt x="16793" y="12700"/>
                </a:cubicBezTo>
              </a:path>
              <a:path w="5582" h="6029">
                <a:moveTo>
                  <a:pt x="16966" y="12402"/>
                </a:moveTo>
                <a:cubicBezTo>
                  <a:pt x="17022" y="12392"/>
                  <a:pt x="17395" y="12301"/>
                  <a:pt x="17190" y="12402"/>
                </a:cubicBezTo>
              </a:path>
              <a:path w="5582" h="6029">
                <a:moveTo>
                  <a:pt x="17760" y="12105"/>
                </a:moveTo>
                <a:cubicBezTo>
                  <a:pt x="17627" y="12149"/>
                  <a:pt x="17590" y="12153"/>
                  <a:pt x="17537" y="12229"/>
                </a:cubicBezTo>
                <a:cubicBezTo>
                  <a:pt x="17607" y="12279"/>
                  <a:pt x="17947" y="12443"/>
                  <a:pt x="17810" y="12526"/>
                </a:cubicBezTo>
                <a:cubicBezTo>
                  <a:pt x="17777" y="12534"/>
                  <a:pt x="17744" y="12543"/>
                  <a:pt x="17711" y="12551"/>
                </a:cubicBezTo>
                <a:cubicBezTo>
                  <a:pt x="17641" y="12362"/>
                  <a:pt x="17794" y="12364"/>
                  <a:pt x="17884" y="12204"/>
                </a:cubicBezTo>
                <a:cubicBezTo>
                  <a:pt x="17884" y="12152"/>
                  <a:pt x="17883" y="12134"/>
                  <a:pt x="17859" y="12105"/>
                </a:cubicBezTo>
              </a:path>
              <a:path w="5582" h="6029">
                <a:moveTo>
                  <a:pt x="17959" y="12055"/>
                </a:moveTo>
                <a:cubicBezTo>
                  <a:pt x="18028" y="12211"/>
                  <a:pt x="18083" y="12329"/>
                  <a:pt x="18083" y="12502"/>
                </a:cubicBezTo>
                <a:cubicBezTo>
                  <a:pt x="18097" y="12352"/>
                  <a:pt x="18116" y="12313"/>
                  <a:pt x="18256" y="12278"/>
                </a:cubicBezTo>
                <a:cubicBezTo>
                  <a:pt x="18296" y="12369"/>
                  <a:pt x="18321" y="12428"/>
                  <a:pt x="18331" y="12526"/>
                </a:cubicBezTo>
              </a:path>
              <a:path w="5582" h="6029">
                <a:moveTo>
                  <a:pt x="17587" y="12774"/>
                </a:moveTo>
                <a:cubicBezTo>
                  <a:pt x="17835" y="12732"/>
                  <a:pt x="18082" y="12674"/>
                  <a:pt x="18331" y="12650"/>
                </a:cubicBezTo>
              </a:path>
              <a:path w="5582" h="6029">
                <a:moveTo>
                  <a:pt x="17983" y="12973"/>
                </a:moveTo>
                <a:cubicBezTo>
                  <a:pt x="18094" y="12943"/>
                  <a:pt x="18171" y="12933"/>
                  <a:pt x="18281" y="12948"/>
                </a:cubicBezTo>
                <a:cubicBezTo>
                  <a:pt x="18208" y="13058"/>
                  <a:pt x="18107" y="13131"/>
                  <a:pt x="18008" y="13221"/>
                </a:cubicBezTo>
                <a:cubicBezTo>
                  <a:pt x="18155" y="13221"/>
                  <a:pt x="18252" y="13169"/>
                  <a:pt x="18380" y="13097"/>
                </a:cubicBezTo>
              </a:path>
              <a:path w="5582" h="6029">
                <a:moveTo>
                  <a:pt x="17537" y="12229"/>
                </a:moveTo>
                <a:cubicBezTo>
                  <a:pt x="17771" y="12485"/>
                  <a:pt x="17888" y="12790"/>
                  <a:pt x="18058" y="13097"/>
                </a:cubicBezTo>
                <a:cubicBezTo>
                  <a:pt x="18113" y="13190"/>
                  <a:pt x="18112" y="13205"/>
                  <a:pt x="18157" y="13246"/>
                </a:cubicBezTo>
              </a:path>
              <a:path w="5582" h="6029">
                <a:moveTo>
                  <a:pt x="17959" y="13767"/>
                </a:moveTo>
                <a:cubicBezTo>
                  <a:pt x="17974" y="13857"/>
                  <a:pt x="17965" y="13968"/>
                  <a:pt x="17959" y="14089"/>
                </a:cubicBezTo>
                <a:cubicBezTo>
                  <a:pt x="18153" y="14105"/>
                  <a:pt x="18207" y="14035"/>
                  <a:pt x="18281" y="13866"/>
                </a:cubicBezTo>
              </a:path>
              <a:path w="5582" h="6029">
                <a:moveTo>
                  <a:pt x="18182" y="13692"/>
                </a:moveTo>
                <a:cubicBezTo>
                  <a:pt x="18198" y="13866"/>
                  <a:pt x="18226" y="14036"/>
                  <a:pt x="18231" y="14213"/>
                </a:cubicBezTo>
                <a:cubicBezTo>
                  <a:pt x="18231" y="14230"/>
                  <a:pt x="18231" y="14246"/>
                  <a:pt x="18231" y="14263"/>
                </a:cubicBezTo>
              </a:path>
              <a:path w="5582" h="6029">
                <a:moveTo>
                  <a:pt x="18405" y="13717"/>
                </a:moveTo>
                <a:cubicBezTo>
                  <a:pt x="18466" y="13896"/>
                  <a:pt x="18705" y="14328"/>
                  <a:pt x="18554" y="14213"/>
                </a:cubicBezTo>
                <a:cubicBezTo>
                  <a:pt x="18546" y="14205"/>
                  <a:pt x="18537" y="14196"/>
                  <a:pt x="18529" y="14188"/>
                </a:cubicBezTo>
                <a:cubicBezTo>
                  <a:pt x="18547" y="14007"/>
                  <a:pt x="18530" y="14000"/>
                  <a:pt x="18678" y="13915"/>
                </a:cubicBezTo>
                <a:cubicBezTo>
                  <a:pt x="18757" y="14023"/>
                  <a:pt x="18933" y="14237"/>
                  <a:pt x="18752" y="14263"/>
                </a:cubicBezTo>
              </a:path>
              <a:path w="5582" h="6029">
                <a:moveTo>
                  <a:pt x="17363" y="14089"/>
                </a:moveTo>
                <a:cubicBezTo>
                  <a:pt x="17409" y="14066"/>
                  <a:pt x="17657" y="13897"/>
                  <a:pt x="17537" y="14039"/>
                </a:cubicBezTo>
              </a:path>
              <a:path w="5582" h="6029">
                <a:moveTo>
                  <a:pt x="16321" y="14089"/>
                </a:moveTo>
                <a:cubicBezTo>
                  <a:pt x="16401" y="14058"/>
                  <a:pt x="16600" y="13937"/>
                  <a:pt x="16495" y="14139"/>
                </a:cubicBezTo>
                <a:cubicBezTo>
                  <a:pt x="16454" y="14180"/>
                  <a:pt x="16446" y="14188"/>
                  <a:pt x="16421" y="14213"/>
                </a:cubicBezTo>
                <a:cubicBezTo>
                  <a:pt x="16515" y="14213"/>
                  <a:pt x="16673" y="14183"/>
                  <a:pt x="16619" y="14337"/>
                </a:cubicBezTo>
                <a:cubicBezTo>
                  <a:pt x="16543" y="14553"/>
                  <a:pt x="16359" y="14444"/>
                  <a:pt x="16321" y="14312"/>
                </a:cubicBezTo>
              </a:path>
              <a:path w="5582" h="6029">
                <a:moveTo>
                  <a:pt x="16669" y="13965"/>
                </a:moveTo>
                <a:cubicBezTo>
                  <a:pt x="16863" y="13952"/>
                  <a:pt x="17071" y="14034"/>
                  <a:pt x="16966" y="14288"/>
                </a:cubicBezTo>
                <a:cubicBezTo>
                  <a:pt x="16895" y="14460"/>
                  <a:pt x="16815" y="14401"/>
                  <a:pt x="16743" y="14337"/>
                </a:cubicBezTo>
                <a:cubicBezTo>
                  <a:pt x="16897" y="14088"/>
                  <a:pt x="16901" y="14352"/>
                  <a:pt x="17090" y="14337"/>
                </a:cubicBezTo>
                <a:cubicBezTo>
                  <a:pt x="17090" y="14321"/>
                  <a:pt x="17090" y="14304"/>
                  <a:pt x="17090" y="14288"/>
                </a:cubicBezTo>
              </a:path>
              <a:path w="5582" h="6029">
                <a:moveTo>
                  <a:pt x="18083" y="14362"/>
                </a:moveTo>
                <a:cubicBezTo>
                  <a:pt x="18282" y="14349"/>
                  <a:pt x="18817" y="14240"/>
                  <a:pt x="18976" y="14337"/>
                </a:cubicBezTo>
                <a:cubicBezTo>
                  <a:pt x="18959" y="14345"/>
                  <a:pt x="18943" y="14354"/>
                  <a:pt x="18926" y="14362"/>
                </a:cubicBezTo>
              </a:path>
              <a:path w="5582" h="6029">
                <a:moveTo>
                  <a:pt x="18455" y="14461"/>
                </a:moveTo>
                <a:cubicBezTo>
                  <a:pt x="18405" y="14616"/>
                  <a:pt x="18390" y="15048"/>
                  <a:pt x="18306" y="14908"/>
                </a:cubicBezTo>
                <a:cubicBezTo>
                  <a:pt x="18298" y="14875"/>
                  <a:pt x="18289" y="14841"/>
                  <a:pt x="18281" y="14808"/>
                </a:cubicBezTo>
              </a:path>
              <a:path w="5582" h="6029">
                <a:moveTo>
                  <a:pt x="16297" y="14684"/>
                </a:moveTo>
                <a:cubicBezTo>
                  <a:pt x="16505" y="14629"/>
                  <a:pt x="16748" y="14636"/>
                  <a:pt x="16966" y="14610"/>
                </a:cubicBezTo>
                <a:cubicBezTo>
                  <a:pt x="17024" y="14602"/>
                  <a:pt x="17082" y="14593"/>
                  <a:pt x="17140" y="14585"/>
                </a:cubicBezTo>
              </a:path>
              <a:path w="5582" h="6029">
                <a:moveTo>
                  <a:pt x="16842" y="14759"/>
                </a:moveTo>
                <a:cubicBezTo>
                  <a:pt x="16816" y="14907"/>
                  <a:pt x="16809" y="15075"/>
                  <a:pt x="16743" y="15205"/>
                </a:cubicBezTo>
              </a:path>
              <a:path w="5582" h="6029">
                <a:moveTo>
                  <a:pt x="17239" y="15429"/>
                </a:moveTo>
                <a:cubicBezTo>
                  <a:pt x="16938" y="15557"/>
                  <a:pt x="17018" y="15571"/>
                  <a:pt x="17239" y="15751"/>
                </a:cubicBezTo>
                <a:cubicBezTo>
                  <a:pt x="17264" y="15776"/>
                  <a:pt x="17289" y="15800"/>
                  <a:pt x="17314" y="15825"/>
                </a:cubicBezTo>
                <a:cubicBezTo>
                  <a:pt x="17205" y="15924"/>
                  <a:pt x="17173" y="15917"/>
                  <a:pt x="17016" y="15925"/>
                </a:cubicBezTo>
                <a:cubicBezTo>
                  <a:pt x="17126" y="15753"/>
                  <a:pt x="17639" y="15539"/>
                  <a:pt x="17438" y="15503"/>
                </a:cubicBezTo>
                <a:cubicBezTo>
                  <a:pt x="17405" y="15511"/>
                  <a:pt x="17371" y="15520"/>
                  <a:pt x="17338" y="15528"/>
                </a:cubicBezTo>
              </a:path>
              <a:path w="5582" h="6029">
                <a:moveTo>
                  <a:pt x="17686" y="15627"/>
                </a:moveTo>
                <a:cubicBezTo>
                  <a:pt x="17802" y="15627"/>
                  <a:pt x="17835" y="15627"/>
                  <a:pt x="17909" y="15627"/>
                </a:cubicBezTo>
              </a:path>
              <a:path w="5582" h="6029">
                <a:moveTo>
                  <a:pt x="14238" y="16718"/>
                </a:moveTo>
                <a:cubicBezTo>
                  <a:pt x="14325" y="16697"/>
                  <a:pt x="14412" y="16675"/>
                  <a:pt x="14511" y="16669"/>
                </a:cubicBezTo>
                <a:cubicBezTo>
                  <a:pt x="14548" y="16815"/>
                  <a:pt x="14462" y="16882"/>
                  <a:pt x="14362" y="16991"/>
                </a:cubicBezTo>
                <a:cubicBezTo>
                  <a:pt x="14362" y="16985"/>
                  <a:pt x="14538" y="16867"/>
                  <a:pt x="14560" y="16966"/>
                </a:cubicBezTo>
                <a:cubicBezTo>
                  <a:pt x="14591" y="17106"/>
                  <a:pt x="14404" y="17215"/>
                  <a:pt x="14288" y="17165"/>
                </a:cubicBezTo>
                <a:cubicBezTo>
                  <a:pt x="14256" y="17101"/>
                  <a:pt x="14252" y="17070"/>
                  <a:pt x="14288" y="17016"/>
                </a:cubicBezTo>
              </a:path>
              <a:path w="5582" h="6029">
                <a:moveTo>
                  <a:pt x="14660" y="16619"/>
                </a:moveTo>
                <a:cubicBezTo>
                  <a:pt x="14678" y="16664"/>
                  <a:pt x="14696" y="16860"/>
                  <a:pt x="14759" y="16867"/>
                </a:cubicBezTo>
                <a:cubicBezTo>
                  <a:pt x="14878" y="16880"/>
                  <a:pt x="14890" y="16799"/>
                  <a:pt x="14908" y="16718"/>
                </a:cubicBezTo>
              </a:path>
              <a:path w="5582" h="6029">
                <a:moveTo>
                  <a:pt x="14858" y="16545"/>
                </a:moveTo>
                <a:cubicBezTo>
                  <a:pt x="14823" y="16649"/>
                  <a:pt x="14858" y="16861"/>
                  <a:pt x="14858" y="16991"/>
                </a:cubicBezTo>
                <a:cubicBezTo>
                  <a:pt x="14858" y="17008"/>
                  <a:pt x="14858" y="17024"/>
                  <a:pt x="14858" y="17041"/>
                </a:cubicBezTo>
              </a:path>
              <a:path w="5582" h="6029">
                <a:moveTo>
                  <a:pt x="15404" y="16446"/>
                </a:moveTo>
                <a:cubicBezTo>
                  <a:pt x="15331" y="16481"/>
                  <a:pt x="15300" y="16489"/>
                  <a:pt x="15280" y="16570"/>
                </a:cubicBezTo>
                <a:cubicBezTo>
                  <a:pt x="15280" y="16594"/>
                  <a:pt x="15280" y="16603"/>
                  <a:pt x="15280" y="16619"/>
                </a:cubicBezTo>
                <a:cubicBezTo>
                  <a:pt x="15366" y="16625"/>
                  <a:pt x="15596" y="16620"/>
                  <a:pt x="15577" y="16768"/>
                </a:cubicBezTo>
                <a:cubicBezTo>
                  <a:pt x="15553" y="16952"/>
                  <a:pt x="15380" y="16889"/>
                  <a:pt x="15280" y="16842"/>
                </a:cubicBezTo>
              </a:path>
              <a:path w="5582" h="6029">
                <a:moveTo>
                  <a:pt x="14213" y="17363"/>
                </a:moveTo>
                <a:cubicBezTo>
                  <a:pt x="14147" y="17232"/>
                  <a:pt x="14107" y="17082"/>
                  <a:pt x="14064" y="16942"/>
                </a:cubicBezTo>
                <a:cubicBezTo>
                  <a:pt x="14025" y="16803"/>
                  <a:pt x="14035" y="16771"/>
                  <a:pt x="13965" y="16718"/>
                </a:cubicBezTo>
                <a:cubicBezTo>
                  <a:pt x="14323" y="16630"/>
                  <a:pt x="14668" y="16514"/>
                  <a:pt x="15032" y="16446"/>
                </a:cubicBezTo>
                <a:cubicBezTo>
                  <a:pt x="15175" y="16419"/>
                  <a:pt x="15436" y="16372"/>
                  <a:pt x="15553" y="16396"/>
                </a:cubicBezTo>
              </a:path>
              <a:path w="5582" h="6029">
                <a:moveTo>
                  <a:pt x="13395" y="16818"/>
                </a:moveTo>
                <a:cubicBezTo>
                  <a:pt x="13433" y="16791"/>
                  <a:pt x="13657" y="16641"/>
                  <a:pt x="13692" y="16743"/>
                </a:cubicBezTo>
                <a:cubicBezTo>
                  <a:pt x="13717" y="16814"/>
                  <a:pt x="13575" y="16970"/>
                  <a:pt x="13543" y="17016"/>
                </a:cubicBezTo>
                <a:cubicBezTo>
                  <a:pt x="13535" y="17016"/>
                  <a:pt x="13527" y="17016"/>
                  <a:pt x="13519" y="17016"/>
                </a:cubicBezTo>
                <a:cubicBezTo>
                  <a:pt x="13580" y="16980"/>
                  <a:pt x="13783" y="16908"/>
                  <a:pt x="13767" y="17066"/>
                </a:cubicBezTo>
                <a:cubicBezTo>
                  <a:pt x="13757" y="17160"/>
                  <a:pt x="13499" y="17352"/>
                  <a:pt x="13444" y="17214"/>
                </a:cubicBezTo>
                <a:cubicBezTo>
                  <a:pt x="13444" y="17165"/>
                  <a:pt x="13444" y="17115"/>
                  <a:pt x="13444" y="17066"/>
                </a:cubicBezTo>
              </a:path>
              <a:path w="5582" h="6029">
                <a:moveTo>
                  <a:pt x="14114" y="15999"/>
                </a:moveTo>
                <a:cubicBezTo>
                  <a:pt x="14189" y="16150"/>
                  <a:pt x="14242" y="16328"/>
                  <a:pt x="14288" y="16495"/>
                </a:cubicBezTo>
              </a:path>
              <a:path w="5582" h="6029">
                <a:moveTo>
                  <a:pt x="14560" y="17289"/>
                </a:moveTo>
                <a:cubicBezTo>
                  <a:pt x="14494" y="17383"/>
                  <a:pt x="14456" y="17476"/>
                  <a:pt x="14436" y="17587"/>
                </a:cubicBezTo>
                <a:cubicBezTo>
                  <a:pt x="14551" y="17564"/>
                  <a:pt x="14675" y="17489"/>
                  <a:pt x="14610" y="17338"/>
                </a:cubicBezTo>
                <a:cubicBezTo>
                  <a:pt x="14569" y="17318"/>
                  <a:pt x="14552" y="17321"/>
                  <a:pt x="14560" y="17289"/>
                </a:cubicBezTo>
              </a:path>
              <a:path w="5582" h="6029">
                <a:moveTo>
                  <a:pt x="14560" y="15999"/>
                </a:moveTo>
                <a:cubicBezTo>
                  <a:pt x="14588" y="16138"/>
                  <a:pt x="14619" y="16256"/>
                  <a:pt x="14684" y="16371"/>
                </a:cubicBezTo>
                <a:cubicBezTo>
                  <a:pt x="14692" y="16388"/>
                  <a:pt x="14701" y="16404"/>
                  <a:pt x="14709" y="16421"/>
                </a:cubicBezTo>
              </a:path>
              <a:path w="5582" h="6029">
                <a:moveTo>
                  <a:pt x="14808" y="17338"/>
                </a:moveTo>
                <a:cubicBezTo>
                  <a:pt x="14770" y="17262"/>
                  <a:pt x="14875" y="17256"/>
                  <a:pt x="14932" y="17264"/>
                </a:cubicBezTo>
                <a:cubicBezTo>
                  <a:pt x="14918" y="17328"/>
                  <a:pt x="14902" y="17360"/>
                  <a:pt x="14858" y="17413"/>
                </a:cubicBezTo>
                <a:cubicBezTo>
                  <a:pt x="14892" y="17396"/>
                  <a:pt x="15063" y="17370"/>
                  <a:pt x="14982" y="17487"/>
                </a:cubicBezTo>
                <a:cubicBezTo>
                  <a:pt x="14942" y="17544"/>
                  <a:pt x="14804" y="17583"/>
                  <a:pt x="14784" y="17562"/>
                </a:cubicBezTo>
              </a:path>
              <a:path w="5582" h="6029">
                <a:moveTo>
                  <a:pt x="14362" y="17289"/>
                </a:moveTo>
                <a:cubicBezTo>
                  <a:pt x="14328" y="17255"/>
                  <a:pt x="14491" y="17245"/>
                  <a:pt x="14536" y="17264"/>
                </a:cubicBezTo>
                <a:cubicBezTo>
                  <a:pt x="14597" y="17290"/>
                  <a:pt x="14452" y="17400"/>
                  <a:pt x="14436" y="17413"/>
                </a:cubicBezTo>
                <a:cubicBezTo>
                  <a:pt x="14428" y="17421"/>
                  <a:pt x="14420" y="17430"/>
                  <a:pt x="14412" y="17438"/>
                </a:cubicBezTo>
                <a:cubicBezTo>
                  <a:pt x="14486" y="17392"/>
                  <a:pt x="14548" y="17398"/>
                  <a:pt x="14635" y="17413"/>
                </a:cubicBezTo>
                <a:cubicBezTo>
                  <a:pt x="14580" y="17521"/>
                  <a:pt x="14562" y="17593"/>
                  <a:pt x="14436" y="17611"/>
                </a:cubicBezTo>
                <a:cubicBezTo>
                  <a:pt x="14394" y="17611"/>
                  <a:pt x="14403" y="17605"/>
                  <a:pt x="14486" y="17587"/>
                </a:cubicBezTo>
              </a:path>
              <a:path w="5582" h="6029">
                <a:moveTo>
                  <a:pt x="14288" y="17760"/>
                </a:moveTo>
                <a:cubicBezTo>
                  <a:pt x="14495" y="17726"/>
                  <a:pt x="14727" y="17688"/>
                  <a:pt x="14932" y="17636"/>
                </a:cubicBezTo>
                <a:cubicBezTo>
                  <a:pt x="15030" y="17597"/>
                  <a:pt x="15044" y="17581"/>
                  <a:pt x="15106" y="17587"/>
                </a:cubicBezTo>
              </a:path>
              <a:path w="5582" h="6029">
                <a:moveTo>
                  <a:pt x="14957" y="17835"/>
                </a:moveTo>
                <a:cubicBezTo>
                  <a:pt x="14961" y="17851"/>
                  <a:pt x="15007" y="18169"/>
                  <a:pt x="15007" y="18033"/>
                </a:cubicBezTo>
              </a:path>
              <a:path w="5582" h="6029">
                <a:moveTo>
                  <a:pt x="15032" y="16272"/>
                </a:moveTo>
                <a:cubicBezTo>
                  <a:pt x="15032" y="16297"/>
                  <a:pt x="15032" y="16321"/>
                  <a:pt x="15032" y="16346"/>
                </a:cubicBezTo>
              </a:path>
              <a:path w="5582" h="6029">
                <a:moveTo>
                  <a:pt x="15379" y="17041"/>
                </a:moveTo>
                <a:cubicBezTo>
                  <a:pt x="15424" y="17174"/>
                  <a:pt x="15467" y="17319"/>
                  <a:pt x="15503" y="17462"/>
                </a:cubicBezTo>
                <a:cubicBezTo>
                  <a:pt x="15503" y="17490"/>
                  <a:pt x="15505" y="17501"/>
                  <a:pt x="15528" y="17512"/>
                </a:cubicBezTo>
              </a:path>
              <a:path w="5582" h="6029">
                <a:moveTo>
                  <a:pt x="15627" y="17661"/>
                </a:moveTo>
                <a:cubicBezTo>
                  <a:pt x="15584" y="17677"/>
                  <a:pt x="15483" y="17694"/>
                  <a:pt x="15478" y="17735"/>
                </a:cubicBezTo>
                <a:cubicBezTo>
                  <a:pt x="15472" y="17779"/>
                  <a:pt x="15459" y="17814"/>
                  <a:pt x="15453" y="17859"/>
                </a:cubicBezTo>
                <a:cubicBezTo>
                  <a:pt x="15531" y="17837"/>
                  <a:pt x="15632" y="17750"/>
                  <a:pt x="15677" y="17859"/>
                </a:cubicBezTo>
                <a:cubicBezTo>
                  <a:pt x="15779" y="18103"/>
                  <a:pt x="15509" y="18028"/>
                  <a:pt x="15404" y="17983"/>
                </a:cubicBezTo>
              </a:path>
              <a:path w="5582" h="6029">
                <a:moveTo>
                  <a:pt x="15354" y="15875"/>
                </a:moveTo>
                <a:cubicBezTo>
                  <a:pt x="15336" y="15879"/>
                  <a:pt x="15209" y="15917"/>
                  <a:pt x="15205" y="15925"/>
                </a:cubicBezTo>
                <a:cubicBezTo>
                  <a:pt x="15168" y="16007"/>
                  <a:pt x="15162" y="16050"/>
                  <a:pt x="15180" y="16123"/>
                </a:cubicBezTo>
                <a:cubicBezTo>
                  <a:pt x="15204" y="16147"/>
                  <a:pt x="15224" y="16046"/>
                  <a:pt x="15304" y="16049"/>
                </a:cubicBezTo>
                <a:cubicBezTo>
                  <a:pt x="15469" y="16054"/>
                  <a:pt x="15510" y="16195"/>
                  <a:pt x="15429" y="16321"/>
                </a:cubicBezTo>
                <a:cubicBezTo>
                  <a:pt x="15349" y="16445"/>
                  <a:pt x="15306" y="16413"/>
                  <a:pt x="15205" y="16371"/>
                </a:cubicBezTo>
              </a:path>
              <a:path w="5582" h="6029">
                <a:moveTo>
                  <a:pt x="15503" y="16123"/>
                </a:moveTo>
                <a:cubicBezTo>
                  <a:pt x="15567" y="16102"/>
                  <a:pt x="15531" y="16120"/>
                  <a:pt x="15652" y="16098"/>
                </a:cubicBezTo>
                <a:cubicBezTo>
                  <a:pt x="15730" y="16084"/>
                  <a:pt x="15751" y="16040"/>
                  <a:pt x="15751" y="16123"/>
                </a:cubicBezTo>
              </a:path>
              <a:path w="5582" h="6029">
                <a:moveTo>
                  <a:pt x="15602" y="16123"/>
                </a:moveTo>
                <a:cubicBezTo>
                  <a:pt x="15676" y="16123"/>
                  <a:pt x="15708" y="16085"/>
                  <a:pt x="15776" y="16073"/>
                </a:cubicBezTo>
                <a:cubicBezTo>
                  <a:pt x="15784" y="16073"/>
                  <a:pt x="15793" y="16073"/>
                  <a:pt x="15801" y="16073"/>
                </a:cubicBezTo>
              </a:path>
              <a:path w="5582" h="6029">
                <a:moveTo>
                  <a:pt x="15801" y="15751"/>
                </a:moveTo>
                <a:cubicBezTo>
                  <a:pt x="15868" y="15888"/>
                  <a:pt x="15915" y="16024"/>
                  <a:pt x="15949" y="16173"/>
                </a:cubicBezTo>
                <a:cubicBezTo>
                  <a:pt x="15949" y="16181"/>
                  <a:pt x="15949" y="16189"/>
                  <a:pt x="15949" y="16197"/>
                </a:cubicBezTo>
                <a:cubicBezTo>
                  <a:pt x="15949" y="16130"/>
                  <a:pt x="15937" y="16061"/>
                  <a:pt x="15974" y="15999"/>
                </a:cubicBezTo>
                <a:cubicBezTo>
                  <a:pt x="16078" y="15824"/>
                  <a:pt x="16181" y="16037"/>
                  <a:pt x="16222" y="16123"/>
                </a:cubicBezTo>
                <a:cubicBezTo>
                  <a:pt x="16242" y="16164"/>
                  <a:pt x="16251" y="16191"/>
                  <a:pt x="16247" y="16148"/>
                </a:cubicBezTo>
              </a:path>
              <a:path w="5582" h="6029">
                <a:moveTo>
                  <a:pt x="14585" y="16421"/>
                </a:moveTo>
                <a:cubicBezTo>
                  <a:pt x="14821" y="16367"/>
                  <a:pt x="15061" y="16336"/>
                  <a:pt x="15304" y="16297"/>
                </a:cubicBezTo>
                <a:cubicBezTo>
                  <a:pt x="15655" y="16241"/>
                  <a:pt x="16018" y="16188"/>
                  <a:pt x="16346" y="16049"/>
                </a:cubicBezTo>
                <a:cubicBezTo>
                  <a:pt x="16467" y="15976"/>
                  <a:pt x="16507" y="15954"/>
                  <a:pt x="16520" y="15850"/>
                </a:cubicBezTo>
                <a:cubicBezTo>
                  <a:pt x="16437" y="15628"/>
                  <a:pt x="16285" y="15527"/>
                  <a:pt x="16049" y="15453"/>
                </a:cubicBezTo>
                <a:cubicBezTo>
                  <a:pt x="15685" y="15339"/>
                  <a:pt x="15283" y="15328"/>
                  <a:pt x="14908" y="15379"/>
                </a:cubicBezTo>
                <a:cubicBezTo>
                  <a:pt x="14487" y="15437"/>
                  <a:pt x="13945" y="15566"/>
                  <a:pt x="13667" y="15925"/>
                </a:cubicBezTo>
                <a:cubicBezTo>
                  <a:pt x="13417" y="16249"/>
                  <a:pt x="13643" y="16477"/>
                  <a:pt x="13940" y="16619"/>
                </a:cubicBezTo>
                <a:cubicBezTo>
                  <a:pt x="14387" y="16832"/>
                  <a:pt x="14862" y="16602"/>
                  <a:pt x="15304" y="16470"/>
                </a:cubicBezTo>
                <a:cubicBezTo>
                  <a:pt x="15329" y="16462"/>
                  <a:pt x="15354" y="16454"/>
                  <a:pt x="15379" y="16446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919920" y="3044880"/>
            <a:ext cx="911160" cy="447480"/>
          </a:xfrm>
          <a:custGeom>
            <a:avLst/>
            <a:gdLst/>
            <a:ahLst/>
            <a:rect l="l" t="t" r="r" b="b"/>
            <a:pathLst>
              <a:path w="2531" h="1242">
                <a:moveTo>
                  <a:pt x="20786" y="8806"/>
                </a:moveTo>
                <a:cubicBezTo>
                  <a:pt x="20806" y="8947"/>
                  <a:pt x="20827" y="9085"/>
                  <a:pt x="20836" y="9227"/>
                </a:cubicBezTo>
                <a:cubicBezTo>
                  <a:pt x="20853" y="9112"/>
                  <a:pt x="20873" y="9104"/>
                  <a:pt x="20935" y="9004"/>
                </a:cubicBezTo>
                <a:cubicBezTo>
                  <a:pt x="21016" y="9035"/>
                  <a:pt x="21286" y="9225"/>
                  <a:pt x="21109" y="9351"/>
                </a:cubicBezTo>
                <a:cubicBezTo>
                  <a:pt x="21076" y="9351"/>
                  <a:pt x="21043" y="9351"/>
                  <a:pt x="21010" y="9351"/>
                </a:cubicBezTo>
              </a:path>
              <a:path w="2531" h="1242">
                <a:moveTo>
                  <a:pt x="19224" y="8830"/>
                </a:moveTo>
                <a:cubicBezTo>
                  <a:pt x="19265" y="8999"/>
                  <a:pt x="19289" y="9218"/>
                  <a:pt x="19298" y="9401"/>
                </a:cubicBezTo>
                <a:cubicBezTo>
                  <a:pt x="19298" y="9567"/>
                  <a:pt x="19290" y="9603"/>
                  <a:pt x="19323" y="9699"/>
                </a:cubicBezTo>
                <a:cubicBezTo>
                  <a:pt x="19928" y="9610"/>
                  <a:pt x="20509" y="9437"/>
                  <a:pt x="21134" y="9401"/>
                </a:cubicBezTo>
                <a:cubicBezTo>
                  <a:pt x="21167" y="9399"/>
                  <a:pt x="21667" y="9419"/>
                  <a:pt x="21754" y="9426"/>
                </a:cubicBezTo>
                <a:cubicBezTo>
                  <a:pt x="21693" y="9312"/>
                  <a:pt x="21600" y="9163"/>
                  <a:pt x="21555" y="9029"/>
                </a:cubicBezTo>
                <a:cubicBezTo>
                  <a:pt x="21490" y="8836"/>
                  <a:pt x="21468" y="8657"/>
                  <a:pt x="21456" y="8458"/>
                </a:cubicBezTo>
                <a:cubicBezTo>
                  <a:pt x="20977" y="8542"/>
                  <a:pt x="20492" y="8622"/>
                  <a:pt x="20017" y="8731"/>
                </a:cubicBezTo>
                <a:cubicBezTo>
                  <a:pt x="19766" y="8789"/>
                  <a:pt x="19113" y="8782"/>
                  <a:pt x="19323" y="8930"/>
                </a:cubicBezTo>
                <a:cubicBezTo>
                  <a:pt x="19364" y="8938"/>
                  <a:pt x="19406" y="8946"/>
                  <a:pt x="19447" y="895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616720" y="3929040"/>
            <a:ext cx="152280" cy="330120"/>
          </a:xfrm>
          <a:custGeom>
            <a:avLst/>
            <a:gdLst/>
            <a:ahLst/>
            <a:rect l="l" t="t" r="r" b="b"/>
            <a:pathLst>
              <a:path w="423" h="919">
                <a:moveTo>
                  <a:pt x="15751" y="11137"/>
                </a:moveTo>
                <a:cubicBezTo>
                  <a:pt x="15717" y="11373"/>
                  <a:pt x="15678" y="11581"/>
                  <a:pt x="15602" y="11807"/>
                </a:cubicBezTo>
                <a:cubicBezTo>
                  <a:pt x="15634" y="11744"/>
                  <a:pt x="15739" y="11336"/>
                  <a:pt x="15776" y="11187"/>
                </a:cubicBezTo>
                <a:cubicBezTo>
                  <a:pt x="15813" y="11020"/>
                  <a:pt x="15803" y="10997"/>
                  <a:pt x="15850" y="10914"/>
                </a:cubicBezTo>
                <a:cubicBezTo>
                  <a:pt x="15946" y="11170"/>
                  <a:pt x="16005" y="11412"/>
                  <a:pt x="16024" y="11683"/>
                </a:cubicBezTo>
                <a:cubicBezTo>
                  <a:pt x="16032" y="11794"/>
                  <a:pt x="15968" y="11697"/>
                  <a:pt x="15925" y="11658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96000" y="4133880"/>
            <a:ext cx="142920" cy="179280"/>
          </a:xfrm>
          <a:custGeom>
            <a:avLst/>
            <a:gdLst/>
            <a:ahLst/>
            <a:rect l="l" t="t" r="r" b="b"/>
            <a:pathLst>
              <a:path w="398" h="497">
                <a:moveTo>
                  <a:pt x="16272" y="11559"/>
                </a:moveTo>
                <a:cubicBezTo>
                  <a:pt x="16254" y="11666"/>
                  <a:pt x="16223" y="11773"/>
                  <a:pt x="16197" y="11881"/>
                </a:cubicBezTo>
                <a:cubicBezTo>
                  <a:pt x="16231" y="11746"/>
                  <a:pt x="16266" y="11611"/>
                  <a:pt x="16321" y="11485"/>
                </a:cubicBezTo>
                <a:cubicBezTo>
                  <a:pt x="16353" y="11611"/>
                  <a:pt x="16398" y="11746"/>
                  <a:pt x="16470" y="11857"/>
                </a:cubicBezTo>
                <a:cubicBezTo>
                  <a:pt x="16478" y="11865"/>
                  <a:pt x="16487" y="11873"/>
                  <a:pt x="16495" y="11881"/>
                </a:cubicBezTo>
                <a:cubicBezTo>
                  <a:pt x="16376" y="11898"/>
                  <a:pt x="16218" y="12007"/>
                  <a:pt x="16098" y="11981"/>
                </a:cubicBezTo>
                <a:cubicBezTo>
                  <a:pt x="16098" y="11964"/>
                  <a:pt x="16098" y="11948"/>
                  <a:pt x="16098" y="1193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268280" y="5929200"/>
            <a:ext cx="268560" cy="169920"/>
          </a:xfrm>
          <a:custGeom>
            <a:avLst/>
            <a:gdLst/>
            <a:ahLst/>
            <a:rect l="l" t="t" r="r" b="b"/>
            <a:pathLst>
              <a:path w="745" h="473">
                <a:moveTo>
                  <a:pt x="3522" y="16470"/>
                </a:moveTo>
                <a:cubicBezTo>
                  <a:pt x="3612" y="16493"/>
                  <a:pt x="3667" y="16485"/>
                  <a:pt x="3770" y="16470"/>
                </a:cubicBezTo>
                <a:cubicBezTo>
                  <a:pt x="3795" y="16470"/>
                  <a:pt x="3803" y="16470"/>
                  <a:pt x="3820" y="16470"/>
                </a:cubicBezTo>
              </a:path>
              <a:path w="745" h="473">
                <a:moveTo>
                  <a:pt x="4118" y="16619"/>
                </a:moveTo>
                <a:cubicBezTo>
                  <a:pt x="4060" y="16663"/>
                  <a:pt x="4025" y="16784"/>
                  <a:pt x="3994" y="16867"/>
                </a:cubicBezTo>
                <a:cubicBezTo>
                  <a:pt x="4013" y="16789"/>
                  <a:pt x="4057" y="16673"/>
                  <a:pt x="4093" y="16594"/>
                </a:cubicBezTo>
                <a:cubicBezTo>
                  <a:pt x="4130" y="16513"/>
                  <a:pt x="4252" y="16827"/>
                  <a:pt x="4266" y="16867"/>
                </a:cubicBezTo>
                <a:cubicBezTo>
                  <a:pt x="4243" y="16938"/>
                  <a:pt x="4117" y="16937"/>
                  <a:pt x="4043" y="16942"/>
                </a:cubicBezTo>
                <a:cubicBezTo>
                  <a:pt x="3970" y="16942"/>
                  <a:pt x="3945" y="16943"/>
                  <a:pt x="4018" y="16892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85960" y="5732640"/>
            <a:ext cx="250920" cy="403200"/>
          </a:xfrm>
          <a:custGeom>
            <a:avLst/>
            <a:gdLst/>
            <a:ahLst/>
            <a:rect l="l" t="t" r="r" b="b"/>
            <a:pathLst>
              <a:path w="695" h="1117">
                <a:moveTo>
                  <a:pt x="4961" y="15974"/>
                </a:moveTo>
                <a:cubicBezTo>
                  <a:pt x="5004" y="16104"/>
                  <a:pt x="5065" y="16237"/>
                  <a:pt x="5110" y="16371"/>
                </a:cubicBezTo>
                <a:cubicBezTo>
                  <a:pt x="5110" y="16214"/>
                  <a:pt x="5093" y="16198"/>
                  <a:pt x="5234" y="16173"/>
                </a:cubicBezTo>
                <a:cubicBezTo>
                  <a:pt x="5238" y="16238"/>
                  <a:pt x="5088" y="16569"/>
                  <a:pt x="5035" y="16396"/>
                </a:cubicBezTo>
                <a:cubicBezTo>
                  <a:pt x="5043" y="16355"/>
                  <a:pt x="5052" y="16313"/>
                  <a:pt x="5060" y="16272"/>
                </a:cubicBezTo>
              </a:path>
              <a:path w="695" h="1117">
                <a:moveTo>
                  <a:pt x="5283" y="15925"/>
                </a:moveTo>
                <a:cubicBezTo>
                  <a:pt x="5352" y="16063"/>
                  <a:pt x="5409" y="16216"/>
                  <a:pt x="5482" y="16346"/>
                </a:cubicBezTo>
                <a:cubicBezTo>
                  <a:pt x="5482" y="16250"/>
                  <a:pt x="5489" y="16165"/>
                  <a:pt x="5507" y="16073"/>
                </a:cubicBezTo>
                <a:cubicBezTo>
                  <a:pt x="5624" y="16138"/>
                  <a:pt x="5646" y="16226"/>
                  <a:pt x="5655" y="16371"/>
                </a:cubicBezTo>
                <a:cubicBezTo>
                  <a:pt x="5655" y="16379"/>
                  <a:pt x="5655" y="16388"/>
                  <a:pt x="5655" y="16396"/>
                </a:cubicBezTo>
              </a:path>
              <a:path w="695" h="1117">
                <a:moveTo>
                  <a:pt x="5060" y="16495"/>
                </a:moveTo>
                <a:cubicBezTo>
                  <a:pt x="5245" y="16463"/>
                  <a:pt x="5418" y="16421"/>
                  <a:pt x="5606" y="16421"/>
                </a:cubicBezTo>
              </a:path>
              <a:path w="695" h="1117">
                <a:moveTo>
                  <a:pt x="5159" y="16743"/>
                </a:moveTo>
                <a:cubicBezTo>
                  <a:pt x="5283" y="16714"/>
                  <a:pt x="5358" y="16704"/>
                  <a:pt x="5482" y="16718"/>
                </a:cubicBezTo>
                <a:cubicBezTo>
                  <a:pt x="5436" y="16877"/>
                  <a:pt x="5340" y="16926"/>
                  <a:pt x="5209" y="17016"/>
                </a:cubicBezTo>
                <a:cubicBezTo>
                  <a:pt x="5256" y="17087"/>
                  <a:pt x="5499" y="16960"/>
                  <a:pt x="5581" y="16942"/>
                </a:cubicBezTo>
                <a:cubicBezTo>
                  <a:pt x="5598" y="16942"/>
                  <a:pt x="5614" y="16942"/>
                  <a:pt x="5631" y="16942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366920" y="2473200"/>
            <a:ext cx="5170320" cy="3510000"/>
          </a:xfrm>
          <a:custGeom>
            <a:avLst/>
            <a:gdLst/>
            <a:ahLst/>
            <a:rect l="l" t="t" r="r" b="b"/>
            <a:pathLst>
              <a:path w="14363" h="9749">
                <a:moveTo>
                  <a:pt x="15478" y="6970"/>
                </a:moveTo>
                <a:cubicBezTo>
                  <a:pt x="15644" y="6923"/>
                  <a:pt x="15695" y="6909"/>
                  <a:pt x="15801" y="6871"/>
                </a:cubicBezTo>
              </a:path>
              <a:path w="14363" h="9749">
                <a:moveTo>
                  <a:pt x="16321" y="6995"/>
                </a:moveTo>
                <a:cubicBezTo>
                  <a:pt x="16391" y="6995"/>
                  <a:pt x="16426" y="6986"/>
                  <a:pt x="16470" y="6945"/>
                </a:cubicBezTo>
              </a:path>
              <a:path w="14363" h="9749">
                <a:moveTo>
                  <a:pt x="16991" y="7045"/>
                </a:moveTo>
                <a:cubicBezTo>
                  <a:pt x="17167" y="6993"/>
                  <a:pt x="17237" y="6963"/>
                  <a:pt x="17413" y="6945"/>
                </a:cubicBezTo>
              </a:path>
              <a:path w="14363" h="9749">
                <a:moveTo>
                  <a:pt x="17983" y="7094"/>
                </a:moveTo>
                <a:cubicBezTo>
                  <a:pt x="18041" y="7075"/>
                  <a:pt x="18097" y="7055"/>
                  <a:pt x="18157" y="7045"/>
                </a:cubicBezTo>
              </a:path>
              <a:path w="14363" h="9749">
                <a:moveTo>
                  <a:pt x="15354" y="8062"/>
                </a:moveTo>
                <a:cubicBezTo>
                  <a:pt x="15371" y="8045"/>
                  <a:pt x="15387" y="8029"/>
                  <a:pt x="15404" y="8012"/>
                </a:cubicBezTo>
              </a:path>
              <a:path w="14363" h="9749">
                <a:moveTo>
                  <a:pt x="16867" y="8111"/>
                </a:moveTo>
                <a:lnTo>
                  <a:pt x="16867" y="8111"/>
                </a:lnTo>
              </a:path>
              <a:path w="14363" h="9749">
                <a:moveTo>
                  <a:pt x="16545" y="9203"/>
                </a:moveTo>
                <a:cubicBezTo>
                  <a:pt x="16678" y="9181"/>
                  <a:pt x="16712" y="9176"/>
                  <a:pt x="16793" y="9153"/>
                </a:cubicBezTo>
              </a:path>
              <a:path w="14363" h="9749">
                <a:moveTo>
                  <a:pt x="15627" y="9773"/>
                </a:moveTo>
                <a:cubicBezTo>
                  <a:pt x="15682" y="9664"/>
                  <a:pt x="16014" y="9602"/>
                  <a:pt x="16123" y="9575"/>
                </a:cubicBezTo>
                <a:cubicBezTo>
                  <a:pt x="16231" y="9557"/>
                  <a:pt x="16238" y="9549"/>
                  <a:pt x="16297" y="9550"/>
                </a:cubicBezTo>
              </a:path>
              <a:path w="14363" h="9749">
                <a:moveTo>
                  <a:pt x="16123" y="9699"/>
                </a:moveTo>
                <a:cubicBezTo>
                  <a:pt x="16100" y="9868"/>
                  <a:pt x="16102" y="10033"/>
                  <a:pt x="16049" y="10195"/>
                </a:cubicBezTo>
              </a:path>
              <a:path w="14363" h="9749">
                <a:moveTo>
                  <a:pt x="3795" y="16396"/>
                </a:moveTo>
                <a:cubicBezTo>
                  <a:pt x="3969" y="16272"/>
                  <a:pt x="4027" y="16231"/>
                  <a:pt x="4093" y="16098"/>
                </a:cubicBezTo>
              </a:path>
              <a:path w="14363" h="9749">
                <a:moveTo>
                  <a:pt x="4093" y="16098"/>
                </a:moveTo>
                <a:lnTo>
                  <a:pt x="4093" y="16098"/>
                </a:lnTo>
              </a:path>
              <a:path w="14363" h="9749">
                <a:moveTo>
                  <a:pt x="4465" y="16371"/>
                </a:moveTo>
                <a:cubicBezTo>
                  <a:pt x="4556" y="16337"/>
                  <a:pt x="4623" y="16323"/>
                  <a:pt x="4713" y="16297"/>
                </a:cubicBezTo>
              </a:path>
              <a:path w="14363" h="9749">
                <a:moveTo>
                  <a:pt x="4465" y="16495"/>
                </a:moveTo>
                <a:cubicBezTo>
                  <a:pt x="4632" y="16433"/>
                  <a:pt x="4726" y="16385"/>
                  <a:pt x="4862" y="16272"/>
                </a:cubicBezTo>
              </a:path>
              <a:path w="14363" h="9749">
                <a:moveTo>
                  <a:pt x="9351" y="16619"/>
                </a:moveTo>
                <a:cubicBezTo>
                  <a:pt x="9474" y="16563"/>
                  <a:pt x="9595" y="16532"/>
                  <a:pt x="9723" y="1649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537160" y="2340000"/>
            <a:ext cx="1017720" cy="1276200"/>
          </a:xfrm>
          <a:custGeom>
            <a:avLst/>
            <a:gdLst/>
            <a:ahLst/>
            <a:rect l="l" t="t" r="r" b="b"/>
            <a:pathLst>
              <a:path w="2829" h="3548">
                <a:moveTo>
                  <a:pt x="15528" y="6598"/>
                </a:moveTo>
                <a:cubicBezTo>
                  <a:pt x="15505" y="6756"/>
                  <a:pt x="15416" y="6927"/>
                  <a:pt x="15379" y="7094"/>
                </a:cubicBezTo>
                <a:cubicBezTo>
                  <a:pt x="15379" y="7136"/>
                  <a:pt x="15379" y="7161"/>
                  <a:pt x="15379" y="7119"/>
                </a:cubicBezTo>
                <a:cubicBezTo>
                  <a:pt x="15427" y="6902"/>
                  <a:pt x="15476" y="6667"/>
                  <a:pt x="15602" y="6499"/>
                </a:cubicBezTo>
                <a:cubicBezTo>
                  <a:pt x="15703" y="6687"/>
                  <a:pt x="15735" y="6921"/>
                  <a:pt x="15701" y="7144"/>
                </a:cubicBezTo>
                <a:cubicBezTo>
                  <a:pt x="15693" y="7152"/>
                  <a:pt x="15685" y="7161"/>
                  <a:pt x="15677" y="7169"/>
                </a:cubicBezTo>
              </a:path>
              <a:path w="2829" h="3548">
                <a:moveTo>
                  <a:pt x="15925" y="7094"/>
                </a:moveTo>
                <a:cubicBezTo>
                  <a:pt x="15906" y="7242"/>
                  <a:pt x="15847" y="7384"/>
                  <a:pt x="15776" y="7516"/>
                </a:cubicBezTo>
                <a:cubicBezTo>
                  <a:pt x="15748" y="7544"/>
                  <a:pt x="15739" y="7548"/>
                  <a:pt x="15751" y="7491"/>
                </a:cubicBezTo>
              </a:path>
              <a:path w="2829" h="3548">
                <a:moveTo>
                  <a:pt x="15949" y="7169"/>
                </a:moveTo>
                <a:cubicBezTo>
                  <a:pt x="16020" y="7233"/>
                  <a:pt x="16184" y="7371"/>
                  <a:pt x="16148" y="7491"/>
                </a:cubicBezTo>
                <a:cubicBezTo>
                  <a:pt x="16137" y="7528"/>
                  <a:pt x="15835" y="7563"/>
                  <a:pt x="15825" y="7565"/>
                </a:cubicBezTo>
                <a:cubicBezTo>
                  <a:pt x="15769" y="7565"/>
                  <a:pt x="15758" y="7560"/>
                  <a:pt x="15825" y="7516"/>
                </a:cubicBezTo>
              </a:path>
              <a:path w="2829" h="3548">
                <a:moveTo>
                  <a:pt x="16272" y="7169"/>
                </a:moveTo>
                <a:cubicBezTo>
                  <a:pt x="16400" y="7122"/>
                  <a:pt x="16435" y="7104"/>
                  <a:pt x="16545" y="7020"/>
                </a:cubicBezTo>
              </a:path>
              <a:path w="2829" h="3548">
                <a:moveTo>
                  <a:pt x="16818" y="6524"/>
                </a:moveTo>
                <a:cubicBezTo>
                  <a:pt x="16857" y="6641"/>
                  <a:pt x="16895" y="6757"/>
                  <a:pt x="16942" y="6871"/>
                </a:cubicBezTo>
                <a:cubicBezTo>
                  <a:pt x="16942" y="6804"/>
                  <a:pt x="16963" y="6637"/>
                  <a:pt x="17066" y="6672"/>
                </a:cubicBezTo>
                <a:cubicBezTo>
                  <a:pt x="17191" y="6714"/>
                  <a:pt x="17108" y="6931"/>
                  <a:pt x="16966" y="6896"/>
                </a:cubicBezTo>
                <a:cubicBezTo>
                  <a:pt x="16941" y="6879"/>
                  <a:pt x="16917" y="6863"/>
                  <a:pt x="16892" y="6846"/>
                </a:cubicBezTo>
              </a:path>
              <a:path w="2829" h="3548">
                <a:moveTo>
                  <a:pt x="17140" y="6548"/>
                </a:moveTo>
                <a:cubicBezTo>
                  <a:pt x="17199" y="6640"/>
                  <a:pt x="17243" y="6721"/>
                  <a:pt x="17289" y="6821"/>
                </a:cubicBezTo>
                <a:cubicBezTo>
                  <a:pt x="17289" y="6767"/>
                  <a:pt x="17295" y="6748"/>
                  <a:pt x="17314" y="6697"/>
                </a:cubicBezTo>
                <a:cubicBezTo>
                  <a:pt x="17406" y="6720"/>
                  <a:pt x="17426" y="6750"/>
                  <a:pt x="17438" y="6846"/>
                </a:cubicBezTo>
              </a:path>
              <a:path w="2829" h="3548">
                <a:moveTo>
                  <a:pt x="17090" y="7268"/>
                </a:moveTo>
                <a:cubicBezTo>
                  <a:pt x="17196" y="7225"/>
                  <a:pt x="17218" y="7209"/>
                  <a:pt x="17289" y="7218"/>
                </a:cubicBezTo>
                <a:cubicBezTo>
                  <a:pt x="17232" y="7293"/>
                  <a:pt x="17177" y="7370"/>
                  <a:pt x="17115" y="7441"/>
                </a:cubicBezTo>
                <a:cubicBezTo>
                  <a:pt x="17212" y="7465"/>
                  <a:pt x="17263" y="7433"/>
                  <a:pt x="17363" y="7392"/>
                </a:cubicBezTo>
              </a:path>
              <a:path w="2829" h="3548">
                <a:moveTo>
                  <a:pt x="18008" y="6945"/>
                </a:moveTo>
                <a:cubicBezTo>
                  <a:pt x="18039" y="6943"/>
                  <a:pt x="18249" y="6921"/>
                  <a:pt x="18182" y="6921"/>
                </a:cubicBezTo>
              </a:path>
              <a:path w="2829" h="3548">
                <a:moveTo>
                  <a:pt x="15453" y="8062"/>
                </a:moveTo>
                <a:cubicBezTo>
                  <a:pt x="15590" y="8001"/>
                  <a:pt x="15657" y="7979"/>
                  <a:pt x="15801" y="7987"/>
                </a:cubicBezTo>
                <a:cubicBezTo>
                  <a:pt x="15687" y="8183"/>
                  <a:pt x="15574" y="8288"/>
                  <a:pt x="15404" y="8434"/>
                </a:cubicBezTo>
                <a:cubicBezTo>
                  <a:pt x="15580" y="8383"/>
                  <a:pt x="15742" y="8325"/>
                  <a:pt x="15925" y="8310"/>
                </a:cubicBezTo>
              </a:path>
              <a:path w="2829" h="3548">
                <a:moveTo>
                  <a:pt x="16098" y="8037"/>
                </a:moveTo>
                <a:cubicBezTo>
                  <a:pt x="16009" y="8161"/>
                  <a:pt x="15957" y="8241"/>
                  <a:pt x="15925" y="8384"/>
                </a:cubicBezTo>
                <a:cubicBezTo>
                  <a:pt x="16071" y="8391"/>
                  <a:pt x="16404" y="8394"/>
                  <a:pt x="16272" y="8136"/>
                </a:cubicBezTo>
                <a:cubicBezTo>
                  <a:pt x="16187" y="8051"/>
                  <a:pt x="16174" y="8025"/>
                  <a:pt x="16098" y="8012"/>
                </a:cubicBezTo>
              </a:path>
              <a:path w="2829" h="3548">
                <a:moveTo>
                  <a:pt x="16594" y="8037"/>
                </a:moveTo>
                <a:cubicBezTo>
                  <a:pt x="16683" y="8010"/>
                  <a:pt x="16725" y="7987"/>
                  <a:pt x="16818" y="7987"/>
                </a:cubicBezTo>
              </a:path>
              <a:path w="2829" h="3548">
                <a:moveTo>
                  <a:pt x="16570" y="8186"/>
                </a:moveTo>
                <a:cubicBezTo>
                  <a:pt x="16666" y="8154"/>
                  <a:pt x="16766" y="8134"/>
                  <a:pt x="16867" y="8111"/>
                </a:cubicBezTo>
              </a:path>
              <a:path w="2829" h="3548">
                <a:moveTo>
                  <a:pt x="17239" y="7714"/>
                </a:moveTo>
                <a:cubicBezTo>
                  <a:pt x="17072" y="7817"/>
                  <a:pt x="17105" y="7833"/>
                  <a:pt x="17239" y="7962"/>
                </a:cubicBezTo>
                <a:cubicBezTo>
                  <a:pt x="17264" y="7987"/>
                  <a:pt x="17289" y="8012"/>
                  <a:pt x="17314" y="8037"/>
                </a:cubicBezTo>
                <a:cubicBezTo>
                  <a:pt x="17219" y="8102"/>
                  <a:pt x="17203" y="8103"/>
                  <a:pt x="17090" y="8086"/>
                </a:cubicBezTo>
                <a:cubicBezTo>
                  <a:pt x="17163" y="7958"/>
                  <a:pt x="17289" y="7872"/>
                  <a:pt x="17289" y="7739"/>
                </a:cubicBezTo>
              </a:path>
              <a:path w="2829" h="3548">
                <a:moveTo>
                  <a:pt x="17413" y="7590"/>
                </a:moveTo>
                <a:cubicBezTo>
                  <a:pt x="17436" y="7669"/>
                  <a:pt x="17512" y="7965"/>
                  <a:pt x="17512" y="7962"/>
                </a:cubicBezTo>
                <a:cubicBezTo>
                  <a:pt x="17558" y="7815"/>
                  <a:pt x="17616" y="7777"/>
                  <a:pt x="17735" y="7938"/>
                </a:cubicBezTo>
                <a:cubicBezTo>
                  <a:pt x="17763" y="8020"/>
                  <a:pt x="17763" y="8046"/>
                  <a:pt x="17661" y="8037"/>
                </a:cubicBezTo>
              </a:path>
              <a:path w="2829" h="3548">
                <a:moveTo>
                  <a:pt x="17090" y="8285"/>
                </a:moveTo>
                <a:cubicBezTo>
                  <a:pt x="17267" y="8216"/>
                  <a:pt x="17396" y="8161"/>
                  <a:pt x="17587" y="8161"/>
                </a:cubicBezTo>
              </a:path>
              <a:path w="2829" h="3548">
                <a:moveTo>
                  <a:pt x="17314" y="8334"/>
                </a:moveTo>
                <a:cubicBezTo>
                  <a:pt x="17396" y="8319"/>
                  <a:pt x="17453" y="8310"/>
                  <a:pt x="17537" y="8310"/>
                </a:cubicBezTo>
                <a:cubicBezTo>
                  <a:pt x="17470" y="8396"/>
                  <a:pt x="17387" y="8471"/>
                  <a:pt x="17314" y="8558"/>
                </a:cubicBezTo>
                <a:cubicBezTo>
                  <a:pt x="17388" y="8545"/>
                  <a:pt x="17461" y="8519"/>
                  <a:pt x="17537" y="8508"/>
                </a:cubicBezTo>
              </a:path>
              <a:path w="2829" h="3548">
                <a:moveTo>
                  <a:pt x="17115" y="7714"/>
                </a:moveTo>
                <a:cubicBezTo>
                  <a:pt x="17256" y="7831"/>
                  <a:pt x="17351" y="8116"/>
                  <a:pt x="17462" y="8285"/>
                </a:cubicBezTo>
                <a:cubicBezTo>
                  <a:pt x="17471" y="8299"/>
                  <a:pt x="17577" y="8496"/>
                  <a:pt x="17611" y="8508"/>
                </a:cubicBezTo>
              </a:path>
              <a:path w="2829" h="3548">
                <a:moveTo>
                  <a:pt x="15528" y="9079"/>
                </a:moveTo>
                <a:cubicBezTo>
                  <a:pt x="15661" y="8995"/>
                  <a:pt x="15643" y="9022"/>
                  <a:pt x="15776" y="9054"/>
                </a:cubicBezTo>
                <a:cubicBezTo>
                  <a:pt x="15766" y="9272"/>
                  <a:pt x="15738" y="9343"/>
                  <a:pt x="15503" y="9376"/>
                </a:cubicBezTo>
                <a:cubicBezTo>
                  <a:pt x="15556" y="9180"/>
                  <a:pt x="15697" y="9281"/>
                  <a:pt x="15875" y="9302"/>
                </a:cubicBezTo>
                <a:cubicBezTo>
                  <a:pt x="15932" y="9302"/>
                  <a:pt x="15953" y="9297"/>
                  <a:pt x="15974" y="9252"/>
                </a:cubicBezTo>
              </a:path>
              <a:path w="2829" h="3548">
                <a:moveTo>
                  <a:pt x="16073" y="9004"/>
                </a:moveTo>
                <a:cubicBezTo>
                  <a:pt x="16002" y="9154"/>
                  <a:pt x="15964" y="9183"/>
                  <a:pt x="16024" y="9327"/>
                </a:cubicBezTo>
                <a:cubicBezTo>
                  <a:pt x="16081" y="9317"/>
                  <a:pt x="16482" y="9162"/>
                  <a:pt x="16222" y="9054"/>
                </a:cubicBezTo>
                <a:cubicBezTo>
                  <a:pt x="16159" y="9028"/>
                  <a:pt x="15824" y="9099"/>
                  <a:pt x="16173" y="9029"/>
                </a:cubicBezTo>
              </a:path>
              <a:path w="2829" h="3548">
                <a:moveTo>
                  <a:pt x="16545" y="9079"/>
                </a:moveTo>
                <a:cubicBezTo>
                  <a:pt x="16619" y="9060"/>
                  <a:pt x="16693" y="9040"/>
                  <a:pt x="16768" y="9029"/>
                </a:cubicBezTo>
              </a:path>
              <a:path w="2829" h="3548">
                <a:moveTo>
                  <a:pt x="16991" y="8954"/>
                </a:moveTo>
                <a:cubicBezTo>
                  <a:pt x="16991" y="9045"/>
                  <a:pt x="16991" y="9070"/>
                  <a:pt x="16991" y="9128"/>
                </a:cubicBezTo>
                <a:cubicBezTo>
                  <a:pt x="17105" y="9128"/>
                  <a:pt x="17159" y="9116"/>
                  <a:pt x="17264" y="9079"/>
                </a:cubicBezTo>
              </a:path>
              <a:path w="2829" h="3548">
                <a:moveTo>
                  <a:pt x="17214" y="8830"/>
                </a:moveTo>
                <a:cubicBezTo>
                  <a:pt x="17230" y="8974"/>
                  <a:pt x="17239" y="9107"/>
                  <a:pt x="17239" y="9252"/>
                </a:cubicBezTo>
              </a:path>
              <a:path w="2829" h="3548">
                <a:moveTo>
                  <a:pt x="17413" y="8806"/>
                </a:moveTo>
                <a:cubicBezTo>
                  <a:pt x="17444" y="8930"/>
                  <a:pt x="17497" y="9048"/>
                  <a:pt x="17512" y="9178"/>
                </a:cubicBezTo>
                <a:cubicBezTo>
                  <a:pt x="17512" y="9186"/>
                  <a:pt x="17512" y="9195"/>
                  <a:pt x="17512" y="9203"/>
                </a:cubicBezTo>
                <a:cubicBezTo>
                  <a:pt x="17518" y="9150"/>
                  <a:pt x="17551" y="8953"/>
                  <a:pt x="17661" y="9029"/>
                </a:cubicBezTo>
                <a:cubicBezTo>
                  <a:pt x="17697" y="9054"/>
                  <a:pt x="17809" y="9203"/>
                  <a:pt x="17735" y="9227"/>
                </a:cubicBezTo>
              </a:path>
              <a:path w="2829" h="3548">
                <a:moveTo>
                  <a:pt x="17066" y="9426"/>
                </a:moveTo>
                <a:cubicBezTo>
                  <a:pt x="17297" y="9400"/>
                  <a:pt x="17529" y="9358"/>
                  <a:pt x="17760" y="9327"/>
                </a:cubicBezTo>
                <a:cubicBezTo>
                  <a:pt x="17871" y="9308"/>
                  <a:pt x="17893" y="9273"/>
                  <a:pt x="17934" y="9327"/>
                </a:cubicBezTo>
              </a:path>
              <a:path w="2829" h="3548">
                <a:moveTo>
                  <a:pt x="17338" y="9500"/>
                </a:moveTo>
                <a:cubicBezTo>
                  <a:pt x="17338" y="9568"/>
                  <a:pt x="17283" y="9770"/>
                  <a:pt x="17413" y="9748"/>
                </a:cubicBezTo>
                <a:cubicBezTo>
                  <a:pt x="17534" y="9700"/>
                  <a:pt x="17574" y="9686"/>
                  <a:pt x="17611" y="9599"/>
                </a:cubicBezTo>
              </a:path>
              <a:path w="2829" h="3548">
                <a:moveTo>
                  <a:pt x="17512" y="9451"/>
                </a:moveTo>
                <a:cubicBezTo>
                  <a:pt x="17487" y="9525"/>
                  <a:pt x="17466" y="9778"/>
                  <a:pt x="17413" y="9823"/>
                </a:cubicBezTo>
                <a:cubicBezTo>
                  <a:pt x="17405" y="9815"/>
                  <a:pt x="17396" y="9806"/>
                  <a:pt x="17388" y="9798"/>
                </a:cubicBezTo>
              </a:path>
              <a:path w="2829" h="3548">
                <a:moveTo>
                  <a:pt x="15875" y="9773"/>
                </a:moveTo>
                <a:cubicBezTo>
                  <a:pt x="15875" y="9856"/>
                  <a:pt x="15875" y="9938"/>
                  <a:pt x="15875" y="10021"/>
                </a:cubicBezTo>
                <a:cubicBezTo>
                  <a:pt x="16037" y="10036"/>
                  <a:pt x="16020" y="9998"/>
                  <a:pt x="16123" y="9872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05080" y="4143240"/>
            <a:ext cx="2581200" cy="2286000"/>
          </a:xfrm>
          <a:custGeom>
            <a:avLst/>
            <a:gdLst/>
            <a:ahLst/>
            <a:rect l="l" t="t" r="r" b="b"/>
            <a:pathLst>
              <a:path w="7169" h="6351">
                <a:moveTo>
                  <a:pt x="15627" y="11633"/>
                </a:moveTo>
                <a:cubicBezTo>
                  <a:pt x="15781" y="11600"/>
                  <a:pt x="15925" y="11561"/>
                  <a:pt x="16073" y="11509"/>
                </a:cubicBezTo>
              </a:path>
              <a:path w="7169" h="6351">
                <a:moveTo>
                  <a:pt x="16073" y="11509"/>
                </a:moveTo>
                <a:lnTo>
                  <a:pt x="16073" y="11509"/>
                </a:lnTo>
              </a:path>
              <a:path w="7169" h="6351">
                <a:moveTo>
                  <a:pt x="9599" y="17859"/>
                </a:moveTo>
                <a:cubicBezTo>
                  <a:pt x="9667" y="17842"/>
                  <a:pt x="9733" y="17815"/>
                  <a:pt x="9798" y="17785"/>
                </a:cubicBezTo>
              </a:path>
              <a:path w="7169" h="6351">
                <a:moveTo>
                  <a:pt x="8930" y="17835"/>
                </a:moveTo>
                <a:cubicBezTo>
                  <a:pt x="8922" y="17835"/>
                  <a:pt x="8913" y="17835"/>
                  <a:pt x="8905" y="17835"/>
                </a:cubicBezTo>
              </a:path>
              <a:path w="7169" h="6351">
                <a:moveTo>
                  <a:pt x="8905" y="17835"/>
                </a:moveTo>
                <a:lnTo>
                  <a:pt x="8905" y="17835"/>
                </a:lnTo>
              </a:path>
              <a:path w="7169" h="6351">
                <a:moveTo>
                  <a:pt x="9029" y="17512"/>
                </a:moveTo>
                <a:cubicBezTo>
                  <a:pt x="9096" y="17470"/>
                  <a:pt x="9151" y="17435"/>
                  <a:pt x="9227" y="1741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626160" y="5562720"/>
            <a:ext cx="204840" cy="196560"/>
          </a:xfrm>
          <a:custGeom>
            <a:avLst/>
            <a:gdLst/>
            <a:ahLst/>
            <a:rect l="l" t="t" r="r" b="b"/>
            <a:pathLst>
              <a:path w="572" h="547">
                <a:moveTo>
                  <a:pt x="18405" y="15453"/>
                </a:moveTo>
                <a:cubicBezTo>
                  <a:pt x="18443" y="15621"/>
                  <a:pt x="18475" y="15735"/>
                  <a:pt x="18455" y="15900"/>
                </a:cubicBezTo>
                <a:cubicBezTo>
                  <a:pt x="18514" y="15761"/>
                  <a:pt x="18621" y="15590"/>
                  <a:pt x="18802" y="15677"/>
                </a:cubicBezTo>
                <a:cubicBezTo>
                  <a:pt x="18942" y="15744"/>
                  <a:pt x="18958" y="15872"/>
                  <a:pt x="18976" y="1599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268280" y="5776920"/>
            <a:ext cx="152640" cy="223920"/>
          </a:xfrm>
          <a:custGeom>
            <a:avLst/>
            <a:gdLst/>
            <a:ahLst/>
            <a:rect l="l" t="t" r="r" b="b"/>
            <a:pathLst>
              <a:path w="423" h="621">
                <a:moveTo>
                  <a:pt x="3522" y="16073"/>
                </a:moveTo>
                <a:cubicBezTo>
                  <a:pt x="3549" y="16263"/>
                  <a:pt x="3567" y="16450"/>
                  <a:pt x="3572" y="16644"/>
                </a:cubicBezTo>
                <a:cubicBezTo>
                  <a:pt x="3572" y="16652"/>
                  <a:pt x="3572" y="16661"/>
                  <a:pt x="3572" y="16669"/>
                </a:cubicBezTo>
                <a:cubicBezTo>
                  <a:pt x="3572" y="16439"/>
                  <a:pt x="3571" y="16259"/>
                  <a:pt x="3646" y="16049"/>
                </a:cubicBezTo>
                <a:cubicBezTo>
                  <a:pt x="3716" y="16096"/>
                  <a:pt x="4126" y="16459"/>
                  <a:pt x="3919" y="16594"/>
                </a:cubicBezTo>
                <a:cubicBezTo>
                  <a:pt x="3903" y="16578"/>
                  <a:pt x="3886" y="16561"/>
                  <a:pt x="3870" y="1654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95760" y="5848200"/>
            <a:ext cx="652320" cy="233640"/>
          </a:xfrm>
          <a:custGeom>
            <a:avLst/>
            <a:gdLst/>
            <a:ahLst/>
            <a:rect l="l" t="t" r="r" b="b"/>
            <a:pathLst>
              <a:path w="1812" h="646">
                <a:moveTo>
                  <a:pt x="7913" y="16470"/>
                </a:moveTo>
                <a:cubicBezTo>
                  <a:pt x="7997" y="16386"/>
                  <a:pt x="7992" y="16372"/>
                  <a:pt x="8111" y="16396"/>
                </a:cubicBezTo>
                <a:cubicBezTo>
                  <a:pt x="8067" y="16483"/>
                  <a:pt x="7915" y="16640"/>
                  <a:pt x="7913" y="16644"/>
                </a:cubicBezTo>
                <a:cubicBezTo>
                  <a:pt x="7957" y="16638"/>
                  <a:pt x="8221" y="16634"/>
                  <a:pt x="8111" y="16768"/>
                </a:cubicBezTo>
                <a:cubicBezTo>
                  <a:pt x="8018" y="16882"/>
                  <a:pt x="7883" y="16874"/>
                  <a:pt x="7764" y="16867"/>
                </a:cubicBezTo>
                <a:cubicBezTo>
                  <a:pt x="7795" y="16728"/>
                  <a:pt x="7831" y="16742"/>
                  <a:pt x="7962" y="16644"/>
                </a:cubicBezTo>
              </a:path>
              <a:path w="1812" h="646">
                <a:moveTo>
                  <a:pt x="8210" y="16396"/>
                </a:moveTo>
                <a:cubicBezTo>
                  <a:pt x="8258" y="16476"/>
                  <a:pt x="8169" y="16571"/>
                  <a:pt x="8210" y="16644"/>
                </a:cubicBezTo>
                <a:cubicBezTo>
                  <a:pt x="8259" y="16731"/>
                  <a:pt x="8530" y="16597"/>
                  <a:pt x="8558" y="16545"/>
                </a:cubicBezTo>
                <a:cubicBezTo>
                  <a:pt x="8550" y="16537"/>
                  <a:pt x="8541" y="16528"/>
                  <a:pt x="8533" y="16520"/>
                </a:cubicBezTo>
              </a:path>
              <a:path w="1812" h="646">
                <a:moveTo>
                  <a:pt x="8458" y="16247"/>
                </a:moveTo>
                <a:cubicBezTo>
                  <a:pt x="8458" y="16470"/>
                  <a:pt x="8458" y="17090"/>
                  <a:pt x="8458" y="16867"/>
                </a:cubicBezTo>
              </a:path>
              <a:path w="1812" h="646">
                <a:moveTo>
                  <a:pt x="8706" y="16768"/>
                </a:moveTo>
                <a:cubicBezTo>
                  <a:pt x="8706" y="16793"/>
                  <a:pt x="8706" y="16801"/>
                  <a:pt x="8706" y="16768"/>
                </a:cubicBezTo>
              </a:path>
              <a:path w="1812" h="646">
                <a:moveTo>
                  <a:pt x="9004" y="16247"/>
                </a:moveTo>
                <a:cubicBezTo>
                  <a:pt x="8945" y="16253"/>
                  <a:pt x="8888" y="16264"/>
                  <a:pt x="8830" y="16272"/>
                </a:cubicBezTo>
                <a:cubicBezTo>
                  <a:pt x="8875" y="16301"/>
                  <a:pt x="8855" y="16402"/>
                  <a:pt x="8855" y="16470"/>
                </a:cubicBezTo>
                <a:cubicBezTo>
                  <a:pt x="8855" y="16478"/>
                  <a:pt x="8855" y="16487"/>
                  <a:pt x="8855" y="16495"/>
                </a:cubicBezTo>
                <a:cubicBezTo>
                  <a:pt x="8965" y="16479"/>
                  <a:pt x="9086" y="16440"/>
                  <a:pt x="9153" y="16570"/>
                </a:cubicBezTo>
                <a:cubicBezTo>
                  <a:pt x="9241" y="16739"/>
                  <a:pt x="8923" y="16728"/>
                  <a:pt x="8855" y="16718"/>
                </a:cubicBezTo>
              </a:path>
              <a:path w="1812" h="646">
                <a:moveTo>
                  <a:pt x="9351" y="16421"/>
                </a:moveTo>
                <a:cubicBezTo>
                  <a:pt x="9426" y="16421"/>
                  <a:pt x="9500" y="16421"/>
                  <a:pt x="9575" y="1642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973240" y="5786280"/>
            <a:ext cx="947880" cy="714600"/>
          </a:xfrm>
          <a:custGeom>
            <a:avLst/>
            <a:gdLst/>
            <a:ahLst/>
            <a:rect l="l" t="t" r="r" b="b"/>
            <a:pathLst>
              <a:path w="2630" h="1986">
                <a:moveTo>
                  <a:pt x="10021" y="16148"/>
                </a:moveTo>
                <a:cubicBezTo>
                  <a:pt x="10002" y="16296"/>
                  <a:pt x="9916" y="16442"/>
                  <a:pt x="9947" y="16594"/>
                </a:cubicBezTo>
                <a:cubicBezTo>
                  <a:pt x="9994" y="16826"/>
                  <a:pt x="10223" y="16558"/>
                  <a:pt x="10269" y="16495"/>
                </a:cubicBezTo>
                <a:cubicBezTo>
                  <a:pt x="10269" y="16479"/>
                  <a:pt x="10269" y="16462"/>
                  <a:pt x="10269" y="16446"/>
                </a:cubicBezTo>
                <a:cubicBezTo>
                  <a:pt x="10237" y="16461"/>
                  <a:pt x="10089" y="16625"/>
                  <a:pt x="10120" y="16619"/>
                </a:cubicBezTo>
                <a:cubicBezTo>
                  <a:pt x="10153" y="16603"/>
                  <a:pt x="10187" y="16586"/>
                  <a:pt x="10220" y="16570"/>
                </a:cubicBezTo>
              </a:path>
              <a:path w="2630" h="1986">
                <a:moveTo>
                  <a:pt x="10344" y="16073"/>
                </a:moveTo>
                <a:cubicBezTo>
                  <a:pt x="10368" y="16179"/>
                  <a:pt x="10467" y="16617"/>
                  <a:pt x="10418" y="16545"/>
                </a:cubicBezTo>
                <a:cubicBezTo>
                  <a:pt x="10427" y="16376"/>
                  <a:pt x="10454" y="16199"/>
                  <a:pt x="10691" y="16346"/>
                </a:cubicBezTo>
                <a:cubicBezTo>
                  <a:pt x="10835" y="16435"/>
                  <a:pt x="10792" y="16635"/>
                  <a:pt x="10691" y="16669"/>
                </a:cubicBezTo>
              </a:path>
              <a:path w="2630" h="1986">
                <a:moveTo>
                  <a:pt x="9847" y="16793"/>
                </a:moveTo>
                <a:cubicBezTo>
                  <a:pt x="10137" y="16714"/>
                  <a:pt x="10418" y="16658"/>
                  <a:pt x="10716" y="16619"/>
                </a:cubicBezTo>
                <a:cubicBezTo>
                  <a:pt x="10755" y="16619"/>
                  <a:pt x="10753" y="16630"/>
                  <a:pt x="10691" y="16669"/>
                </a:cubicBezTo>
              </a:path>
              <a:path w="2630" h="1986">
                <a:moveTo>
                  <a:pt x="10195" y="16892"/>
                </a:moveTo>
                <a:cubicBezTo>
                  <a:pt x="10337" y="16832"/>
                  <a:pt x="10428" y="16783"/>
                  <a:pt x="10542" y="16867"/>
                </a:cubicBezTo>
                <a:cubicBezTo>
                  <a:pt x="10472" y="16964"/>
                  <a:pt x="10400" y="17052"/>
                  <a:pt x="10319" y="17140"/>
                </a:cubicBezTo>
                <a:cubicBezTo>
                  <a:pt x="10456" y="17126"/>
                  <a:pt x="10565" y="17074"/>
                  <a:pt x="10691" y="17016"/>
                </a:cubicBezTo>
              </a:path>
              <a:path w="2630" h="1986">
                <a:moveTo>
                  <a:pt x="9847" y="16297"/>
                </a:moveTo>
                <a:cubicBezTo>
                  <a:pt x="9935" y="16275"/>
                  <a:pt x="9929" y="16283"/>
                  <a:pt x="10021" y="16396"/>
                </a:cubicBezTo>
                <a:cubicBezTo>
                  <a:pt x="10177" y="16588"/>
                  <a:pt x="10330" y="16782"/>
                  <a:pt x="10517" y="16942"/>
                </a:cubicBezTo>
              </a:path>
              <a:path w="2630" h="1986">
                <a:moveTo>
                  <a:pt x="10096" y="17537"/>
                </a:moveTo>
                <a:cubicBezTo>
                  <a:pt x="10103" y="17528"/>
                  <a:pt x="10263" y="17414"/>
                  <a:pt x="10294" y="17462"/>
                </a:cubicBezTo>
                <a:cubicBezTo>
                  <a:pt x="10341" y="17535"/>
                  <a:pt x="10233" y="17617"/>
                  <a:pt x="10195" y="17661"/>
                </a:cubicBezTo>
                <a:cubicBezTo>
                  <a:pt x="10244" y="17636"/>
                  <a:pt x="10261" y="17628"/>
                  <a:pt x="10294" y="17661"/>
                </a:cubicBezTo>
                <a:cubicBezTo>
                  <a:pt x="10321" y="17741"/>
                  <a:pt x="10271" y="17849"/>
                  <a:pt x="10170" y="17884"/>
                </a:cubicBezTo>
                <a:cubicBezTo>
                  <a:pt x="10087" y="17913"/>
                  <a:pt x="10138" y="17802"/>
                  <a:pt x="10195" y="17735"/>
                </a:cubicBezTo>
              </a:path>
              <a:path w="2630" h="1986">
                <a:moveTo>
                  <a:pt x="10468" y="17388"/>
                </a:moveTo>
                <a:cubicBezTo>
                  <a:pt x="10554" y="17494"/>
                  <a:pt x="10594" y="17592"/>
                  <a:pt x="10641" y="17711"/>
                </a:cubicBezTo>
                <a:cubicBezTo>
                  <a:pt x="10641" y="17703"/>
                  <a:pt x="10641" y="17694"/>
                  <a:pt x="10641" y="17686"/>
                </a:cubicBezTo>
                <a:cubicBezTo>
                  <a:pt x="10641" y="17582"/>
                  <a:pt x="10615" y="17475"/>
                  <a:pt x="10765" y="17512"/>
                </a:cubicBezTo>
                <a:cubicBezTo>
                  <a:pt x="10931" y="17553"/>
                  <a:pt x="10913" y="17661"/>
                  <a:pt x="10790" y="17711"/>
                </a:cubicBezTo>
              </a:path>
              <a:path w="2630" h="1986">
                <a:moveTo>
                  <a:pt x="9674" y="17661"/>
                </a:moveTo>
                <a:cubicBezTo>
                  <a:pt x="9769" y="17650"/>
                  <a:pt x="9761" y="17624"/>
                  <a:pt x="9798" y="17686"/>
                </a:cubicBezTo>
              </a:path>
              <a:path w="2630" h="1986">
                <a:moveTo>
                  <a:pt x="8384" y="17611"/>
                </a:moveTo>
                <a:cubicBezTo>
                  <a:pt x="8429" y="17567"/>
                  <a:pt x="8439" y="17551"/>
                  <a:pt x="8483" y="17562"/>
                </a:cubicBezTo>
                <a:cubicBezTo>
                  <a:pt x="8534" y="17664"/>
                  <a:pt x="8481" y="17704"/>
                  <a:pt x="8409" y="17785"/>
                </a:cubicBezTo>
                <a:cubicBezTo>
                  <a:pt x="8484" y="17785"/>
                  <a:pt x="8509" y="17812"/>
                  <a:pt x="8483" y="17909"/>
                </a:cubicBezTo>
                <a:cubicBezTo>
                  <a:pt x="8469" y="17960"/>
                  <a:pt x="8266" y="18160"/>
                  <a:pt x="8260" y="18008"/>
                </a:cubicBezTo>
                <a:cubicBezTo>
                  <a:pt x="8268" y="17975"/>
                  <a:pt x="8277" y="17942"/>
                  <a:pt x="8285" y="17909"/>
                </a:cubicBezTo>
              </a:path>
              <a:path w="2630" h="1986">
                <a:moveTo>
                  <a:pt x="8632" y="17587"/>
                </a:moveTo>
                <a:cubicBezTo>
                  <a:pt x="8632" y="17632"/>
                  <a:pt x="8625" y="17715"/>
                  <a:pt x="8682" y="17735"/>
                </a:cubicBezTo>
                <a:cubicBezTo>
                  <a:pt x="8743" y="17757"/>
                  <a:pt x="8808" y="17713"/>
                  <a:pt x="8855" y="17686"/>
                </a:cubicBezTo>
              </a:path>
              <a:path w="2630" h="1986">
                <a:moveTo>
                  <a:pt x="8830" y="17537"/>
                </a:moveTo>
                <a:cubicBezTo>
                  <a:pt x="8830" y="17666"/>
                  <a:pt x="8840" y="17782"/>
                  <a:pt x="8855" y="17909"/>
                </a:cubicBezTo>
                <a:cubicBezTo>
                  <a:pt x="8855" y="17934"/>
                  <a:pt x="8855" y="17942"/>
                  <a:pt x="8855" y="17959"/>
                </a:cubicBezTo>
              </a:path>
              <a:path w="2630" h="1986">
                <a:moveTo>
                  <a:pt x="9004" y="17512"/>
                </a:moveTo>
                <a:cubicBezTo>
                  <a:pt x="9004" y="17600"/>
                  <a:pt x="9106" y="17593"/>
                  <a:pt x="9178" y="17636"/>
                </a:cubicBezTo>
                <a:cubicBezTo>
                  <a:pt x="9203" y="17661"/>
                  <a:pt x="9211" y="17669"/>
                  <a:pt x="9227" y="17686"/>
                </a:cubicBezTo>
                <a:cubicBezTo>
                  <a:pt x="9134" y="17767"/>
                  <a:pt x="9166" y="17761"/>
                  <a:pt x="9054" y="1771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02:26:50Z</dcterms:created>
  <dc:creator>TAMMY  COON</dc:creator>
  <dc:description/>
  <dc:language>en-US</dc:language>
  <cp:lastModifiedBy>demcgra</cp:lastModifiedBy>
  <dcterms:modified xsi:type="dcterms:W3CDTF">2012-02-15T20:22:19Z</dcterms:modified>
  <cp:revision>9</cp:revision>
  <dc:subject/>
  <dc:title>Find the circumference</dc:title>
</cp:coreProperties>
</file>